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B397-B5D4-4803-9B22-9DF7079B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8367-12DD-43DA-BCC7-7E125EF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90F4-CC9D-416C-B55D-1317150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3648-D940-44F4-AB37-1BD1DF11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A3B1-7A59-4D10-B682-32ED535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CD4D-DDA6-4182-AD14-580600EB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2ADF-4698-486A-BB43-AC1EE9E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528D-E22B-444D-BD67-D36E615A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FD9D-B05E-495A-A658-C5559A8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6552-A06D-4AD4-A8FD-C6E260B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D29A-E903-4407-B790-A3514629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0308-F257-4AC5-8AE8-DC266FD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BF96-ACBD-45DA-928B-88FA563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7C51-4CB5-4FEE-9F28-60B18F6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6D1-2DAC-4A11-90D1-C9369C2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E892-DA05-4A98-8E3A-BB25941F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27AE-6D7F-4657-8790-60B2C9EE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C2D2-E6CE-4021-A12F-15A4183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C0F0-D2E4-40BC-9936-952A179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CE5E-A946-45AD-B4B5-C1A6E29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44AA-CA7E-44F7-978D-F19EC93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85B3-9F6A-49D8-9170-AB68A47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B066-A7FD-4E5B-9382-1D5FDB7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87F1-B58B-4240-B9AC-1A7E3AF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3A00-BF8D-498D-84E9-B06F32CEE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160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9584b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4524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36555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65648"/>
                </a:gs>
                <a:gs pos="50000">
                  <a:srgbClr val="4c5b4e"/>
                </a:gs>
                <a:gs pos="100000">
                  <a:srgbClr val="4656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0D48-A592-4538-9E96-8E917B34D1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therfordschools.org/AWDMA/2002_3/Canzano/Mathsite/Pages/unitcircle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udents.discoveryeducation.com/" TargetMode="External"/><Relationship Id="rId2" Type="http://schemas.openxmlformats.org/officeDocument/2006/relationships/hyperlink" Target="http://students.discoveryeducation.com/genericStudentIndex.cfm?cdPasscode=T766F-418E" TargetMode="External"/><Relationship Id="rId3" Type="http://schemas.openxmlformats.org/officeDocument/2006/relationships/hyperlink" Target="http://students.discoveryeducation.com/genericStudentIndex.cfm?cdPasscode=T766F-418E" TargetMode="External"/><Relationship Id="rId4" Type="http://schemas.openxmlformats.org/officeDocument/2006/relationships/hyperlink" Target="http://students.discoveryeducation.com/genericStudentIndex.cfm?cdPasscode=T766F-418E" TargetMode="Externa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Wednesday, September 17th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00880" y="2857680"/>
            <a:ext cx="241200" cy="492120"/>
          </a:xfrm>
          <a:custGeom>
            <a:avLst/>
            <a:gdLst/>
            <a:ahLst/>
            <a:rect l="l" t="t" r="r" b="b"/>
            <a:pathLst>
              <a:path w="671" h="1365">
                <a:moveTo>
                  <a:pt x="18207" y="8533"/>
                </a:moveTo>
                <a:cubicBezTo>
                  <a:pt x="18177" y="8582"/>
                  <a:pt x="18182" y="8634"/>
                  <a:pt x="18157" y="8682"/>
                </a:cubicBezTo>
                <a:cubicBezTo>
                  <a:pt x="18130" y="8736"/>
                  <a:pt x="18127" y="8795"/>
                  <a:pt x="18107" y="8855"/>
                </a:cubicBezTo>
                <a:cubicBezTo>
                  <a:pt x="18087" y="8916"/>
                  <a:pt x="18044" y="9041"/>
                  <a:pt x="18058" y="9103"/>
                </a:cubicBezTo>
                <a:cubicBezTo>
                  <a:pt x="18072" y="9166"/>
                  <a:pt x="18087" y="9207"/>
                  <a:pt x="18132" y="9252"/>
                </a:cubicBezTo>
                <a:cubicBezTo>
                  <a:pt x="18187" y="9307"/>
                  <a:pt x="18233" y="9302"/>
                  <a:pt x="18306" y="9302"/>
                </a:cubicBezTo>
                <a:cubicBezTo>
                  <a:pt x="18372" y="9302"/>
                  <a:pt x="18385" y="9271"/>
                  <a:pt x="18430" y="9227"/>
                </a:cubicBezTo>
                <a:cubicBezTo>
                  <a:pt x="18487" y="9172"/>
                  <a:pt x="18499" y="9139"/>
                  <a:pt x="18529" y="9079"/>
                </a:cubicBezTo>
                <a:cubicBezTo>
                  <a:pt x="18554" y="9029"/>
                  <a:pt x="18576" y="8989"/>
                  <a:pt x="18579" y="8930"/>
                </a:cubicBezTo>
                <a:cubicBezTo>
                  <a:pt x="18584" y="8847"/>
                  <a:pt x="18568" y="8774"/>
                  <a:pt x="18554" y="8706"/>
                </a:cubicBezTo>
                <a:cubicBezTo>
                  <a:pt x="18541" y="8641"/>
                  <a:pt x="18528" y="8631"/>
                  <a:pt x="18479" y="8582"/>
                </a:cubicBezTo>
                <a:cubicBezTo>
                  <a:pt x="18464" y="8567"/>
                  <a:pt x="18399" y="8513"/>
                  <a:pt x="18380" y="8508"/>
                </a:cubicBezTo>
                <a:cubicBezTo>
                  <a:pt x="18304" y="8486"/>
                  <a:pt x="18285" y="8495"/>
                  <a:pt x="18207" y="8508"/>
                </a:cubicBezTo>
                <a:cubicBezTo>
                  <a:pt x="18148" y="8518"/>
                  <a:pt x="18146" y="8501"/>
                  <a:pt x="18132" y="8558"/>
                </a:cubicBezTo>
              </a:path>
              <a:path w="671" h="1365">
                <a:moveTo>
                  <a:pt x="18554" y="8037"/>
                </a:moveTo>
                <a:cubicBezTo>
                  <a:pt x="18536" y="8067"/>
                  <a:pt x="18489" y="8128"/>
                  <a:pt x="18479" y="8161"/>
                </a:cubicBezTo>
                <a:cubicBezTo>
                  <a:pt x="18463" y="8215"/>
                  <a:pt x="18500" y="8248"/>
                  <a:pt x="18529" y="8285"/>
                </a:cubicBezTo>
                <a:cubicBezTo>
                  <a:pt x="18572" y="8251"/>
                  <a:pt x="18614" y="8225"/>
                  <a:pt x="18653" y="8186"/>
                </a:cubicBezTo>
                <a:cubicBezTo>
                  <a:pt x="18699" y="8141"/>
                  <a:pt x="18724" y="8127"/>
                  <a:pt x="18728" y="8062"/>
                </a:cubicBezTo>
                <a:cubicBezTo>
                  <a:pt x="18730" y="8022"/>
                  <a:pt x="18701" y="7951"/>
                  <a:pt x="18653" y="7938"/>
                </a:cubicBezTo>
                <a:cubicBezTo>
                  <a:pt x="18599" y="7923"/>
                  <a:pt x="18551" y="7945"/>
                  <a:pt x="18504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518160" y="4037040"/>
            <a:ext cx="438120" cy="500040"/>
          </a:xfrm>
          <a:custGeom>
            <a:avLst/>
            <a:gdLst/>
            <a:ahLst/>
            <a:rect l="l" t="t" r="r" b="b"/>
            <a:pathLst>
              <a:path w="1217" h="1390">
                <a:moveTo>
                  <a:pt x="18207" y="11361"/>
                </a:moveTo>
                <a:cubicBezTo>
                  <a:pt x="18207" y="11443"/>
                  <a:pt x="18186" y="11503"/>
                  <a:pt x="18182" y="11584"/>
                </a:cubicBezTo>
                <a:cubicBezTo>
                  <a:pt x="18179" y="11655"/>
                  <a:pt x="18141" y="11725"/>
                  <a:pt x="18132" y="11782"/>
                </a:cubicBezTo>
                <a:cubicBezTo>
                  <a:pt x="18121" y="11852"/>
                  <a:pt x="18121" y="11852"/>
                  <a:pt x="18107" y="11906"/>
                </a:cubicBezTo>
              </a:path>
              <a:path w="1217" h="1390">
                <a:moveTo>
                  <a:pt x="18380" y="11237"/>
                </a:moveTo>
                <a:cubicBezTo>
                  <a:pt x="18380" y="11353"/>
                  <a:pt x="18371" y="11448"/>
                  <a:pt x="18355" y="11559"/>
                </a:cubicBezTo>
                <a:cubicBezTo>
                  <a:pt x="18344" y="11634"/>
                  <a:pt x="18369" y="11690"/>
                  <a:pt x="18380" y="11757"/>
                </a:cubicBezTo>
                <a:cubicBezTo>
                  <a:pt x="18381" y="11766"/>
                  <a:pt x="18382" y="11972"/>
                  <a:pt x="18405" y="11956"/>
                </a:cubicBezTo>
                <a:cubicBezTo>
                  <a:pt x="18405" y="11911"/>
                  <a:pt x="18402" y="11898"/>
                  <a:pt x="18430" y="11881"/>
                </a:cubicBezTo>
              </a:path>
              <a:path w="1217" h="1390">
                <a:moveTo>
                  <a:pt x="18728" y="11286"/>
                </a:moveTo>
                <a:cubicBezTo>
                  <a:pt x="18860" y="11269"/>
                  <a:pt x="18969" y="11261"/>
                  <a:pt x="19100" y="11261"/>
                </a:cubicBezTo>
                <a:cubicBezTo>
                  <a:pt x="19170" y="11261"/>
                  <a:pt x="19215" y="11265"/>
                  <a:pt x="19273" y="11237"/>
                </a:cubicBezTo>
              </a:path>
              <a:path w="1217" h="1390">
                <a:moveTo>
                  <a:pt x="18827" y="11261"/>
                </a:moveTo>
                <a:cubicBezTo>
                  <a:pt x="18814" y="11384"/>
                  <a:pt x="18784" y="11514"/>
                  <a:pt x="18777" y="11633"/>
                </a:cubicBezTo>
                <a:cubicBezTo>
                  <a:pt x="18775" y="11674"/>
                  <a:pt x="18777" y="11716"/>
                  <a:pt x="18777" y="11757"/>
                </a:cubicBezTo>
              </a:path>
              <a:path w="1217" h="1390">
                <a:moveTo>
                  <a:pt x="18951" y="11212"/>
                </a:moveTo>
                <a:cubicBezTo>
                  <a:pt x="18951" y="11302"/>
                  <a:pt x="18972" y="11373"/>
                  <a:pt x="18976" y="11460"/>
                </a:cubicBezTo>
                <a:cubicBezTo>
                  <a:pt x="18979" y="11532"/>
                  <a:pt x="18989" y="11598"/>
                  <a:pt x="19000" y="11658"/>
                </a:cubicBezTo>
                <a:cubicBezTo>
                  <a:pt x="19009" y="11707"/>
                  <a:pt x="19017" y="11758"/>
                  <a:pt x="19025" y="11807"/>
                </a:cubicBezTo>
              </a:path>
              <a:path w="1217" h="1390">
                <a:moveTo>
                  <a:pt x="18107" y="11981"/>
                </a:moveTo>
                <a:cubicBezTo>
                  <a:pt x="18219" y="12002"/>
                  <a:pt x="18316" y="12005"/>
                  <a:pt x="18430" y="12005"/>
                </a:cubicBezTo>
                <a:cubicBezTo>
                  <a:pt x="18545" y="12005"/>
                  <a:pt x="18667" y="11988"/>
                  <a:pt x="18777" y="11956"/>
                </a:cubicBezTo>
                <a:cubicBezTo>
                  <a:pt x="18852" y="11934"/>
                  <a:pt x="18958" y="11911"/>
                  <a:pt x="19025" y="11881"/>
                </a:cubicBezTo>
                <a:cubicBezTo>
                  <a:pt x="19050" y="11857"/>
                  <a:pt x="19059" y="11849"/>
                  <a:pt x="19075" y="11832"/>
                </a:cubicBezTo>
              </a:path>
              <a:path w="1217" h="1390">
                <a:moveTo>
                  <a:pt x="18802" y="12179"/>
                </a:moveTo>
                <a:cubicBezTo>
                  <a:pt x="18762" y="12297"/>
                  <a:pt x="18715" y="12371"/>
                  <a:pt x="18802" y="12477"/>
                </a:cubicBezTo>
                <a:cubicBezTo>
                  <a:pt x="18845" y="12529"/>
                  <a:pt x="18885" y="12547"/>
                  <a:pt x="18951" y="12551"/>
                </a:cubicBezTo>
                <a:cubicBezTo>
                  <a:pt x="19030" y="12555"/>
                  <a:pt x="19102" y="12556"/>
                  <a:pt x="19174" y="12526"/>
                </a:cubicBezTo>
                <a:cubicBezTo>
                  <a:pt x="19212" y="12510"/>
                  <a:pt x="19309" y="12475"/>
                  <a:pt x="19323" y="12427"/>
                </a:cubicBezTo>
                <a:cubicBezTo>
                  <a:pt x="19355" y="12315"/>
                  <a:pt x="19322" y="12285"/>
                  <a:pt x="19224" y="12278"/>
                </a:cubicBezTo>
                <a:cubicBezTo>
                  <a:pt x="19139" y="12272"/>
                  <a:pt x="19097" y="12317"/>
                  <a:pt x="19075" y="12402"/>
                </a:cubicBezTo>
                <a:cubicBezTo>
                  <a:pt x="19057" y="12469"/>
                  <a:pt x="19092" y="12538"/>
                  <a:pt x="19100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27080" y="2938320"/>
            <a:ext cx="411120" cy="303480"/>
          </a:xfrm>
          <a:custGeom>
            <a:avLst/>
            <a:gdLst/>
            <a:ahLst/>
            <a:rect l="l" t="t" r="r" b="b"/>
            <a:pathLst>
              <a:path w="1142" h="844">
                <a:moveTo>
                  <a:pt x="2853" y="8334"/>
                </a:moveTo>
                <a:cubicBezTo>
                  <a:pt x="2853" y="8511"/>
                  <a:pt x="2851" y="8686"/>
                  <a:pt x="2877" y="8855"/>
                </a:cubicBezTo>
                <a:cubicBezTo>
                  <a:pt x="2887" y="8921"/>
                  <a:pt x="2899" y="8995"/>
                  <a:pt x="2853" y="8979"/>
                </a:cubicBezTo>
              </a:path>
              <a:path w="1142" h="844">
                <a:moveTo>
                  <a:pt x="3373" y="8359"/>
                </a:moveTo>
                <a:cubicBezTo>
                  <a:pt x="3335" y="8313"/>
                  <a:pt x="3275" y="8282"/>
                  <a:pt x="3200" y="8310"/>
                </a:cubicBezTo>
                <a:cubicBezTo>
                  <a:pt x="3150" y="8329"/>
                  <a:pt x="3117" y="8343"/>
                  <a:pt x="3076" y="8384"/>
                </a:cubicBezTo>
                <a:cubicBezTo>
                  <a:pt x="3044" y="8416"/>
                  <a:pt x="2985" y="8484"/>
                  <a:pt x="3001" y="8533"/>
                </a:cubicBezTo>
                <a:cubicBezTo>
                  <a:pt x="3017" y="8580"/>
                  <a:pt x="3093" y="8630"/>
                  <a:pt x="3125" y="8657"/>
                </a:cubicBezTo>
                <a:cubicBezTo>
                  <a:pt x="3170" y="8695"/>
                  <a:pt x="3191" y="8735"/>
                  <a:pt x="3225" y="8781"/>
                </a:cubicBezTo>
                <a:cubicBezTo>
                  <a:pt x="3262" y="8832"/>
                  <a:pt x="3260" y="8897"/>
                  <a:pt x="3225" y="8954"/>
                </a:cubicBezTo>
                <a:cubicBezTo>
                  <a:pt x="3187" y="9016"/>
                  <a:pt x="3134" y="9015"/>
                  <a:pt x="3076" y="8979"/>
                </a:cubicBezTo>
                <a:cubicBezTo>
                  <a:pt x="3025" y="8947"/>
                  <a:pt x="3047" y="8865"/>
                  <a:pt x="3076" y="8830"/>
                </a:cubicBezTo>
                <a:cubicBezTo>
                  <a:pt x="3110" y="8789"/>
                  <a:pt x="3147" y="8752"/>
                  <a:pt x="3175" y="8706"/>
                </a:cubicBezTo>
                <a:cubicBezTo>
                  <a:pt x="3212" y="8645"/>
                  <a:pt x="3256" y="8589"/>
                  <a:pt x="3299" y="8533"/>
                </a:cubicBezTo>
                <a:cubicBezTo>
                  <a:pt x="3329" y="8503"/>
                  <a:pt x="3340" y="8489"/>
                  <a:pt x="3349" y="8458"/>
                </a:cubicBezTo>
              </a:path>
              <a:path w="1142" h="844">
                <a:moveTo>
                  <a:pt x="3547" y="8334"/>
                </a:moveTo>
                <a:cubicBezTo>
                  <a:pt x="3509" y="8404"/>
                  <a:pt x="3464" y="8478"/>
                  <a:pt x="3448" y="8558"/>
                </a:cubicBezTo>
                <a:cubicBezTo>
                  <a:pt x="3437" y="8614"/>
                  <a:pt x="3409" y="8668"/>
                  <a:pt x="3423" y="8731"/>
                </a:cubicBezTo>
                <a:cubicBezTo>
                  <a:pt x="3436" y="8792"/>
                  <a:pt x="3449" y="8906"/>
                  <a:pt x="3522" y="8930"/>
                </a:cubicBezTo>
                <a:cubicBezTo>
                  <a:pt x="3586" y="8951"/>
                  <a:pt x="3657" y="8889"/>
                  <a:pt x="3671" y="8830"/>
                </a:cubicBezTo>
                <a:cubicBezTo>
                  <a:pt x="3691" y="8745"/>
                  <a:pt x="3658" y="8659"/>
                  <a:pt x="3646" y="8582"/>
                </a:cubicBezTo>
                <a:cubicBezTo>
                  <a:pt x="3634" y="8509"/>
                  <a:pt x="3599" y="8519"/>
                  <a:pt x="3572" y="8458"/>
                </a:cubicBezTo>
                <a:cubicBezTo>
                  <a:pt x="3572" y="8450"/>
                  <a:pt x="3572" y="8442"/>
                  <a:pt x="3572" y="8434"/>
                </a:cubicBezTo>
              </a:path>
              <a:path w="1142" h="844">
                <a:moveTo>
                  <a:pt x="3845" y="8186"/>
                </a:moveTo>
                <a:cubicBezTo>
                  <a:pt x="3822" y="8223"/>
                  <a:pt x="3779" y="8309"/>
                  <a:pt x="3795" y="8359"/>
                </a:cubicBezTo>
                <a:cubicBezTo>
                  <a:pt x="3813" y="8416"/>
                  <a:pt x="3882" y="8403"/>
                  <a:pt x="3919" y="8384"/>
                </a:cubicBezTo>
                <a:cubicBezTo>
                  <a:pt x="3976" y="8355"/>
                  <a:pt x="3991" y="8290"/>
                  <a:pt x="3994" y="8235"/>
                </a:cubicBezTo>
                <a:cubicBezTo>
                  <a:pt x="3998" y="8159"/>
                  <a:pt x="3982" y="8170"/>
                  <a:pt x="3919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680160" y="2884320"/>
            <a:ext cx="758880" cy="517680"/>
          </a:xfrm>
          <a:custGeom>
            <a:avLst/>
            <a:gdLst/>
            <a:ahLst/>
            <a:rect l="l" t="t" r="r" b="b"/>
            <a:pathLst>
              <a:path w="2109" h="1440">
                <a:moveTo>
                  <a:pt x="18678" y="9128"/>
                </a:moveTo>
                <a:cubicBezTo>
                  <a:pt x="18703" y="9191"/>
                  <a:pt x="18665" y="9229"/>
                  <a:pt x="18653" y="9302"/>
                </a:cubicBezTo>
                <a:cubicBezTo>
                  <a:pt x="18646" y="9345"/>
                  <a:pt x="18619" y="9420"/>
                  <a:pt x="18579" y="9451"/>
                </a:cubicBezTo>
                <a:cubicBezTo>
                  <a:pt x="18571" y="9451"/>
                  <a:pt x="18562" y="9451"/>
                  <a:pt x="18554" y="9451"/>
                </a:cubicBezTo>
              </a:path>
              <a:path w="2109" h="1440">
                <a:moveTo>
                  <a:pt x="19050" y="8607"/>
                </a:moveTo>
                <a:cubicBezTo>
                  <a:pt x="19095" y="8563"/>
                  <a:pt x="19139" y="8532"/>
                  <a:pt x="19199" y="8508"/>
                </a:cubicBezTo>
                <a:cubicBezTo>
                  <a:pt x="19288" y="8473"/>
                  <a:pt x="19332" y="8468"/>
                  <a:pt x="19397" y="8533"/>
                </a:cubicBezTo>
                <a:cubicBezTo>
                  <a:pt x="19452" y="8588"/>
                  <a:pt x="19414" y="8655"/>
                  <a:pt x="19372" y="8706"/>
                </a:cubicBezTo>
                <a:cubicBezTo>
                  <a:pt x="19319" y="8770"/>
                  <a:pt x="19288" y="8807"/>
                  <a:pt x="19224" y="8855"/>
                </a:cubicBezTo>
                <a:cubicBezTo>
                  <a:pt x="19142" y="8917"/>
                  <a:pt x="19269" y="8807"/>
                  <a:pt x="19273" y="8806"/>
                </a:cubicBezTo>
                <a:cubicBezTo>
                  <a:pt x="19336" y="8788"/>
                  <a:pt x="19410" y="8880"/>
                  <a:pt x="19422" y="8930"/>
                </a:cubicBezTo>
                <a:cubicBezTo>
                  <a:pt x="19438" y="8996"/>
                  <a:pt x="19404" y="9067"/>
                  <a:pt x="19348" y="9103"/>
                </a:cubicBezTo>
                <a:cubicBezTo>
                  <a:pt x="19279" y="9147"/>
                  <a:pt x="19204" y="9174"/>
                  <a:pt x="19124" y="9178"/>
                </a:cubicBezTo>
                <a:cubicBezTo>
                  <a:pt x="19060" y="9181"/>
                  <a:pt x="19016" y="9193"/>
                  <a:pt x="19000" y="9128"/>
                </a:cubicBezTo>
              </a:path>
              <a:path w="2109" h="1440">
                <a:moveTo>
                  <a:pt x="19720" y="8458"/>
                </a:moveTo>
                <a:cubicBezTo>
                  <a:pt x="19681" y="8536"/>
                  <a:pt x="19642" y="8605"/>
                  <a:pt x="19621" y="8682"/>
                </a:cubicBezTo>
                <a:cubicBezTo>
                  <a:pt x="19601" y="8757"/>
                  <a:pt x="19556" y="8831"/>
                  <a:pt x="19546" y="8905"/>
                </a:cubicBezTo>
                <a:cubicBezTo>
                  <a:pt x="19535" y="8991"/>
                  <a:pt x="19536" y="9101"/>
                  <a:pt x="19571" y="9178"/>
                </a:cubicBezTo>
                <a:cubicBezTo>
                  <a:pt x="19608" y="9261"/>
                  <a:pt x="19690" y="9276"/>
                  <a:pt x="19769" y="9227"/>
                </a:cubicBezTo>
                <a:cubicBezTo>
                  <a:pt x="19813" y="9200"/>
                  <a:pt x="19907" y="9138"/>
                  <a:pt x="19918" y="9079"/>
                </a:cubicBezTo>
                <a:cubicBezTo>
                  <a:pt x="19934" y="8990"/>
                  <a:pt x="19908" y="8951"/>
                  <a:pt x="19869" y="8880"/>
                </a:cubicBezTo>
                <a:cubicBezTo>
                  <a:pt x="19825" y="8905"/>
                  <a:pt x="19774" y="8934"/>
                  <a:pt x="19745" y="8979"/>
                </a:cubicBezTo>
                <a:cubicBezTo>
                  <a:pt x="19717" y="9023"/>
                  <a:pt x="19679" y="9084"/>
                  <a:pt x="19670" y="9128"/>
                </a:cubicBezTo>
                <a:cubicBezTo>
                  <a:pt x="19658" y="9187"/>
                  <a:pt x="19677" y="9192"/>
                  <a:pt x="19720" y="9203"/>
                </a:cubicBezTo>
              </a:path>
              <a:path w="2109" h="1440">
                <a:moveTo>
                  <a:pt x="20117" y="8533"/>
                </a:moveTo>
                <a:cubicBezTo>
                  <a:pt x="20090" y="8622"/>
                  <a:pt x="20030" y="8760"/>
                  <a:pt x="20017" y="8855"/>
                </a:cubicBezTo>
                <a:cubicBezTo>
                  <a:pt x="20007" y="8929"/>
                  <a:pt x="19997" y="9007"/>
                  <a:pt x="19993" y="9079"/>
                </a:cubicBezTo>
                <a:cubicBezTo>
                  <a:pt x="19991" y="9123"/>
                  <a:pt x="20016" y="9234"/>
                  <a:pt x="20067" y="9252"/>
                </a:cubicBezTo>
                <a:cubicBezTo>
                  <a:pt x="20117" y="9270"/>
                  <a:pt x="20207" y="9243"/>
                  <a:pt x="20241" y="9203"/>
                </a:cubicBezTo>
                <a:cubicBezTo>
                  <a:pt x="20279" y="9159"/>
                  <a:pt x="20319" y="9084"/>
                  <a:pt x="20340" y="9029"/>
                </a:cubicBezTo>
                <a:cubicBezTo>
                  <a:pt x="20367" y="8961"/>
                  <a:pt x="20384" y="8853"/>
                  <a:pt x="20365" y="8781"/>
                </a:cubicBezTo>
                <a:cubicBezTo>
                  <a:pt x="20350" y="8725"/>
                  <a:pt x="20299" y="8653"/>
                  <a:pt x="20265" y="8607"/>
                </a:cubicBezTo>
                <a:cubicBezTo>
                  <a:pt x="20228" y="8556"/>
                  <a:pt x="20200" y="8558"/>
                  <a:pt x="20141" y="8558"/>
                </a:cubicBezTo>
              </a:path>
              <a:path w="2109" h="1440">
                <a:moveTo>
                  <a:pt x="20464" y="8062"/>
                </a:moveTo>
                <a:cubicBezTo>
                  <a:pt x="20454" y="8137"/>
                  <a:pt x="20429" y="8170"/>
                  <a:pt x="20464" y="8235"/>
                </a:cubicBezTo>
                <a:cubicBezTo>
                  <a:pt x="20507" y="8315"/>
                  <a:pt x="20552" y="8290"/>
                  <a:pt x="20613" y="8235"/>
                </a:cubicBezTo>
                <a:cubicBezTo>
                  <a:pt x="20671" y="8183"/>
                  <a:pt x="20677" y="8101"/>
                  <a:pt x="20638" y="8037"/>
                </a:cubicBezTo>
                <a:cubicBezTo>
                  <a:pt x="20610" y="8009"/>
                  <a:pt x="20596" y="8000"/>
                  <a:pt x="20563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616200" y="3089160"/>
            <a:ext cx="17964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10393" y="8781"/>
                </a:moveTo>
                <a:cubicBezTo>
                  <a:pt x="10309" y="8793"/>
                  <a:pt x="10319" y="8844"/>
                  <a:pt x="10368" y="8806"/>
                </a:cubicBezTo>
                <a:cubicBezTo>
                  <a:pt x="10435" y="8754"/>
                  <a:pt x="10325" y="8743"/>
                  <a:pt x="10294" y="8756"/>
                </a:cubicBezTo>
                <a:cubicBezTo>
                  <a:pt x="10258" y="8782"/>
                  <a:pt x="10171" y="8852"/>
                  <a:pt x="10269" y="8880"/>
                </a:cubicBezTo>
                <a:cubicBezTo>
                  <a:pt x="10322" y="8895"/>
                  <a:pt x="10421" y="8888"/>
                  <a:pt x="10393" y="8806"/>
                </a:cubicBezTo>
                <a:cubicBezTo>
                  <a:pt x="10370" y="8737"/>
                  <a:pt x="10302" y="8760"/>
                  <a:pt x="10269" y="8806"/>
                </a:cubicBezTo>
                <a:cubicBezTo>
                  <a:pt x="10229" y="8861"/>
                  <a:pt x="10265" y="8957"/>
                  <a:pt x="10344" y="8930"/>
                </a:cubicBezTo>
                <a:cubicBezTo>
                  <a:pt x="10395" y="8913"/>
                  <a:pt x="10409" y="8797"/>
                  <a:pt x="10393" y="8756"/>
                </a:cubicBezTo>
                <a:cubicBezTo>
                  <a:pt x="10367" y="8688"/>
                  <a:pt x="10293" y="8701"/>
                  <a:pt x="10244" y="8731"/>
                </a:cubicBezTo>
                <a:cubicBezTo>
                  <a:pt x="10187" y="8767"/>
                  <a:pt x="10165" y="8859"/>
                  <a:pt x="10195" y="8905"/>
                </a:cubicBezTo>
                <a:cubicBezTo>
                  <a:pt x="10203" y="8913"/>
                  <a:pt x="10212" y="8922"/>
                  <a:pt x="10220" y="8930"/>
                </a:cubicBezTo>
                <a:cubicBezTo>
                  <a:pt x="10288" y="8952"/>
                  <a:pt x="10315" y="8934"/>
                  <a:pt x="10368" y="8880"/>
                </a:cubicBezTo>
                <a:cubicBezTo>
                  <a:pt x="10413" y="8834"/>
                  <a:pt x="10452" y="8718"/>
                  <a:pt x="10368" y="8682"/>
                </a:cubicBezTo>
                <a:cubicBezTo>
                  <a:pt x="10319" y="8682"/>
                  <a:pt x="10302" y="8682"/>
                  <a:pt x="10269" y="8682"/>
                </a:cubicBezTo>
                <a:cubicBezTo>
                  <a:pt x="10239" y="8711"/>
                  <a:pt x="10178" y="8768"/>
                  <a:pt x="10170" y="8806"/>
                </a:cubicBezTo>
                <a:cubicBezTo>
                  <a:pt x="10156" y="8876"/>
                  <a:pt x="10198" y="8938"/>
                  <a:pt x="10269" y="8954"/>
                </a:cubicBezTo>
                <a:cubicBezTo>
                  <a:pt x="10323" y="8966"/>
                  <a:pt x="10404" y="8912"/>
                  <a:pt x="10443" y="8880"/>
                </a:cubicBezTo>
                <a:cubicBezTo>
                  <a:pt x="10451" y="8872"/>
                  <a:pt x="10460" y="8863"/>
                  <a:pt x="10468" y="8855"/>
                </a:cubicBezTo>
                <a:cubicBezTo>
                  <a:pt x="10452" y="8767"/>
                  <a:pt x="10444" y="8712"/>
                  <a:pt x="10344" y="8706"/>
                </a:cubicBezTo>
                <a:cubicBezTo>
                  <a:pt x="10288" y="8703"/>
                  <a:pt x="10217" y="8748"/>
                  <a:pt x="10170" y="8781"/>
                </a:cubicBezTo>
                <a:cubicBezTo>
                  <a:pt x="10110" y="8822"/>
                  <a:pt x="10106" y="8868"/>
                  <a:pt x="10145" y="8930"/>
                </a:cubicBezTo>
                <a:cubicBezTo>
                  <a:pt x="10179" y="8963"/>
                  <a:pt x="10201" y="8971"/>
                  <a:pt x="10244" y="8954"/>
                </a:cubicBezTo>
                <a:cubicBezTo>
                  <a:pt x="10319" y="8944"/>
                  <a:pt x="10337" y="8912"/>
                  <a:pt x="10393" y="8855"/>
                </a:cubicBezTo>
                <a:cubicBezTo>
                  <a:pt x="10454" y="8793"/>
                  <a:pt x="10445" y="8713"/>
                  <a:pt x="10368" y="8657"/>
                </a:cubicBezTo>
                <a:cubicBezTo>
                  <a:pt x="10298" y="8606"/>
                  <a:pt x="10214" y="8695"/>
                  <a:pt x="10170" y="8731"/>
                </a:cubicBezTo>
                <a:cubicBezTo>
                  <a:pt x="10137" y="8759"/>
                  <a:pt x="10136" y="8814"/>
                  <a:pt x="10120" y="8855"/>
                </a:cubicBezTo>
                <a:cubicBezTo>
                  <a:pt x="10152" y="8935"/>
                  <a:pt x="10156" y="8974"/>
                  <a:pt x="10244" y="8979"/>
                </a:cubicBezTo>
                <a:cubicBezTo>
                  <a:pt x="10311" y="8983"/>
                  <a:pt x="10369" y="8949"/>
                  <a:pt x="10418" y="8905"/>
                </a:cubicBezTo>
                <a:cubicBezTo>
                  <a:pt x="10461" y="8866"/>
                  <a:pt x="10490" y="8789"/>
                  <a:pt x="10468" y="8731"/>
                </a:cubicBezTo>
                <a:cubicBezTo>
                  <a:pt x="10430" y="8633"/>
                  <a:pt x="10361" y="8611"/>
                  <a:pt x="10269" y="8607"/>
                </a:cubicBezTo>
                <a:cubicBezTo>
                  <a:pt x="10216" y="8604"/>
                  <a:pt x="10132" y="8640"/>
                  <a:pt x="10096" y="8682"/>
                </a:cubicBezTo>
                <a:cubicBezTo>
                  <a:pt x="10040" y="8748"/>
                  <a:pt x="10033" y="8829"/>
                  <a:pt x="10071" y="8905"/>
                </a:cubicBezTo>
                <a:cubicBezTo>
                  <a:pt x="10104" y="8971"/>
                  <a:pt x="10163" y="9021"/>
                  <a:pt x="10244" y="9004"/>
                </a:cubicBezTo>
                <a:cubicBezTo>
                  <a:pt x="10324" y="8987"/>
                  <a:pt x="10382" y="8922"/>
                  <a:pt x="10418" y="8855"/>
                </a:cubicBezTo>
                <a:cubicBezTo>
                  <a:pt x="10455" y="8786"/>
                  <a:pt x="10461" y="8760"/>
                  <a:pt x="10468" y="8682"/>
                </a:cubicBezTo>
                <a:cubicBezTo>
                  <a:pt x="10376" y="8607"/>
                  <a:pt x="10333" y="8574"/>
                  <a:pt x="10220" y="8657"/>
                </a:cubicBezTo>
                <a:cubicBezTo>
                  <a:pt x="10168" y="8695"/>
                  <a:pt x="10110" y="8792"/>
                  <a:pt x="10096" y="8855"/>
                </a:cubicBezTo>
                <a:cubicBezTo>
                  <a:pt x="10096" y="8914"/>
                  <a:pt x="10099" y="8940"/>
                  <a:pt x="10120" y="8979"/>
                </a:cubicBezTo>
                <a:cubicBezTo>
                  <a:pt x="10176" y="9024"/>
                  <a:pt x="10222" y="9050"/>
                  <a:pt x="10294" y="9054"/>
                </a:cubicBezTo>
                <a:cubicBezTo>
                  <a:pt x="10365" y="9058"/>
                  <a:pt x="10417" y="9001"/>
                  <a:pt x="10468" y="8954"/>
                </a:cubicBezTo>
                <a:cubicBezTo>
                  <a:pt x="10518" y="8908"/>
                  <a:pt x="10538" y="8845"/>
                  <a:pt x="10542" y="8781"/>
                </a:cubicBezTo>
                <a:cubicBezTo>
                  <a:pt x="10545" y="8720"/>
                  <a:pt x="10518" y="8685"/>
                  <a:pt x="10492" y="8632"/>
                </a:cubicBezTo>
                <a:cubicBezTo>
                  <a:pt x="10404" y="8584"/>
                  <a:pt x="10324" y="8550"/>
                  <a:pt x="10220" y="8607"/>
                </a:cubicBezTo>
                <a:cubicBezTo>
                  <a:pt x="10172" y="8633"/>
                  <a:pt x="10085" y="8730"/>
                  <a:pt x="10071" y="8781"/>
                </a:cubicBezTo>
                <a:cubicBezTo>
                  <a:pt x="10060" y="8819"/>
                  <a:pt x="10074" y="8953"/>
                  <a:pt x="10096" y="8979"/>
                </a:cubicBezTo>
                <a:cubicBezTo>
                  <a:pt x="10116" y="9003"/>
                  <a:pt x="10193" y="9039"/>
                  <a:pt x="10220" y="9054"/>
                </a:cubicBezTo>
                <a:cubicBezTo>
                  <a:pt x="10288" y="9046"/>
                  <a:pt x="10352" y="9043"/>
                  <a:pt x="10393" y="8979"/>
                </a:cubicBezTo>
                <a:cubicBezTo>
                  <a:pt x="10442" y="8903"/>
                  <a:pt x="10443" y="8874"/>
                  <a:pt x="10443" y="8781"/>
                </a:cubicBezTo>
                <a:cubicBezTo>
                  <a:pt x="10443" y="8700"/>
                  <a:pt x="10367" y="8619"/>
                  <a:pt x="10294" y="8607"/>
                </a:cubicBezTo>
                <a:cubicBezTo>
                  <a:pt x="10234" y="8597"/>
                  <a:pt x="10158" y="8603"/>
                  <a:pt x="10120" y="8657"/>
                </a:cubicBezTo>
                <a:cubicBezTo>
                  <a:pt x="10098" y="8689"/>
                  <a:pt x="10079" y="8722"/>
                  <a:pt x="10071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616200" y="133200"/>
            <a:ext cx="339840" cy="679680"/>
          </a:xfrm>
          <a:custGeom>
            <a:avLst/>
            <a:gdLst/>
            <a:ahLst/>
            <a:rect l="l" t="t" r="r" b="b"/>
            <a:pathLst>
              <a:path w="943" h="1886">
                <a:moveTo>
                  <a:pt x="10443" y="1786"/>
                </a:moveTo>
                <a:cubicBezTo>
                  <a:pt x="10443" y="1722"/>
                  <a:pt x="10453" y="1676"/>
                  <a:pt x="10393" y="1637"/>
                </a:cubicBezTo>
                <a:cubicBezTo>
                  <a:pt x="10334" y="1598"/>
                  <a:pt x="10288" y="1563"/>
                  <a:pt x="10220" y="1612"/>
                </a:cubicBezTo>
                <a:cubicBezTo>
                  <a:pt x="10146" y="1665"/>
                  <a:pt x="10140" y="1708"/>
                  <a:pt x="10120" y="1786"/>
                </a:cubicBezTo>
                <a:cubicBezTo>
                  <a:pt x="10100" y="1863"/>
                  <a:pt x="10071" y="1940"/>
                  <a:pt x="10120" y="2009"/>
                </a:cubicBezTo>
                <a:cubicBezTo>
                  <a:pt x="10128" y="2017"/>
                  <a:pt x="10137" y="2026"/>
                  <a:pt x="10145" y="2034"/>
                </a:cubicBezTo>
                <a:cubicBezTo>
                  <a:pt x="10242" y="2023"/>
                  <a:pt x="10302" y="2007"/>
                  <a:pt x="10344" y="1910"/>
                </a:cubicBezTo>
                <a:cubicBezTo>
                  <a:pt x="10374" y="1840"/>
                  <a:pt x="10387" y="1744"/>
                  <a:pt x="10368" y="1687"/>
                </a:cubicBezTo>
                <a:cubicBezTo>
                  <a:pt x="10368" y="1830"/>
                  <a:pt x="10367" y="1980"/>
                  <a:pt x="10393" y="2108"/>
                </a:cubicBezTo>
                <a:cubicBezTo>
                  <a:pt x="10406" y="2172"/>
                  <a:pt x="10371" y="2226"/>
                  <a:pt x="10418" y="2257"/>
                </a:cubicBezTo>
              </a:path>
              <a:path w="943" h="1886">
                <a:moveTo>
                  <a:pt x="10567" y="1736"/>
                </a:moveTo>
                <a:cubicBezTo>
                  <a:pt x="10532" y="1867"/>
                  <a:pt x="10535" y="1928"/>
                  <a:pt x="10542" y="2059"/>
                </a:cubicBezTo>
                <a:cubicBezTo>
                  <a:pt x="10546" y="2136"/>
                  <a:pt x="10538" y="2154"/>
                  <a:pt x="10592" y="2208"/>
                </a:cubicBezTo>
                <a:cubicBezTo>
                  <a:pt x="10600" y="2216"/>
                  <a:pt x="10608" y="2224"/>
                  <a:pt x="10616" y="2232"/>
                </a:cubicBezTo>
                <a:cubicBezTo>
                  <a:pt x="10654" y="2196"/>
                  <a:pt x="10711" y="2174"/>
                  <a:pt x="10740" y="2133"/>
                </a:cubicBezTo>
                <a:cubicBezTo>
                  <a:pt x="10778" y="2080"/>
                  <a:pt x="10805" y="1995"/>
                  <a:pt x="10815" y="1935"/>
                </a:cubicBezTo>
                <a:cubicBezTo>
                  <a:pt x="10822" y="1891"/>
                  <a:pt x="10812" y="1795"/>
                  <a:pt x="10790" y="1761"/>
                </a:cubicBezTo>
                <a:cubicBezTo>
                  <a:pt x="10739" y="1683"/>
                  <a:pt x="10678" y="1666"/>
                  <a:pt x="10592" y="1662"/>
                </a:cubicBezTo>
                <a:cubicBezTo>
                  <a:pt x="10575" y="1662"/>
                  <a:pt x="10559" y="1662"/>
                  <a:pt x="10542" y="1662"/>
                </a:cubicBezTo>
              </a:path>
              <a:path w="943" h="1886">
                <a:moveTo>
                  <a:pt x="10790" y="1290"/>
                </a:moveTo>
                <a:cubicBezTo>
                  <a:pt x="10790" y="1366"/>
                  <a:pt x="10788" y="1418"/>
                  <a:pt x="10815" y="1488"/>
                </a:cubicBezTo>
                <a:cubicBezTo>
                  <a:pt x="10874" y="1480"/>
                  <a:pt x="10928" y="1471"/>
                  <a:pt x="10964" y="1414"/>
                </a:cubicBezTo>
                <a:cubicBezTo>
                  <a:pt x="11013" y="1336"/>
                  <a:pt x="10961" y="1294"/>
                  <a:pt x="10889" y="1290"/>
                </a:cubicBezTo>
                <a:cubicBezTo>
                  <a:pt x="10831" y="1287"/>
                  <a:pt x="10827" y="1292"/>
                  <a:pt x="10815" y="1339"/>
                </a:cubicBezTo>
              </a:path>
              <a:path w="943" h="1886">
                <a:moveTo>
                  <a:pt x="10244" y="471"/>
                </a:moveTo>
                <a:cubicBezTo>
                  <a:pt x="10251" y="551"/>
                  <a:pt x="10269" y="613"/>
                  <a:pt x="10269" y="695"/>
                </a:cubicBezTo>
                <a:cubicBezTo>
                  <a:pt x="10269" y="745"/>
                  <a:pt x="10269" y="844"/>
                  <a:pt x="10269" y="794"/>
                </a:cubicBezTo>
              </a:path>
              <a:path w="943" h="1886">
                <a:moveTo>
                  <a:pt x="10418" y="372"/>
                </a:moveTo>
                <a:cubicBezTo>
                  <a:pt x="10443" y="437"/>
                  <a:pt x="10464" y="501"/>
                  <a:pt x="10468" y="571"/>
                </a:cubicBezTo>
                <a:cubicBezTo>
                  <a:pt x="10472" y="637"/>
                  <a:pt x="10464" y="713"/>
                  <a:pt x="10492" y="769"/>
                </a:cubicBezTo>
                <a:cubicBezTo>
                  <a:pt x="10515" y="792"/>
                  <a:pt x="10523" y="796"/>
                  <a:pt x="10517" y="819"/>
                </a:cubicBezTo>
              </a:path>
              <a:path w="943" h="1886">
                <a:moveTo>
                  <a:pt x="10046" y="1017"/>
                </a:moveTo>
                <a:cubicBezTo>
                  <a:pt x="10123" y="1008"/>
                  <a:pt x="10197" y="976"/>
                  <a:pt x="10269" y="967"/>
                </a:cubicBezTo>
                <a:cubicBezTo>
                  <a:pt x="10347" y="957"/>
                  <a:pt x="10417" y="963"/>
                  <a:pt x="10492" y="943"/>
                </a:cubicBezTo>
                <a:cubicBezTo>
                  <a:pt x="10514" y="937"/>
                  <a:pt x="10725" y="863"/>
                  <a:pt x="10592" y="918"/>
                </a:cubicBezTo>
              </a:path>
              <a:path w="943" h="1886">
                <a:moveTo>
                  <a:pt x="10319" y="1191"/>
                </a:moveTo>
                <a:cubicBezTo>
                  <a:pt x="10336" y="1160"/>
                  <a:pt x="10377" y="1078"/>
                  <a:pt x="10418" y="1067"/>
                </a:cubicBezTo>
                <a:cubicBezTo>
                  <a:pt x="10498" y="1045"/>
                  <a:pt x="10538" y="1102"/>
                  <a:pt x="10542" y="1166"/>
                </a:cubicBezTo>
                <a:cubicBezTo>
                  <a:pt x="10546" y="1239"/>
                  <a:pt x="10478" y="1299"/>
                  <a:pt x="10443" y="1364"/>
                </a:cubicBezTo>
                <a:cubicBezTo>
                  <a:pt x="10412" y="1423"/>
                  <a:pt x="10389" y="1488"/>
                  <a:pt x="10344" y="1538"/>
                </a:cubicBezTo>
                <a:cubicBezTo>
                  <a:pt x="10279" y="1611"/>
                  <a:pt x="10379" y="1492"/>
                  <a:pt x="10393" y="1488"/>
                </a:cubicBezTo>
                <a:cubicBezTo>
                  <a:pt x="10452" y="1471"/>
                  <a:pt x="10500" y="1463"/>
                  <a:pt x="10567" y="1463"/>
                </a:cubicBezTo>
                <a:cubicBezTo>
                  <a:pt x="10611" y="1463"/>
                  <a:pt x="10624" y="1466"/>
                  <a:pt x="10641" y="14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10120" y="152280"/>
            <a:ext cx="1116000" cy="561960"/>
          </a:xfrm>
          <a:custGeom>
            <a:avLst/>
            <a:gdLst/>
            <a:ahLst/>
            <a:rect l="l" t="t" r="r" b="b"/>
            <a:pathLst>
              <a:path w="3102" h="1563">
                <a:moveTo>
                  <a:pt x="16272" y="1538"/>
                </a:moveTo>
                <a:cubicBezTo>
                  <a:pt x="16348" y="1476"/>
                  <a:pt x="16422" y="1467"/>
                  <a:pt x="16520" y="1463"/>
                </a:cubicBezTo>
                <a:cubicBezTo>
                  <a:pt x="16604" y="1459"/>
                  <a:pt x="16710" y="1454"/>
                  <a:pt x="16793" y="1439"/>
                </a:cubicBezTo>
                <a:cubicBezTo>
                  <a:pt x="16834" y="1431"/>
                  <a:pt x="16979" y="1380"/>
                  <a:pt x="17016" y="1389"/>
                </a:cubicBezTo>
                <a:cubicBezTo>
                  <a:pt x="17016" y="1397"/>
                  <a:pt x="17016" y="1406"/>
                  <a:pt x="17016" y="1414"/>
                </a:cubicBezTo>
              </a:path>
              <a:path w="3102" h="1563">
                <a:moveTo>
                  <a:pt x="13915" y="670"/>
                </a:moveTo>
                <a:cubicBezTo>
                  <a:pt x="13985" y="660"/>
                  <a:pt x="14037" y="624"/>
                  <a:pt x="14114" y="620"/>
                </a:cubicBezTo>
                <a:cubicBezTo>
                  <a:pt x="14191" y="616"/>
                  <a:pt x="14262" y="582"/>
                  <a:pt x="14337" y="571"/>
                </a:cubicBezTo>
                <a:cubicBezTo>
                  <a:pt x="14382" y="571"/>
                  <a:pt x="14395" y="574"/>
                  <a:pt x="14412" y="546"/>
                </a:cubicBezTo>
              </a:path>
              <a:path w="3102" h="1563">
                <a:moveTo>
                  <a:pt x="14015" y="695"/>
                </a:moveTo>
                <a:cubicBezTo>
                  <a:pt x="14040" y="764"/>
                  <a:pt x="14020" y="825"/>
                  <a:pt x="14039" y="893"/>
                </a:cubicBezTo>
                <a:cubicBezTo>
                  <a:pt x="14061" y="971"/>
                  <a:pt x="14077" y="1059"/>
                  <a:pt x="14089" y="1141"/>
                </a:cubicBezTo>
                <a:cubicBezTo>
                  <a:pt x="14089" y="1191"/>
                  <a:pt x="14089" y="1208"/>
                  <a:pt x="14089" y="1141"/>
                </a:cubicBezTo>
              </a:path>
              <a:path w="3102" h="1563">
                <a:moveTo>
                  <a:pt x="14238" y="620"/>
                </a:moveTo>
                <a:cubicBezTo>
                  <a:pt x="14238" y="734"/>
                  <a:pt x="14246" y="837"/>
                  <a:pt x="14263" y="943"/>
                </a:cubicBezTo>
                <a:cubicBezTo>
                  <a:pt x="14274" y="1014"/>
                  <a:pt x="14286" y="1040"/>
                  <a:pt x="14337" y="1091"/>
                </a:cubicBezTo>
                <a:cubicBezTo>
                  <a:pt x="14345" y="1099"/>
                  <a:pt x="14354" y="1108"/>
                  <a:pt x="14362" y="1116"/>
                </a:cubicBezTo>
              </a:path>
              <a:path w="3102" h="1563">
                <a:moveTo>
                  <a:pt x="13940" y="1339"/>
                </a:moveTo>
                <a:cubicBezTo>
                  <a:pt x="14003" y="1316"/>
                  <a:pt x="14057" y="1311"/>
                  <a:pt x="14114" y="1290"/>
                </a:cubicBezTo>
                <a:cubicBezTo>
                  <a:pt x="14179" y="1267"/>
                  <a:pt x="14248" y="1261"/>
                  <a:pt x="14312" y="1240"/>
                </a:cubicBezTo>
                <a:cubicBezTo>
                  <a:pt x="14348" y="1228"/>
                  <a:pt x="14463" y="1164"/>
                  <a:pt x="14412" y="1215"/>
                </a:cubicBezTo>
              </a:path>
              <a:path w="3102" h="1563">
                <a:moveTo>
                  <a:pt x="14163" y="1488"/>
                </a:moveTo>
                <a:cubicBezTo>
                  <a:pt x="14208" y="1444"/>
                  <a:pt x="14266" y="1360"/>
                  <a:pt x="14337" y="1364"/>
                </a:cubicBezTo>
                <a:cubicBezTo>
                  <a:pt x="14393" y="1367"/>
                  <a:pt x="14447" y="1465"/>
                  <a:pt x="14436" y="1513"/>
                </a:cubicBezTo>
                <a:cubicBezTo>
                  <a:pt x="14422" y="1575"/>
                  <a:pt x="14401" y="1635"/>
                  <a:pt x="14362" y="1687"/>
                </a:cubicBezTo>
                <a:cubicBezTo>
                  <a:pt x="14319" y="1744"/>
                  <a:pt x="14378" y="1643"/>
                  <a:pt x="14436" y="1662"/>
                </a:cubicBezTo>
                <a:cubicBezTo>
                  <a:pt x="14486" y="1679"/>
                  <a:pt x="14515" y="1800"/>
                  <a:pt x="14511" y="1836"/>
                </a:cubicBezTo>
                <a:cubicBezTo>
                  <a:pt x="14505" y="1890"/>
                  <a:pt x="14438" y="1971"/>
                  <a:pt x="14387" y="1984"/>
                </a:cubicBezTo>
                <a:cubicBezTo>
                  <a:pt x="14347" y="1994"/>
                  <a:pt x="14237" y="1998"/>
                  <a:pt x="14213" y="1960"/>
                </a:cubicBezTo>
                <a:cubicBezTo>
                  <a:pt x="14213" y="1952"/>
                  <a:pt x="14213" y="1943"/>
                  <a:pt x="14213" y="1935"/>
                </a:cubicBezTo>
              </a:path>
              <a:path w="3102" h="1563">
                <a:moveTo>
                  <a:pt x="14784" y="1042"/>
                </a:moveTo>
                <a:cubicBezTo>
                  <a:pt x="14801" y="1171"/>
                  <a:pt x="14833" y="1288"/>
                  <a:pt x="14833" y="1414"/>
                </a:cubicBezTo>
                <a:cubicBezTo>
                  <a:pt x="14784" y="1352"/>
                  <a:pt x="14763" y="1295"/>
                  <a:pt x="14759" y="1215"/>
                </a:cubicBezTo>
                <a:cubicBezTo>
                  <a:pt x="14755" y="1140"/>
                  <a:pt x="14760" y="1086"/>
                  <a:pt x="14784" y="1017"/>
                </a:cubicBezTo>
                <a:cubicBezTo>
                  <a:pt x="14816" y="924"/>
                  <a:pt x="14862" y="877"/>
                  <a:pt x="14932" y="819"/>
                </a:cubicBezTo>
                <a:cubicBezTo>
                  <a:pt x="14940" y="811"/>
                  <a:pt x="14949" y="802"/>
                  <a:pt x="14957" y="794"/>
                </a:cubicBezTo>
              </a:path>
              <a:path w="3102" h="1563">
                <a:moveTo>
                  <a:pt x="15180" y="744"/>
                </a:moveTo>
                <a:cubicBezTo>
                  <a:pt x="15118" y="780"/>
                  <a:pt x="15090" y="803"/>
                  <a:pt x="15056" y="868"/>
                </a:cubicBezTo>
                <a:cubicBezTo>
                  <a:pt x="15005" y="967"/>
                  <a:pt x="15007" y="1012"/>
                  <a:pt x="15007" y="1116"/>
                </a:cubicBezTo>
                <a:cubicBezTo>
                  <a:pt x="15007" y="1182"/>
                  <a:pt x="15037" y="1196"/>
                  <a:pt x="15081" y="1240"/>
                </a:cubicBezTo>
                <a:cubicBezTo>
                  <a:pt x="15122" y="1200"/>
                  <a:pt x="15167" y="1143"/>
                  <a:pt x="15180" y="1091"/>
                </a:cubicBezTo>
                <a:cubicBezTo>
                  <a:pt x="15194" y="1033"/>
                  <a:pt x="15180" y="953"/>
                  <a:pt x="15180" y="893"/>
                </a:cubicBezTo>
                <a:cubicBezTo>
                  <a:pt x="15180" y="964"/>
                  <a:pt x="15163" y="1044"/>
                  <a:pt x="15230" y="1091"/>
                </a:cubicBezTo>
                <a:cubicBezTo>
                  <a:pt x="15310" y="1148"/>
                  <a:pt x="15378" y="1104"/>
                  <a:pt x="15453" y="1067"/>
                </a:cubicBezTo>
              </a:path>
              <a:path w="3102" h="1563">
                <a:moveTo>
                  <a:pt x="15577" y="620"/>
                </a:moveTo>
                <a:cubicBezTo>
                  <a:pt x="15509" y="690"/>
                  <a:pt x="15471" y="732"/>
                  <a:pt x="15429" y="819"/>
                </a:cubicBezTo>
                <a:cubicBezTo>
                  <a:pt x="15397" y="886"/>
                  <a:pt x="15389" y="950"/>
                  <a:pt x="15429" y="1017"/>
                </a:cubicBezTo>
                <a:cubicBezTo>
                  <a:pt x="15453" y="1042"/>
                  <a:pt x="15461" y="1051"/>
                  <a:pt x="15478" y="1067"/>
                </a:cubicBezTo>
                <a:cubicBezTo>
                  <a:pt x="15527" y="1018"/>
                  <a:pt x="15566" y="979"/>
                  <a:pt x="15602" y="918"/>
                </a:cubicBezTo>
                <a:cubicBezTo>
                  <a:pt x="15651" y="837"/>
                  <a:pt x="15673" y="738"/>
                  <a:pt x="15677" y="645"/>
                </a:cubicBezTo>
                <a:cubicBezTo>
                  <a:pt x="15680" y="579"/>
                  <a:pt x="15693" y="496"/>
                  <a:pt x="15652" y="446"/>
                </a:cubicBezTo>
                <a:cubicBezTo>
                  <a:pt x="15603" y="386"/>
                  <a:pt x="15668" y="568"/>
                  <a:pt x="15677" y="595"/>
                </a:cubicBezTo>
                <a:cubicBezTo>
                  <a:pt x="15702" y="672"/>
                  <a:pt x="15748" y="736"/>
                  <a:pt x="15801" y="794"/>
                </a:cubicBezTo>
                <a:cubicBezTo>
                  <a:pt x="15851" y="849"/>
                  <a:pt x="15892" y="853"/>
                  <a:pt x="15949" y="8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848200" y="544680"/>
            <a:ext cx="839880" cy="617400"/>
          </a:xfrm>
          <a:custGeom>
            <a:avLst/>
            <a:gdLst/>
            <a:ahLst/>
            <a:rect l="l" t="t" r="r" b="b"/>
            <a:pathLst>
              <a:path w="2333" h="1713">
                <a:moveTo>
                  <a:pt x="16470" y="1513"/>
                </a:moveTo>
                <a:cubicBezTo>
                  <a:pt x="16470" y="1588"/>
                  <a:pt x="16483" y="1643"/>
                  <a:pt x="16495" y="1712"/>
                </a:cubicBezTo>
                <a:cubicBezTo>
                  <a:pt x="16510" y="1800"/>
                  <a:pt x="16484" y="1880"/>
                  <a:pt x="16470" y="1960"/>
                </a:cubicBezTo>
                <a:cubicBezTo>
                  <a:pt x="16459" y="2026"/>
                  <a:pt x="16449" y="2098"/>
                  <a:pt x="16495" y="2084"/>
                </a:cubicBezTo>
              </a:path>
              <a:path w="2333" h="1713">
                <a:moveTo>
                  <a:pt x="16694" y="1513"/>
                </a:moveTo>
                <a:cubicBezTo>
                  <a:pt x="16694" y="1673"/>
                  <a:pt x="16693" y="1831"/>
                  <a:pt x="16718" y="1984"/>
                </a:cubicBezTo>
                <a:cubicBezTo>
                  <a:pt x="16727" y="2042"/>
                  <a:pt x="16713" y="2060"/>
                  <a:pt x="16743" y="2108"/>
                </a:cubicBezTo>
              </a:path>
              <a:path w="2333" h="1713">
                <a:moveTo>
                  <a:pt x="16247" y="2307"/>
                </a:moveTo>
                <a:cubicBezTo>
                  <a:pt x="16307" y="2271"/>
                  <a:pt x="16354" y="2301"/>
                  <a:pt x="16421" y="2282"/>
                </a:cubicBezTo>
                <a:cubicBezTo>
                  <a:pt x="16489" y="2263"/>
                  <a:pt x="16551" y="2272"/>
                  <a:pt x="16619" y="2257"/>
                </a:cubicBezTo>
                <a:cubicBezTo>
                  <a:pt x="16707" y="2238"/>
                  <a:pt x="16775" y="2232"/>
                  <a:pt x="16867" y="2232"/>
                </a:cubicBezTo>
                <a:cubicBezTo>
                  <a:pt x="16875" y="2232"/>
                  <a:pt x="16884" y="2232"/>
                  <a:pt x="16892" y="2232"/>
                </a:cubicBezTo>
              </a:path>
              <a:path w="2333" h="1713">
                <a:moveTo>
                  <a:pt x="16495" y="2505"/>
                </a:moveTo>
                <a:cubicBezTo>
                  <a:pt x="16495" y="2567"/>
                  <a:pt x="16494" y="2649"/>
                  <a:pt x="16470" y="2704"/>
                </a:cubicBezTo>
                <a:cubicBezTo>
                  <a:pt x="16462" y="2712"/>
                  <a:pt x="16454" y="2721"/>
                  <a:pt x="16446" y="2729"/>
                </a:cubicBezTo>
                <a:cubicBezTo>
                  <a:pt x="16489" y="2772"/>
                  <a:pt x="16527" y="2797"/>
                  <a:pt x="16594" y="2778"/>
                </a:cubicBezTo>
                <a:cubicBezTo>
                  <a:pt x="16658" y="2760"/>
                  <a:pt x="16696" y="2751"/>
                  <a:pt x="16743" y="2704"/>
                </a:cubicBezTo>
                <a:cubicBezTo>
                  <a:pt x="16766" y="2681"/>
                  <a:pt x="16774" y="2677"/>
                  <a:pt x="16768" y="2654"/>
                </a:cubicBezTo>
              </a:path>
              <a:path w="2333" h="1713">
                <a:moveTo>
                  <a:pt x="16694" y="2406"/>
                </a:moveTo>
                <a:cubicBezTo>
                  <a:pt x="16694" y="2480"/>
                  <a:pt x="16707" y="2536"/>
                  <a:pt x="16718" y="2604"/>
                </a:cubicBezTo>
                <a:cubicBezTo>
                  <a:pt x="16742" y="2755"/>
                  <a:pt x="16725" y="2925"/>
                  <a:pt x="16743" y="3076"/>
                </a:cubicBezTo>
                <a:cubicBezTo>
                  <a:pt x="16746" y="3101"/>
                  <a:pt x="16759" y="3268"/>
                  <a:pt x="16793" y="3200"/>
                </a:cubicBezTo>
              </a:path>
              <a:path w="2333" h="1713">
                <a:moveTo>
                  <a:pt x="17140" y="2257"/>
                </a:moveTo>
                <a:cubicBezTo>
                  <a:pt x="17156" y="2396"/>
                  <a:pt x="17186" y="2483"/>
                  <a:pt x="17140" y="2604"/>
                </a:cubicBezTo>
                <a:cubicBezTo>
                  <a:pt x="17097" y="2534"/>
                  <a:pt x="17127" y="2506"/>
                  <a:pt x="17140" y="2431"/>
                </a:cubicBezTo>
                <a:cubicBezTo>
                  <a:pt x="17154" y="2350"/>
                  <a:pt x="17140" y="2290"/>
                  <a:pt x="17165" y="2208"/>
                </a:cubicBezTo>
                <a:cubicBezTo>
                  <a:pt x="17184" y="2146"/>
                  <a:pt x="17220" y="2078"/>
                  <a:pt x="17289" y="2059"/>
                </a:cubicBezTo>
                <a:cubicBezTo>
                  <a:pt x="17324" y="2050"/>
                  <a:pt x="17376" y="2059"/>
                  <a:pt x="17413" y="2059"/>
                </a:cubicBezTo>
              </a:path>
              <a:path w="2333" h="1713">
                <a:moveTo>
                  <a:pt x="17686" y="2208"/>
                </a:moveTo>
                <a:cubicBezTo>
                  <a:pt x="17663" y="2162"/>
                  <a:pt x="17643" y="2123"/>
                  <a:pt x="17611" y="2084"/>
                </a:cubicBezTo>
                <a:cubicBezTo>
                  <a:pt x="17547" y="2120"/>
                  <a:pt x="17522" y="2142"/>
                  <a:pt x="17487" y="2208"/>
                </a:cubicBezTo>
                <a:cubicBezTo>
                  <a:pt x="17449" y="2279"/>
                  <a:pt x="17425" y="2355"/>
                  <a:pt x="17413" y="2431"/>
                </a:cubicBezTo>
                <a:cubicBezTo>
                  <a:pt x="17404" y="2490"/>
                  <a:pt x="17449" y="2545"/>
                  <a:pt x="17512" y="2530"/>
                </a:cubicBezTo>
                <a:cubicBezTo>
                  <a:pt x="17590" y="2512"/>
                  <a:pt x="17625" y="2398"/>
                  <a:pt x="17636" y="2332"/>
                </a:cubicBezTo>
                <a:cubicBezTo>
                  <a:pt x="17636" y="2282"/>
                  <a:pt x="17636" y="2265"/>
                  <a:pt x="17636" y="2232"/>
                </a:cubicBezTo>
                <a:cubicBezTo>
                  <a:pt x="17661" y="2300"/>
                  <a:pt x="17668" y="2368"/>
                  <a:pt x="17711" y="2431"/>
                </a:cubicBezTo>
                <a:cubicBezTo>
                  <a:pt x="17760" y="2503"/>
                  <a:pt x="17834" y="2435"/>
                  <a:pt x="17884" y="2406"/>
                </a:cubicBezTo>
              </a:path>
              <a:path w="2333" h="1713">
                <a:moveTo>
                  <a:pt x="18132" y="1984"/>
                </a:moveTo>
                <a:cubicBezTo>
                  <a:pt x="18050" y="1954"/>
                  <a:pt x="17995" y="1951"/>
                  <a:pt x="17934" y="2034"/>
                </a:cubicBezTo>
                <a:cubicBezTo>
                  <a:pt x="17887" y="2098"/>
                  <a:pt x="17884" y="2156"/>
                  <a:pt x="17884" y="2232"/>
                </a:cubicBezTo>
                <a:cubicBezTo>
                  <a:pt x="17884" y="2283"/>
                  <a:pt x="17903" y="2342"/>
                  <a:pt x="17934" y="2381"/>
                </a:cubicBezTo>
                <a:cubicBezTo>
                  <a:pt x="17973" y="2430"/>
                  <a:pt x="18065" y="2415"/>
                  <a:pt x="18107" y="2381"/>
                </a:cubicBezTo>
                <a:cubicBezTo>
                  <a:pt x="18171" y="2329"/>
                  <a:pt x="18224" y="2259"/>
                  <a:pt x="18256" y="2183"/>
                </a:cubicBezTo>
                <a:cubicBezTo>
                  <a:pt x="18293" y="2093"/>
                  <a:pt x="18306" y="2032"/>
                  <a:pt x="18306" y="1935"/>
                </a:cubicBezTo>
                <a:cubicBezTo>
                  <a:pt x="18306" y="1858"/>
                  <a:pt x="18297" y="1823"/>
                  <a:pt x="18256" y="1761"/>
                </a:cubicBezTo>
                <a:cubicBezTo>
                  <a:pt x="18256" y="1906"/>
                  <a:pt x="18231" y="2072"/>
                  <a:pt x="18281" y="2208"/>
                </a:cubicBezTo>
                <a:cubicBezTo>
                  <a:pt x="18300" y="2260"/>
                  <a:pt x="18342" y="2294"/>
                  <a:pt x="18380" y="2332"/>
                </a:cubicBezTo>
                <a:cubicBezTo>
                  <a:pt x="18425" y="2377"/>
                  <a:pt x="18500" y="2356"/>
                  <a:pt x="18554" y="2381"/>
                </a:cubicBezTo>
                <a:cubicBezTo>
                  <a:pt x="18562" y="2389"/>
                  <a:pt x="18571" y="2398"/>
                  <a:pt x="18579" y="24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643200" y="108000"/>
            <a:ext cx="187560" cy="442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10120" y="422"/>
                </a:moveTo>
                <a:cubicBezTo>
                  <a:pt x="10162" y="380"/>
                  <a:pt x="10209" y="355"/>
                  <a:pt x="10269" y="347"/>
                </a:cubicBezTo>
                <a:cubicBezTo>
                  <a:pt x="10350" y="336"/>
                  <a:pt x="10437" y="326"/>
                  <a:pt x="10517" y="322"/>
                </a:cubicBezTo>
                <a:cubicBezTo>
                  <a:pt x="10543" y="321"/>
                  <a:pt x="10695" y="313"/>
                  <a:pt x="10616" y="322"/>
                </a:cubicBezTo>
                <a:cubicBezTo>
                  <a:pt x="10591" y="322"/>
                  <a:pt x="10567" y="322"/>
                  <a:pt x="10542" y="3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840200" y="633240"/>
            <a:ext cx="196920" cy="366840"/>
          </a:xfrm>
          <a:custGeom>
            <a:avLst/>
            <a:gdLst/>
            <a:ahLst/>
            <a:rect l="l" t="t" r="r" b="b"/>
            <a:pathLst>
              <a:path w="547" h="1018">
                <a:moveTo>
                  <a:pt x="13444" y="2183"/>
                </a:moveTo>
                <a:cubicBezTo>
                  <a:pt x="13444" y="2344"/>
                  <a:pt x="13443" y="2501"/>
                  <a:pt x="13469" y="2654"/>
                </a:cubicBezTo>
                <a:cubicBezTo>
                  <a:pt x="13480" y="2721"/>
                  <a:pt x="13495" y="2729"/>
                  <a:pt x="13543" y="2778"/>
                </a:cubicBezTo>
                <a:cubicBezTo>
                  <a:pt x="13595" y="2727"/>
                  <a:pt x="13596" y="2717"/>
                  <a:pt x="13618" y="2654"/>
                </a:cubicBezTo>
                <a:cubicBezTo>
                  <a:pt x="13640" y="2592"/>
                  <a:pt x="13660" y="2546"/>
                  <a:pt x="13667" y="2480"/>
                </a:cubicBezTo>
              </a:path>
              <a:path w="547" h="1018">
                <a:moveTo>
                  <a:pt x="13593" y="2381"/>
                </a:moveTo>
                <a:cubicBezTo>
                  <a:pt x="13560" y="2458"/>
                  <a:pt x="13518" y="2540"/>
                  <a:pt x="13543" y="2629"/>
                </a:cubicBezTo>
                <a:cubicBezTo>
                  <a:pt x="13566" y="2712"/>
                  <a:pt x="13582" y="2696"/>
                  <a:pt x="13643" y="2679"/>
                </a:cubicBezTo>
              </a:path>
              <a:path w="547" h="1018">
                <a:moveTo>
                  <a:pt x="13593" y="2381"/>
                </a:moveTo>
                <a:cubicBezTo>
                  <a:pt x="13626" y="2409"/>
                  <a:pt x="13731" y="2550"/>
                  <a:pt x="13791" y="2530"/>
                </a:cubicBezTo>
                <a:cubicBezTo>
                  <a:pt x="13838" y="2514"/>
                  <a:pt x="13864" y="2397"/>
                  <a:pt x="13866" y="2356"/>
                </a:cubicBezTo>
                <a:cubicBezTo>
                  <a:pt x="13870" y="2289"/>
                  <a:pt x="13877" y="2216"/>
                  <a:pt x="13841" y="2158"/>
                </a:cubicBezTo>
                <a:cubicBezTo>
                  <a:pt x="13816" y="2117"/>
                  <a:pt x="13739" y="2079"/>
                  <a:pt x="13692" y="2108"/>
                </a:cubicBezTo>
                <a:cubicBezTo>
                  <a:pt x="13692" y="2116"/>
                  <a:pt x="13692" y="2125"/>
                  <a:pt x="13692" y="2133"/>
                </a:cubicBezTo>
              </a:path>
              <a:path w="547" h="1018">
                <a:moveTo>
                  <a:pt x="13841" y="1811"/>
                </a:moveTo>
                <a:cubicBezTo>
                  <a:pt x="13833" y="1861"/>
                  <a:pt x="13824" y="1910"/>
                  <a:pt x="13816" y="1960"/>
                </a:cubicBezTo>
                <a:cubicBezTo>
                  <a:pt x="13913" y="1986"/>
                  <a:pt x="13969" y="2012"/>
                  <a:pt x="13990" y="1885"/>
                </a:cubicBezTo>
                <a:cubicBezTo>
                  <a:pt x="14003" y="1807"/>
                  <a:pt x="13967" y="1741"/>
                  <a:pt x="13891" y="1786"/>
                </a:cubicBezTo>
                <a:cubicBezTo>
                  <a:pt x="13866" y="1811"/>
                  <a:pt x="13858" y="1819"/>
                  <a:pt x="13841" y="18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75160" y="1027080"/>
            <a:ext cx="358920" cy="339840"/>
          </a:xfrm>
          <a:custGeom>
            <a:avLst/>
            <a:gdLst/>
            <a:ahLst/>
            <a:rect l="l" t="t" r="r" b="b"/>
            <a:pathLst>
              <a:path w="994" h="943">
                <a:moveTo>
                  <a:pt x="15007" y="3125"/>
                </a:moveTo>
                <a:cubicBezTo>
                  <a:pt x="14978" y="3202"/>
                  <a:pt x="15002" y="3272"/>
                  <a:pt x="14982" y="3349"/>
                </a:cubicBezTo>
                <a:cubicBezTo>
                  <a:pt x="14966" y="3410"/>
                  <a:pt x="14869" y="3523"/>
                  <a:pt x="14932" y="3522"/>
                </a:cubicBezTo>
                <a:cubicBezTo>
                  <a:pt x="14971" y="3521"/>
                  <a:pt x="15054" y="3440"/>
                  <a:pt x="15106" y="3448"/>
                </a:cubicBezTo>
                <a:cubicBezTo>
                  <a:pt x="15170" y="3458"/>
                  <a:pt x="15187" y="3468"/>
                  <a:pt x="15255" y="3448"/>
                </a:cubicBezTo>
                <a:cubicBezTo>
                  <a:pt x="15263" y="3448"/>
                  <a:pt x="15272" y="3448"/>
                  <a:pt x="15280" y="3448"/>
                </a:cubicBezTo>
              </a:path>
              <a:path w="994" h="943">
                <a:moveTo>
                  <a:pt x="15156" y="3150"/>
                </a:moveTo>
                <a:cubicBezTo>
                  <a:pt x="15156" y="3248"/>
                  <a:pt x="15176" y="3328"/>
                  <a:pt x="15180" y="3423"/>
                </a:cubicBezTo>
                <a:cubicBezTo>
                  <a:pt x="15184" y="3500"/>
                  <a:pt x="15205" y="3567"/>
                  <a:pt x="15205" y="3646"/>
                </a:cubicBezTo>
                <a:cubicBezTo>
                  <a:pt x="15205" y="3676"/>
                  <a:pt x="15217" y="3797"/>
                  <a:pt x="15230" y="3795"/>
                </a:cubicBezTo>
                <a:cubicBezTo>
                  <a:pt x="15238" y="3787"/>
                  <a:pt x="15247" y="3778"/>
                  <a:pt x="15255" y="3770"/>
                </a:cubicBezTo>
              </a:path>
              <a:path w="994" h="943">
                <a:moveTo>
                  <a:pt x="15354" y="3076"/>
                </a:moveTo>
                <a:cubicBezTo>
                  <a:pt x="15435" y="3076"/>
                  <a:pt x="15510" y="3085"/>
                  <a:pt x="15577" y="3051"/>
                </a:cubicBezTo>
                <a:cubicBezTo>
                  <a:pt x="15621" y="3029"/>
                  <a:pt x="15633" y="3026"/>
                  <a:pt x="15652" y="3001"/>
                </a:cubicBezTo>
              </a:path>
              <a:path w="994" h="943">
                <a:moveTo>
                  <a:pt x="15329" y="3175"/>
                </a:moveTo>
                <a:cubicBezTo>
                  <a:pt x="15335" y="3284"/>
                  <a:pt x="15328" y="3362"/>
                  <a:pt x="15379" y="3448"/>
                </a:cubicBezTo>
                <a:cubicBezTo>
                  <a:pt x="15413" y="3405"/>
                  <a:pt x="15439" y="3363"/>
                  <a:pt x="15478" y="3324"/>
                </a:cubicBezTo>
                <a:cubicBezTo>
                  <a:pt x="15531" y="3271"/>
                  <a:pt x="15560" y="3307"/>
                  <a:pt x="15602" y="3349"/>
                </a:cubicBezTo>
                <a:cubicBezTo>
                  <a:pt x="15645" y="3392"/>
                  <a:pt x="15667" y="3465"/>
                  <a:pt x="15677" y="3522"/>
                </a:cubicBezTo>
                <a:cubicBezTo>
                  <a:pt x="15690" y="3601"/>
                  <a:pt x="15673" y="3680"/>
                  <a:pt x="15627" y="3746"/>
                </a:cubicBezTo>
                <a:cubicBezTo>
                  <a:pt x="15610" y="3771"/>
                  <a:pt x="15509" y="3805"/>
                  <a:pt x="15478" y="3795"/>
                </a:cubicBezTo>
                <a:cubicBezTo>
                  <a:pt x="15470" y="3787"/>
                  <a:pt x="15461" y="3778"/>
                  <a:pt x="15453" y="3770"/>
                </a:cubicBezTo>
              </a:path>
              <a:path w="994" h="943">
                <a:moveTo>
                  <a:pt x="15801" y="2877"/>
                </a:moveTo>
                <a:cubicBezTo>
                  <a:pt x="15784" y="2925"/>
                  <a:pt x="15715" y="3026"/>
                  <a:pt x="15801" y="3051"/>
                </a:cubicBezTo>
                <a:cubicBezTo>
                  <a:pt x="15879" y="3074"/>
                  <a:pt x="15922" y="3015"/>
                  <a:pt x="15925" y="2952"/>
                </a:cubicBezTo>
                <a:cubicBezTo>
                  <a:pt x="15929" y="2870"/>
                  <a:pt x="15902" y="2815"/>
                  <a:pt x="15825" y="2877"/>
                </a:cubicBezTo>
                <a:cubicBezTo>
                  <a:pt x="15817" y="2885"/>
                  <a:pt x="15809" y="2894"/>
                  <a:pt x="15801" y="29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1187280"/>
            <a:ext cx="1295280" cy="687600"/>
          </a:xfrm>
          <a:custGeom>
            <a:avLst/>
            <a:gdLst/>
            <a:ahLst/>
            <a:rect l="l" t="t" r="r" b="b"/>
            <a:pathLst>
              <a:path w="3598" h="1911">
                <a:moveTo>
                  <a:pt x="16346" y="4465"/>
                </a:moveTo>
                <a:cubicBezTo>
                  <a:pt x="16381" y="4396"/>
                  <a:pt x="16411" y="4314"/>
                  <a:pt x="16495" y="4291"/>
                </a:cubicBezTo>
                <a:cubicBezTo>
                  <a:pt x="16580" y="4267"/>
                  <a:pt x="16639" y="4280"/>
                  <a:pt x="16644" y="4366"/>
                </a:cubicBezTo>
                <a:cubicBezTo>
                  <a:pt x="16647" y="4415"/>
                  <a:pt x="16623" y="4478"/>
                  <a:pt x="16594" y="4514"/>
                </a:cubicBezTo>
                <a:cubicBezTo>
                  <a:pt x="16557" y="4560"/>
                  <a:pt x="16563" y="4560"/>
                  <a:pt x="16520" y="4539"/>
                </a:cubicBezTo>
                <a:cubicBezTo>
                  <a:pt x="16584" y="4515"/>
                  <a:pt x="16644" y="4493"/>
                  <a:pt x="16694" y="4564"/>
                </a:cubicBezTo>
                <a:cubicBezTo>
                  <a:pt x="16736" y="4624"/>
                  <a:pt x="16733" y="4733"/>
                  <a:pt x="16694" y="4787"/>
                </a:cubicBezTo>
                <a:cubicBezTo>
                  <a:pt x="16665" y="4827"/>
                  <a:pt x="16577" y="4868"/>
                  <a:pt x="16545" y="4862"/>
                </a:cubicBezTo>
                <a:cubicBezTo>
                  <a:pt x="16510" y="4856"/>
                  <a:pt x="16454" y="4809"/>
                  <a:pt x="16421" y="4787"/>
                </a:cubicBezTo>
              </a:path>
              <a:path w="3598" h="1911">
                <a:moveTo>
                  <a:pt x="16793" y="4440"/>
                </a:moveTo>
                <a:cubicBezTo>
                  <a:pt x="16771" y="4523"/>
                  <a:pt x="16724" y="4625"/>
                  <a:pt x="16743" y="4713"/>
                </a:cubicBezTo>
                <a:cubicBezTo>
                  <a:pt x="16764" y="4808"/>
                  <a:pt x="16804" y="4846"/>
                  <a:pt x="16892" y="4812"/>
                </a:cubicBezTo>
                <a:cubicBezTo>
                  <a:pt x="16955" y="4787"/>
                  <a:pt x="16985" y="4721"/>
                  <a:pt x="17016" y="4663"/>
                </a:cubicBezTo>
                <a:cubicBezTo>
                  <a:pt x="17053" y="4594"/>
                  <a:pt x="17056" y="4510"/>
                  <a:pt x="17016" y="4440"/>
                </a:cubicBezTo>
                <a:cubicBezTo>
                  <a:pt x="16996" y="4404"/>
                  <a:pt x="16931" y="4350"/>
                  <a:pt x="16892" y="4341"/>
                </a:cubicBezTo>
                <a:cubicBezTo>
                  <a:pt x="16831" y="4327"/>
                  <a:pt x="16814" y="4350"/>
                  <a:pt x="16842" y="4291"/>
                </a:cubicBezTo>
              </a:path>
              <a:path w="3598" h="1911">
                <a:moveTo>
                  <a:pt x="17140" y="4068"/>
                </a:moveTo>
                <a:cubicBezTo>
                  <a:pt x="17122" y="4171"/>
                  <a:pt x="17095" y="4193"/>
                  <a:pt x="17140" y="4266"/>
                </a:cubicBezTo>
                <a:cubicBezTo>
                  <a:pt x="17209" y="4224"/>
                  <a:pt x="17259" y="4200"/>
                  <a:pt x="17264" y="4118"/>
                </a:cubicBezTo>
                <a:cubicBezTo>
                  <a:pt x="17270" y="4013"/>
                  <a:pt x="17226" y="4018"/>
                  <a:pt x="17140" y="4018"/>
                </a:cubicBezTo>
                <a:cubicBezTo>
                  <a:pt x="17132" y="4018"/>
                  <a:pt x="17123" y="4018"/>
                  <a:pt x="17115" y="4018"/>
                </a:cubicBezTo>
              </a:path>
              <a:path w="3598" h="1911">
                <a:moveTo>
                  <a:pt x="17735" y="3522"/>
                </a:moveTo>
                <a:cubicBezTo>
                  <a:pt x="17774" y="3498"/>
                  <a:pt x="17858" y="3457"/>
                  <a:pt x="17909" y="3448"/>
                </a:cubicBezTo>
                <a:cubicBezTo>
                  <a:pt x="18044" y="3425"/>
                  <a:pt x="18172" y="3376"/>
                  <a:pt x="18306" y="3349"/>
                </a:cubicBezTo>
                <a:cubicBezTo>
                  <a:pt x="18372" y="3336"/>
                  <a:pt x="18439" y="3310"/>
                  <a:pt x="18504" y="3299"/>
                </a:cubicBezTo>
                <a:cubicBezTo>
                  <a:pt x="18549" y="3299"/>
                  <a:pt x="18569" y="3296"/>
                  <a:pt x="18529" y="3324"/>
                </a:cubicBezTo>
              </a:path>
              <a:path w="3598" h="1911">
                <a:moveTo>
                  <a:pt x="17909" y="3423"/>
                </a:moveTo>
                <a:cubicBezTo>
                  <a:pt x="17949" y="3523"/>
                  <a:pt x="17953" y="3619"/>
                  <a:pt x="17983" y="3721"/>
                </a:cubicBezTo>
                <a:cubicBezTo>
                  <a:pt x="18012" y="3820"/>
                  <a:pt x="18032" y="3923"/>
                  <a:pt x="18058" y="4018"/>
                </a:cubicBezTo>
                <a:cubicBezTo>
                  <a:pt x="18073" y="4074"/>
                  <a:pt x="18097" y="4142"/>
                  <a:pt x="18107" y="4192"/>
                </a:cubicBezTo>
                <a:cubicBezTo>
                  <a:pt x="18107" y="4242"/>
                  <a:pt x="18107" y="4259"/>
                  <a:pt x="18107" y="4192"/>
                </a:cubicBezTo>
              </a:path>
              <a:path w="3598" h="1911">
                <a:moveTo>
                  <a:pt x="18157" y="3497"/>
                </a:moveTo>
                <a:cubicBezTo>
                  <a:pt x="18187" y="3682"/>
                  <a:pt x="18217" y="3866"/>
                  <a:pt x="18281" y="4043"/>
                </a:cubicBezTo>
                <a:cubicBezTo>
                  <a:pt x="18305" y="4110"/>
                  <a:pt x="18319" y="4135"/>
                  <a:pt x="18355" y="4192"/>
                </a:cubicBezTo>
                <a:cubicBezTo>
                  <a:pt x="18377" y="4236"/>
                  <a:pt x="18380" y="4257"/>
                  <a:pt x="18405" y="4217"/>
                </a:cubicBezTo>
              </a:path>
              <a:path w="3598" h="1911">
                <a:moveTo>
                  <a:pt x="17835" y="4366"/>
                </a:moveTo>
                <a:cubicBezTo>
                  <a:pt x="17941" y="4345"/>
                  <a:pt x="18032" y="4334"/>
                  <a:pt x="18132" y="4291"/>
                </a:cubicBezTo>
                <a:cubicBezTo>
                  <a:pt x="18206" y="4259"/>
                  <a:pt x="18283" y="4241"/>
                  <a:pt x="18355" y="4217"/>
                </a:cubicBezTo>
                <a:cubicBezTo>
                  <a:pt x="18406" y="4200"/>
                  <a:pt x="18450" y="4176"/>
                  <a:pt x="18504" y="4167"/>
                </a:cubicBezTo>
              </a:path>
              <a:path w="3598" h="1911">
                <a:moveTo>
                  <a:pt x="18107" y="4465"/>
                </a:moveTo>
                <a:cubicBezTo>
                  <a:pt x="18107" y="4594"/>
                  <a:pt x="18120" y="4713"/>
                  <a:pt x="18132" y="4837"/>
                </a:cubicBezTo>
                <a:cubicBezTo>
                  <a:pt x="18141" y="4934"/>
                  <a:pt x="18143" y="5027"/>
                  <a:pt x="18207" y="5110"/>
                </a:cubicBezTo>
                <a:cubicBezTo>
                  <a:pt x="18277" y="5200"/>
                  <a:pt x="18365" y="5193"/>
                  <a:pt x="18455" y="5135"/>
                </a:cubicBezTo>
                <a:cubicBezTo>
                  <a:pt x="18511" y="5099"/>
                  <a:pt x="18571" y="5017"/>
                  <a:pt x="18604" y="4961"/>
                </a:cubicBezTo>
                <a:cubicBezTo>
                  <a:pt x="18630" y="4917"/>
                  <a:pt x="18665" y="4790"/>
                  <a:pt x="18653" y="4738"/>
                </a:cubicBezTo>
                <a:cubicBezTo>
                  <a:pt x="18637" y="4667"/>
                  <a:pt x="18634" y="4672"/>
                  <a:pt x="18579" y="4663"/>
                </a:cubicBezTo>
                <a:cubicBezTo>
                  <a:pt x="18506" y="4715"/>
                  <a:pt x="18469" y="4790"/>
                  <a:pt x="18455" y="4887"/>
                </a:cubicBezTo>
                <a:cubicBezTo>
                  <a:pt x="18442" y="4979"/>
                  <a:pt x="18430" y="5065"/>
                  <a:pt x="18430" y="5159"/>
                </a:cubicBezTo>
                <a:cubicBezTo>
                  <a:pt x="18430" y="5259"/>
                  <a:pt x="18488" y="5200"/>
                  <a:pt x="18529" y="5159"/>
                </a:cubicBezTo>
              </a:path>
              <a:path w="3598" h="1911">
                <a:moveTo>
                  <a:pt x="18852" y="4142"/>
                </a:moveTo>
                <a:cubicBezTo>
                  <a:pt x="18885" y="4252"/>
                  <a:pt x="18901" y="4341"/>
                  <a:pt x="18951" y="4440"/>
                </a:cubicBezTo>
                <a:cubicBezTo>
                  <a:pt x="18914" y="4385"/>
                  <a:pt x="18887" y="4308"/>
                  <a:pt x="18876" y="4242"/>
                </a:cubicBezTo>
                <a:cubicBezTo>
                  <a:pt x="18861" y="4152"/>
                  <a:pt x="18864" y="4027"/>
                  <a:pt x="18901" y="3944"/>
                </a:cubicBezTo>
                <a:cubicBezTo>
                  <a:pt x="18934" y="3870"/>
                  <a:pt x="18980" y="3855"/>
                  <a:pt x="19050" y="3820"/>
                </a:cubicBezTo>
              </a:path>
              <a:path w="3598" h="1911">
                <a:moveTo>
                  <a:pt x="19372" y="4018"/>
                </a:moveTo>
                <a:cubicBezTo>
                  <a:pt x="19434" y="4080"/>
                  <a:pt x="19337" y="3940"/>
                  <a:pt x="19323" y="3919"/>
                </a:cubicBezTo>
                <a:cubicBezTo>
                  <a:pt x="19293" y="3889"/>
                  <a:pt x="19282" y="3875"/>
                  <a:pt x="19273" y="3845"/>
                </a:cubicBezTo>
                <a:cubicBezTo>
                  <a:pt x="19197" y="3900"/>
                  <a:pt x="19199" y="3924"/>
                  <a:pt x="19199" y="4018"/>
                </a:cubicBezTo>
                <a:cubicBezTo>
                  <a:pt x="19199" y="4101"/>
                  <a:pt x="19180" y="4199"/>
                  <a:pt x="19224" y="4266"/>
                </a:cubicBezTo>
                <a:cubicBezTo>
                  <a:pt x="19282" y="4354"/>
                  <a:pt x="19351" y="4268"/>
                  <a:pt x="19372" y="4217"/>
                </a:cubicBezTo>
                <a:cubicBezTo>
                  <a:pt x="19406" y="4135"/>
                  <a:pt x="19397" y="4056"/>
                  <a:pt x="19397" y="3969"/>
                </a:cubicBezTo>
                <a:cubicBezTo>
                  <a:pt x="19413" y="4058"/>
                  <a:pt x="19433" y="4147"/>
                  <a:pt x="19496" y="4217"/>
                </a:cubicBezTo>
                <a:cubicBezTo>
                  <a:pt x="19551" y="4279"/>
                  <a:pt x="19629" y="4222"/>
                  <a:pt x="19670" y="4167"/>
                </a:cubicBezTo>
                <a:cubicBezTo>
                  <a:pt x="19695" y="4118"/>
                  <a:pt x="19704" y="4101"/>
                  <a:pt x="19720" y="4068"/>
                </a:cubicBezTo>
              </a:path>
              <a:path w="3598" h="1911">
                <a:moveTo>
                  <a:pt x="19794" y="3621"/>
                </a:moveTo>
                <a:cubicBezTo>
                  <a:pt x="19693" y="3679"/>
                  <a:pt x="19723" y="3716"/>
                  <a:pt x="19695" y="3820"/>
                </a:cubicBezTo>
                <a:cubicBezTo>
                  <a:pt x="19669" y="3913"/>
                  <a:pt x="19675" y="3928"/>
                  <a:pt x="19720" y="4018"/>
                </a:cubicBezTo>
                <a:cubicBezTo>
                  <a:pt x="19728" y="4035"/>
                  <a:pt x="19737" y="4051"/>
                  <a:pt x="19745" y="4068"/>
                </a:cubicBezTo>
                <a:cubicBezTo>
                  <a:pt x="19829" y="4019"/>
                  <a:pt x="19816" y="4003"/>
                  <a:pt x="19844" y="3919"/>
                </a:cubicBezTo>
                <a:cubicBezTo>
                  <a:pt x="19879" y="3816"/>
                  <a:pt x="19856" y="3774"/>
                  <a:pt x="19844" y="3671"/>
                </a:cubicBezTo>
                <a:cubicBezTo>
                  <a:pt x="19834" y="3584"/>
                  <a:pt x="19808" y="3505"/>
                  <a:pt x="19794" y="3423"/>
                </a:cubicBezTo>
                <a:cubicBezTo>
                  <a:pt x="19794" y="3373"/>
                  <a:pt x="19794" y="3357"/>
                  <a:pt x="19794" y="3324"/>
                </a:cubicBezTo>
                <a:cubicBezTo>
                  <a:pt x="19804" y="3448"/>
                  <a:pt x="19813" y="3575"/>
                  <a:pt x="19844" y="3696"/>
                </a:cubicBezTo>
                <a:cubicBezTo>
                  <a:pt x="19866" y="3780"/>
                  <a:pt x="19865" y="3849"/>
                  <a:pt x="19918" y="3919"/>
                </a:cubicBezTo>
                <a:cubicBezTo>
                  <a:pt x="19926" y="3927"/>
                  <a:pt x="19935" y="3936"/>
                  <a:pt x="19943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76200" y="714240"/>
            <a:ext cx="822600" cy="955800"/>
          </a:xfrm>
          <a:custGeom>
            <a:avLst/>
            <a:gdLst/>
            <a:ahLst/>
            <a:rect l="l" t="t" r="r" b="b"/>
            <a:pathLst>
              <a:path w="2283" h="2655">
                <a:moveTo>
                  <a:pt x="4936" y="4266"/>
                </a:moveTo>
                <a:cubicBezTo>
                  <a:pt x="4974" y="4304"/>
                  <a:pt x="5008" y="4345"/>
                  <a:pt x="5035" y="4390"/>
                </a:cubicBezTo>
                <a:cubicBezTo>
                  <a:pt x="5066" y="4442"/>
                  <a:pt x="5095" y="4493"/>
                  <a:pt x="5135" y="4539"/>
                </a:cubicBezTo>
                <a:cubicBezTo>
                  <a:pt x="5165" y="4573"/>
                  <a:pt x="5254" y="4700"/>
                  <a:pt x="5209" y="4589"/>
                </a:cubicBezTo>
              </a:path>
              <a:path w="2283" h="2655">
                <a:moveTo>
                  <a:pt x="5110" y="4093"/>
                </a:moveTo>
                <a:cubicBezTo>
                  <a:pt x="5110" y="4017"/>
                  <a:pt x="5118" y="3962"/>
                  <a:pt x="5159" y="3894"/>
                </a:cubicBezTo>
                <a:cubicBezTo>
                  <a:pt x="5193" y="3838"/>
                  <a:pt x="5236" y="3833"/>
                  <a:pt x="5283" y="3870"/>
                </a:cubicBezTo>
                <a:cubicBezTo>
                  <a:pt x="5337" y="3913"/>
                  <a:pt x="5313" y="4022"/>
                  <a:pt x="5308" y="4068"/>
                </a:cubicBezTo>
                <a:cubicBezTo>
                  <a:pt x="5305" y="4096"/>
                  <a:pt x="5283" y="4294"/>
                  <a:pt x="5283" y="4167"/>
                </a:cubicBezTo>
                <a:cubicBezTo>
                  <a:pt x="5283" y="4142"/>
                  <a:pt x="5314" y="4040"/>
                  <a:pt x="5358" y="4043"/>
                </a:cubicBezTo>
                <a:cubicBezTo>
                  <a:pt x="5448" y="4050"/>
                  <a:pt x="5467" y="4133"/>
                  <a:pt x="5507" y="4192"/>
                </a:cubicBezTo>
                <a:cubicBezTo>
                  <a:pt x="5528" y="4222"/>
                  <a:pt x="5569" y="4301"/>
                  <a:pt x="5556" y="4341"/>
                </a:cubicBezTo>
                <a:cubicBezTo>
                  <a:pt x="5541" y="4385"/>
                  <a:pt x="5489" y="4459"/>
                  <a:pt x="5432" y="4440"/>
                </a:cubicBezTo>
                <a:cubicBezTo>
                  <a:pt x="5407" y="4415"/>
                  <a:pt x="5399" y="4407"/>
                  <a:pt x="5383" y="4390"/>
                </a:cubicBezTo>
              </a:path>
              <a:path w="2283" h="2655">
                <a:moveTo>
                  <a:pt x="5407" y="3671"/>
                </a:moveTo>
                <a:cubicBezTo>
                  <a:pt x="5457" y="3614"/>
                  <a:pt x="5487" y="3556"/>
                  <a:pt x="5531" y="3497"/>
                </a:cubicBezTo>
                <a:cubicBezTo>
                  <a:pt x="5562" y="3456"/>
                  <a:pt x="5580" y="3410"/>
                  <a:pt x="5556" y="3398"/>
                </a:cubicBezTo>
              </a:path>
              <a:path w="2283" h="2655">
                <a:moveTo>
                  <a:pt x="5407" y="3671"/>
                </a:moveTo>
                <a:cubicBezTo>
                  <a:pt x="5389" y="3775"/>
                  <a:pt x="5408" y="3798"/>
                  <a:pt x="5457" y="3894"/>
                </a:cubicBezTo>
                <a:cubicBezTo>
                  <a:pt x="5486" y="3836"/>
                  <a:pt x="5480" y="3797"/>
                  <a:pt x="5531" y="3746"/>
                </a:cubicBezTo>
                <a:cubicBezTo>
                  <a:pt x="5595" y="3682"/>
                  <a:pt x="5654" y="3748"/>
                  <a:pt x="5705" y="3795"/>
                </a:cubicBezTo>
                <a:cubicBezTo>
                  <a:pt x="5727" y="3815"/>
                  <a:pt x="5771" y="3910"/>
                  <a:pt x="5779" y="3944"/>
                </a:cubicBezTo>
                <a:cubicBezTo>
                  <a:pt x="5791" y="3995"/>
                  <a:pt x="5776" y="4131"/>
                  <a:pt x="5730" y="4167"/>
                </a:cubicBezTo>
                <a:cubicBezTo>
                  <a:pt x="5652" y="4228"/>
                  <a:pt x="5621" y="4191"/>
                  <a:pt x="5581" y="4142"/>
                </a:cubicBezTo>
              </a:path>
              <a:path w="2283" h="2655">
                <a:moveTo>
                  <a:pt x="5705" y="3200"/>
                </a:moveTo>
                <a:cubicBezTo>
                  <a:pt x="5714" y="3287"/>
                  <a:pt x="5713" y="3276"/>
                  <a:pt x="5755" y="3349"/>
                </a:cubicBezTo>
                <a:cubicBezTo>
                  <a:pt x="5791" y="3312"/>
                  <a:pt x="5843" y="3284"/>
                  <a:pt x="5829" y="3225"/>
                </a:cubicBezTo>
                <a:cubicBezTo>
                  <a:pt x="5816" y="3170"/>
                  <a:pt x="5759" y="3094"/>
                  <a:pt x="5705" y="3101"/>
                </a:cubicBezTo>
                <a:cubicBezTo>
                  <a:pt x="5649" y="3128"/>
                  <a:pt x="5627" y="3136"/>
                  <a:pt x="5581" y="3125"/>
                </a:cubicBezTo>
              </a:path>
              <a:path w="2283" h="2655">
                <a:moveTo>
                  <a:pt x="3547" y="2679"/>
                </a:moveTo>
                <a:cubicBezTo>
                  <a:pt x="3577" y="2605"/>
                  <a:pt x="3592" y="2584"/>
                  <a:pt x="3646" y="2530"/>
                </a:cubicBezTo>
                <a:cubicBezTo>
                  <a:pt x="3709" y="2467"/>
                  <a:pt x="3760" y="2522"/>
                  <a:pt x="3795" y="2580"/>
                </a:cubicBezTo>
                <a:cubicBezTo>
                  <a:pt x="3832" y="2642"/>
                  <a:pt x="3820" y="2708"/>
                  <a:pt x="3820" y="2778"/>
                </a:cubicBezTo>
                <a:cubicBezTo>
                  <a:pt x="3820" y="2843"/>
                  <a:pt x="3779" y="2883"/>
                  <a:pt x="3770" y="2952"/>
                </a:cubicBezTo>
                <a:cubicBezTo>
                  <a:pt x="3751" y="2913"/>
                  <a:pt x="3759" y="2872"/>
                  <a:pt x="3795" y="2828"/>
                </a:cubicBezTo>
                <a:cubicBezTo>
                  <a:pt x="3849" y="2761"/>
                  <a:pt x="3956" y="2777"/>
                  <a:pt x="4018" y="2828"/>
                </a:cubicBezTo>
                <a:cubicBezTo>
                  <a:pt x="4057" y="2860"/>
                  <a:pt x="4085" y="2956"/>
                  <a:pt x="4093" y="3001"/>
                </a:cubicBezTo>
                <a:cubicBezTo>
                  <a:pt x="4106" y="3078"/>
                  <a:pt x="4096" y="3143"/>
                  <a:pt x="4043" y="3200"/>
                </a:cubicBezTo>
                <a:cubicBezTo>
                  <a:pt x="4006" y="3240"/>
                  <a:pt x="3952" y="3332"/>
                  <a:pt x="3894" y="3274"/>
                </a:cubicBezTo>
                <a:cubicBezTo>
                  <a:pt x="3894" y="3266"/>
                  <a:pt x="3894" y="3257"/>
                  <a:pt x="3894" y="3249"/>
                </a:cubicBezTo>
              </a:path>
              <a:path w="2283" h="2655">
                <a:moveTo>
                  <a:pt x="3894" y="2332"/>
                </a:moveTo>
                <a:cubicBezTo>
                  <a:pt x="3931" y="2259"/>
                  <a:pt x="3960" y="2216"/>
                  <a:pt x="4018" y="2158"/>
                </a:cubicBezTo>
                <a:cubicBezTo>
                  <a:pt x="4057" y="2118"/>
                  <a:pt x="4082" y="2075"/>
                  <a:pt x="4118" y="2034"/>
                </a:cubicBezTo>
                <a:cubicBezTo>
                  <a:pt x="4142" y="2009"/>
                  <a:pt x="4150" y="2001"/>
                  <a:pt x="4118" y="1984"/>
                </a:cubicBezTo>
              </a:path>
              <a:path w="2283" h="2655">
                <a:moveTo>
                  <a:pt x="3919" y="2208"/>
                </a:moveTo>
                <a:cubicBezTo>
                  <a:pt x="3968" y="2277"/>
                  <a:pt x="4028" y="2314"/>
                  <a:pt x="4068" y="2381"/>
                </a:cubicBezTo>
                <a:cubicBezTo>
                  <a:pt x="4109" y="2451"/>
                  <a:pt x="4153" y="2490"/>
                  <a:pt x="4192" y="2555"/>
                </a:cubicBezTo>
                <a:cubicBezTo>
                  <a:pt x="4226" y="2613"/>
                  <a:pt x="4240" y="2678"/>
                  <a:pt x="4266" y="2729"/>
                </a:cubicBezTo>
                <a:cubicBezTo>
                  <a:pt x="4307" y="2810"/>
                  <a:pt x="4332" y="2763"/>
                  <a:pt x="4341" y="2704"/>
                </a:cubicBezTo>
              </a:path>
              <a:path w="2283" h="2655">
                <a:moveTo>
                  <a:pt x="4118" y="2158"/>
                </a:moveTo>
                <a:cubicBezTo>
                  <a:pt x="4170" y="2230"/>
                  <a:pt x="4213" y="2313"/>
                  <a:pt x="4266" y="2381"/>
                </a:cubicBezTo>
                <a:cubicBezTo>
                  <a:pt x="4300" y="2425"/>
                  <a:pt x="4358" y="2515"/>
                  <a:pt x="4415" y="2530"/>
                </a:cubicBezTo>
                <a:cubicBezTo>
                  <a:pt x="4477" y="2547"/>
                  <a:pt x="4508" y="2564"/>
                  <a:pt x="4564" y="2530"/>
                </a:cubicBezTo>
              </a:path>
              <a:path w="2283" h="2655">
                <a:moveTo>
                  <a:pt x="4043" y="3473"/>
                </a:moveTo>
                <a:cubicBezTo>
                  <a:pt x="4074" y="3404"/>
                  <a:pt x="4100" y="3309"/>
                  <a:pt x="4142" y="3249"/>
                </a:cubicBezTo>
                <a:cubicBezTo>
                  <a:pt x="4202" y="3163"/>
                  <a:pt x="4281" y="3091"/>
                  <a:pt x="4341" y="3001"/>
                </a:cubicBezTo>
                <a:cubicBezTo>
                  <a:pt x="4398" y="2915"/>
                  <a:pt x="4479" y="2851"/>
                  <a:pt x="4539" y="2778"/>
                </a:cubicBezTo>
                <a:cubicBezTo>
                  <a:pt x="4553" y="2761"/>
                  <a:pt x="4676" y="2641"/>
                  <a:pt x="4614" y="2704"/>
                </a:cubicBezTo>
                <a:cubicBezTo>
                  <a:pt x="4606" y="2712"/>
                  <a:pt x="4597" y="2721"/>
                  <a:pt x="4589" y="2729"/>
                </a:cubicBezTo>
              </a:path>
              <a:path w="2283" h="2655">
                <a:moveTo>
                  <a:pt x="4440" y="3274"/>
                </a:moveTo>
                <a:cubicBezTo>
                  <a:pt x="4465" y="3340"/>
                  <a:pt x="4469" y="3408"/>
                  <a:pt x="4490" y="3473"/>
                </a:cubicBezTo>
                <a:cubicBezTo>
                  <a:pt x="4506" y="3521"/>
                  <a:pt x="4515" y="3557"/>
                  <a:pt x="4539" y="3597"/>
                </a:cubicBezTo>
                <a:cubicBezTo>
                  <a:pt x="4582" y="3563"/>
                  <a:pt x="4623" y="3536"/>
                  <a:pt x="4663" y="3497"/>
                </a:cubicBezTo>
                <a:cubicBezTo>
                  <a:pt x="4702" y="3459"/>
                  <a:pt x="4722" y="3412"/>
                  <a:pt x="4762" y="3373"/>
                </a:cubicBezTo>
                <a:cubicBezTo>
                  <a:pt x="4798" y="3337"/>
                  <a:pt x="4814" y="3294"/>
                  <a:pt x="4837" y="3249"/>
                </a:cubicBezTo>
              </a:path>
              <a:path w="2283" h="2655">
                <a:moveTo>
                  <a:pt x="4539" y="3026"/>
                </a:moveTo>
                <a:cubicBezTo>
                  <a:pt x="4575" y="3088"/>
                  <a:pt x="4618" y="3124"/>
                  <a:pt x="4663" y="3175"/>
                </a:cubicBezTo>
                <a:cubicBezTo>
                  <a:pt x="4726" y="3247"/>
                  <a:pt x="4779" y="3324"/>
                  <a:pt x="4837" y="3398"/>
                </a:cubicBezTo>
                <a:cubicBezTo>
                  <a:pt x="4870" y="3441"/>
                  <a:pt x="4897" y="3483"/>
                  <a:pt x="4936" y="3522"/>
                </a:cubicBezTo>
                <a:cubicBezTo>
                  <a:pt x="4972" y="3558"/>
                  <a:pt x="5080" y="3707"/>
                  <a:pt x="5035" y="35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2982960"/>
            <a:ext cx="83808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2629" y="9029"/>
                </a:moveTo>
                <a:cubicBezTo>
                  <a:pt x="2629" y="9098"/>
                  <a:pt x="2634" y="9146"/>
                  <a:pt x="2604" y="9203"/>
                </a:cubicBezTo>
                <a:cubicBezTo>
                  <a:pt x="2585" y="9240"/>
                  <a:pt x="2548" y="9308"/>
                  <a:pt x="2505" y="9327"/>
                </a:cubicBezTo>
                <a:cubicBezTo>
                  <a:pt x="2497" y="9327"/>
                  <a:pt x="2488" y="9327"/>
                  <a:pt x="2480" y="9327"/>
                </a:cubicBezTo>
              </a:path>
              <a:path w="2332" h="1043">
                <a:moveTo>
                  <a:pt x="298" y="8334"/>
                </a:moveTo>
                <a:cubicBezTo>
                  <a:pt x="361" y="8325"/>
                  <a:pt x="401" y="8310"/>
                  <a:pt x="471" y="8310"/>
                </a:cubicBezTo>
                <a:cubicBezTo>
                  <a:pt x="595" y="8310"/>
                  <a:pt x="719" y="8310"/>
                  <a:pt x="843" y="8310"/>
                </a:cubicBezTo>
              </a:path>
              <a:path w="2332" h="1043">
                <a:moveTo>
                  <a:pt x="372" y="8384"/>
                </a:moveTo>
                <a:cubicBezTo>
                  <a:pt x="372" y="8546"/>
                  <a:pt x="373" y="8702"/>
                  <a:pt x="347" y="8855"/>
                </a:cubicBezTo>
                <a:cubicBezTo>
                  <a:pt x="339" y="8901"/>
                  <a:pt x="347" y="8957"/>
                  <a:pt x="347" y="9004"/>
                </a:cubicBezTo>
              </a:path>
              <a:path w="2332" h="1043">
                <a:moveTo>
                  <a:pt x="571" y="8285"/>
                </a:moveTo>
                <a:cubicBezTo>
                  <a:pt x="571" y="8407"/>
                  <a:pt x="558" y="8541"/>
                  <a:pt x="595" y="8657"/>
                </a:cubicBezTo>
                <a:cubicBezTo>
                  <a:pt x="612" y="8711"/>
                  <a:pt x="622" y="8784"/>
                  <a:pt x="645" y="8830"/>
                </a:cubicBezTo>
                <a:cubicBezTo>
                  <a:pt x="669" y="8877"/>
                  <a:pt x="696" y="8927"/>
                  <a:pt x="719" y="8979"/>
                </a:cubicBezTo>
              </a:path>
              <a:path w="2332" h="1043">
                <a:moveTo>
                  <a:pt x="1141" y="8806"/>
                </a:moveTo>
                <a:cubicBezTo>
                  <a:pt x="1114" y="8904"/>
                  <a:pt x="1128" y="8917"/>
                  <a:pt x="1141" y="9004"/>
                </a:cubicBezTo>
                <a:cubicBezTo>
                  <a:pt x="1113" y="8957"/>
                  <a:pt x="1095" y="8865"/>
                  <a:pt x="1116" y="8806"/>
                </a:cubicBezTo>
                <a:cubicBezTo>
                  <a:pt x="1127" y="8775"/>
                  <a:pt x="1213" y="8711"/>
                  <a:pt x="1240" y="8682"/>
                </a:cubicBezTo>
                <a:cubicBezTo>
                  <a:pt x="1292" y="8630"/>
                  <a:pt x="1311" y="8613"/>
                  <a:pt x="1364" y="8607"/>
                </a:cubicBezTo>
              </a:path>
              <a:path w="2332" h="1043">
                <a:moveTo>
                  <a:pt x="1712" y="8781"/>
                </a:moveTo>
                <a:cubicBezTo>
                  <a:pt x="1676" y="8745"/>
                  <a:pt x="1640" y="8694"/>
                  <a:pt x="1588" y="8682"/>
                </a:cubicBezTo>
                <a:cubicBezTo>
                  <a:pt x="1512" y="8664"/>
                  <a:pt x="1498" y="8734"/>
                  <a:pt x="1463" y="8781"/>
                </a:cubicBezTo>
                <a:cubicBezTo>
                  <a:pt x="1417" y="8844"/>
                  <a:pt x="1394" y="8880"/>
                  <a:pt x="1439" y="8954"/>
                </a:cubicBezTo>
                <a:cubicBezTo>
                  <a:pt x="1473" y="9010"/>
                  <a:pt x="1515" y="9018"/>
                  <a:pt x="1563" y="8979"/>
                </a:cubicBezTo>
                <a:cubicBezTo>
                  <a:pt x="1618" y="8935"/>
                  <a:pt x="1629" y="8896"/>
                  <a:pt x="1637" y="8830"/>
                </a:cubicBezTo>
                <a:cubicBezTo>
                  <a:pt x="1652" y="8874"/>
                  <a:pt x="1673" y="9016"/>
                  <a:pt x="1736" y="9029"/>
                </a:cubicBezTo>
                <a:cubicBezTo>
                  <a:pt x="1818" y="9046"/>
                  <a:pt x="1898" y="9000"/>
                  <a:pt x="1960" y="8954"/>
                </a:cubicBezTo>
                <a:cubicBezTo>
                  <a:pt x="1968" y="8946"/>
                  <a:pt x="1976" y="8938"/>
                  <a:pt x="1984" y="8930"/>
                </a:cubicBezTo>
              </a:path>
              <a:path w="2332" h="1043">
                <a:moveTo>
                  <a:pt x="2084" y="8731"/>
                </a:moveTo>
                <a:cubicBezTo>
                  <a:pt x="2033" y="8681"/>
                  <a:pt x="2000" y="8659"/>
                  <a:pt x="1935" y="8706"/>
                </a:cubicBezTo>
                <a:cubicBezTo>
                  <a:pt x="1884" y="8743"/>
                  <a:pt x="1802" y="8786"/>
                  <a:pt x="1786" y="8855"/>
                </a:cubicBezTo>
                <a:cubicBezTo>
                  <a:pt x="1774" y="8907"/>
                  <a:pt x="1788" y="8940"/>
                  <a:pt x="1811" y="8979"/>
                </a:cubicBezTo>
                <a:cubicBezTo>
                  <a:pt x="1882" y="8970"/>
                  <a:pt x="1910" y="8956"/>
                  <a:pt x="1960" y="8905"/>
                </a:cubicBezTo>
                <a:cubicBezTo>
                  <a:pt x="2009" y="8856"/>
                  <a:pt x="2068" y="8776"/>
                  <a:pt x="2084" y="8706"/>
                </a:cubicBezTo>
                <a:cubicBezTo>
                  <a:pt x="2097" y="8646"/>
                  <a:pt x="2105" y="8568"/>
                  <a:pt x="2108" y="8508"/>
                </a:cubicBezTo>
                <a:cubicBezTo>
                  <a:pt x="2108" y="8456"/>
                  <a:pt x="2107" y="8438"/>
                  <a:pt x="2084" y="8409"/>
                </a:cubicBezTo>
                <a:cubicBezTo>
                  <a:pt x="2084" y="8506"/>
                  <a:pt x="2094" y="8591"/>
                  <a:pt x="2108" y="8682"/>
                </a:cubicBezTo>
                <a:cubicBezTo>
                  <a:pt x="2120" y="8763"/>
                  <a:pt x="2142" y="8802"/>
                  <a:pt x="2183" y="8880"/>
                </a:cubicBezTo>
                <a:cubicBezTo>
                  <a:pt x="2208" y="8930"/>
                  <a:pt x="2216" y="8946"/>
                  <a:pt x="2232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098720" y="4572000"/>
            <a:ext cx="642600" cy="376200"/>
          </a:xfrm>
          <a:custGeom>
            <a:avLst/>
            <a:gdLst/>
            <a:ahLst/>
            <a:rect l="l" t="t" r="r" b="b"/>
            <a:pathLst>
              <a:path w="1787" h="1043">
                <a:moveTo>
                  <a:pt x="3175" y="13072"/>
                </a:moveTo>
                <a:cubicBezTo>
                  <a:pt x="3230" y="13004"/>
                  <a:pt x="3233" y="13006"/>
                  <a:pt x="3299" y="12973"/>
                </a:cubicBezTo>
                <a:cubicBezTo>
                  <a:pt x="3338" y="12954"/>
                  <a:pt x="3377" y="12962"/>
                  <a:pt x="3423" y="12998"/>
                </a:cubicBezTo>
                <a:cubicBezTo>
                  <a:pt x="3490" y="13051"/>
                  <a:pt x="3473" y="13146"/>
                  <a:pt x="3473" y="13221"/>
                </a:cubicBezTo>
                <a:cubicBezTo>
                  <a:pt x="3473" y="13297"/>
                  <a:pt x="3429" y="13400"/>
                  <a:pt x="3398" y="13469"/>
                </a:cubicBezTo>
                <a:cubicBezTo>
                  <a:pt x="3365" y="13544"/>
                  <a:pt x="3323" y="13585"/>
                  <a:pt x="3274" y="13643"/>
                </a:cubicBezTo>
                <a:cubicBezTo>
                  <a:pt x="3254" y="13667"/>
                  <a:pt x="3158" y="13703"/>
                  <a:pt x="3125" y="13692"/>
                </a:cubicBezTo>
                <a:cubicBezTo>
                  <a:pt x="3048" y="13666"/>
                  <a:pt x="3033" y="13612"/>
                  <a:pt x="3076" y="13543"/>
                </a:cubicBezTo>
                <a:cubicBezTo>
                  <a:pt x="3105" y="13496"/>
                  <a:pt x="3172" y="13473"/>
                  <a:pt x="3225" y="13494"/>
                </a:cubicBezTo>
                <a:cubicBezTo>
                  <a:pt x="3271" y="13512"/>
                  <a:pt x="3340" y="13610"/>
                  <a:pt x="3373" y="13643"/>
                </a:cubicBezTo>
                <a:cubicBezTo>
                  <a:pt x="3405" y="13675"/>
                  <a:pt x="3400" y="13704"/>
                  <a:pt x="3423" y="13742"/>
                </a:cubicBezTo>
              </a:path>
              <a:path w="1787" h="1043">
                <a:moveTo>
                  <a:pt x="3795" y="13097"/>
                </a:moveTo>
                <a:cubicBezTo>
                  <a:pt x="3795" y="13113"/>
                  <a:pt x="3795" y="13130"/>
                  <a:pt x="3795" y="13146"/>
                </a:cubicBezTo>
                <a:cubicBezTo>
                  <a:pt x="3838" y="13104"/>
                  <a:pt x="3860" y="13040"/>
                  <a:pt x="3919" y="13022"/>
                </a:cubicBezTo>
                <a:cubicBezTo>
                  <a:pt x="3958" y="13011"/>
                  <a:pt x="4031" y="13056"/>
                  <a:pt x="4043" y="13097"/>
                </a:cubicBezTo>
                <a:cubicBezTo>
                  <a:pt x="4061" y="13159"/>
                  <a:pt x="4084" y="13253"/>
                  <a:pt x="4068" y="13320"/>
                </a:cubicBezTo>
                <a:cubicBezTo>
                  <a:pt x="4050" y="13394"/>
                  <a:pt x="4040" y="13476"/>
                  <a:pt x="3994" y="13543"/>
                </a:cubicBezTo>
                <a:cubicBezTo>
                  <a:pt x="3948" y="13610"/>
                  <a:pt x="3930" y="13636"/>
                  <a:pt x="3845" y="13643"/>
                </a:cubicBezTo>
                <a:cubicBezTo>
                  <a:pt x="3766" y="13649"/>
                  <a:pt x="3772" y="13568"/>
                  <a:pt x="3795" y="13519"/>
                </a:cubicBezTo>
                <a:cubicBezTo>
                  <a:pt x="3831" y="13442"/>
                  <a:pt x="3898" y="13485"/>
                  <a:pt x="3944" y="13519"/>
                </a:cubicBezTo>
                <a:cubicBezTo>
                  <a:pt x="3979" y="13545"/>
                  <a:pt x="4096" y="13645"/>
                  <a:pt x="4142" y="13618"/>
                </a:cubicBezTo>
                <a:cubicBezTo>
                  <a:pt x="4142" y="13610"/>
                  <a:pt x="4142" y="13601"/>
                  <a:pt x="4142" y="13593"/>
                </a:cubicBezTo>
              </a:path>
              <a:path w="1787" h="1043">
                <a:moveTo>
                  <a:pt x="4366" y="12998"/>
                </a:moveTo>
                <a:cubicBezTo>
                  <a:pt x="4442" y="12977"/>
                  <a:pt x="4525" y="12980"/>
                  <a:pt x="4589" y="12948"/>
                </a:cubicBezTo>
              </a:path>
              <a:path w="1787" h="1043">
                <a:moveTo>
                  <a:pt x="4366" y="12998"/>
                </a:moveTo>
                <a:cubicBezTo>
                  <a:pt x="4330" y="13082"/>
                  <a:pt x="4264" y="13165"/>
                  <a:pt x="4390" y="13171"/>
                </a:cubicBezTo>
                <a:cubicBezTo>
                  <a:pt x="4454" y="13174"/>
                  <a:pt x="4515" y="13182"/>
                  <a:pt x="4564" y="13221"/>
                </a:cubicBezTo>
                <a:cubicBezTo>
                  <a:pt x="4621" y="13267"/>
                  <a:pt x="4628" y="13351"/>
                  <a:pt x="4614" y="13419"/>
                </a:cubicBezTo>
                <a:cubicBezTo>
                  <a:pt x="4605" y="13462"/>
                  <a:pt x="4558" y="13570"/>
                  <a:pt x="4514" y="13593"/>
                </a:cubicBezTo>
                <a:cubicBezTo>
                  <a:pt x="4444" y="13630"/>
                  <a:pt x="4327" y="13638"/>
                  <a:pt x="4266" y="13593"/>
                </a:cubicBezTo>
                <a:cubicBezTo>
                  <a:pt x="4237" y="13563"/>
                  <a:pt x="4226" y="13549"/>
                  <a:pt x="4217" y="13519"/>
                </a:cubicBezTo>
              </a:path>
              <a:path w="1787" h="1043">
                <a:moveTo>
                  <a:pt x="4688" y="12849"/>
                </a:moveTo>
                <a:cubicBezTo>
                  <a:pt x="4688" y="12930"/>
                  <a:pt x="4671" y="12987"/>
                  <a:pt x="4762" y="12998"/>
                </a:cubicBezTo>
                <a:cubicBezTo>
                  <a:pt x="4868" y="13011"/>
                  <a:pt x="4843" y="12886"/>
                  <a:pt x="4812" y="12824"/>
                </a:cubicBezTo>
                <a:cubicBezTo>
                  <a:pt x="4785" y="12771"/>
                  <a:pt x="4700" y="12752"/>
                  <a:pt x="4663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893960" y="5133960"/>
            <a:ext cx="633240" cy="1197000"/>
          </a:xfrm>
          <a:custGeom>
            <a:avLst/>
            <a:gdLst/>
            <a:ahLst/>
            <a:rect l="l" t="t" r="r" b="b"/>
            <a:pathLst>
              <a:path w="1762" h="3325">
                <a:moveTo>
                  <a:pt x="5953" y="14387"/>
                </a:moveTo>
                <a:cubicBezTo>
                  <a:pt x="5928" y="14336"/>
                  <a:pt x="5958" y="14333"/>
                  <a:pt x="6003" y="14288"/>
                </a:cubicBezTo>
                <a:cubicBezTo>
                  <a:pt x="6031" y="14260"/>
                  <a:pt x="6044" y="14251"/>
                  <a:pt x="6077" y="14263"/>
                </a:cubicBezTo>
                <a:cubicBezTo>
                  <a:pt x="6115" y="14337"/>
                  <a:pt x="6127" y="14378"/>
                  <a:pt x="6127" y="14461"/>
                </a:cubicBezTo>
                <a:cubicBezTo>
                  <a:pt x="6127" y="14588"/>
                  <a:pt x="6106" y="14650"/>
                  <a:pt x="6052" y="14759"/>
                </a:cubicBezTo>
                <a:cubicBezTo>
                  <a:pt x="6021" y="14821"/>
                  <a:pt x="5963" y="14893"/>
                  <a:pt x="5904" y="14932"/>
                </a:cubicBezTo>
                <a:cubicBezTo>
                  <a:pt x="5867" y="14957"/>
                  <a:pt x="5775" y="15022"/>
                  <a:pt x="5730" y="15007"/>
                </a:cubicBezTo>
                <a:cubicBezTo>
                  <a:pt x="5678" y="14989"/>
                  <a:pt x="5663" y="14902"/>
                  <a:pt x="5680" y="14858"/>
                </a:cubicBezTo>
                <a:cubicBezTo>
                  <a:pt x="5702" y="14801"/>
                  <a:pt x="5800" y="14835"/>
                  <a:pt x="5829" y="14858"/>
                </a:cubicBezTo>
                <a:cubicBezTo>
                  <a:pt x="5885" y="14903"/>
                  <a:pt x="5885" y="14976"/>
                  <a:pt x="5904" y="15032"/>
                </a:cubicBezTo>
                <a:cubicBezTo>
                  <a:pt x="5930" y="15108"/>
                  <a:pt x="5954" y="15086"/>
                  <a:pt x="6003" y="15056"/>
                </a:cubicBezTo>
              </a:path>
              <a:path w="1762" h="3325">
                <a:moveTo>
                  <a:pt x="6276" y="14486"/>
                </a:moveTo>
                <a:cubicBezTo>
                  <a:pt x="6254" y="14545"/>
                  <a:pt x="6187" y="14644"/>
                  <a:pt x="6201" y="14709"/>
                </a:cubicBezTo>
                <a:cubicBezTo>
                  <a:pt x="6214" y="14767"/>
                  <a:pt x="6263" y="14843"/>
                  <a:pt x="6325" y="14858"/>
                </a:cubicBezTo>
                <a:cubicBezTo>
                  <a:pt x="6370" y="14858"/>
                  <a:pt x="6383" y="14861"/>
                  <a:pt x="6400" y="14833"/>
                </a:cubicBezTo>
              </a:path>
              <a:path w="1762" h="3325">
                <a:moveTo>
                  <a:pt x="6499" y="14412"/>
                </a:moveTo>
                <a:cubicBezTo>
                  <a:pt x="6499" y="14488"/>
                  <a:pt x="6492" y="14563"/>
                  <a:pt x="6474" y="14635"/>
                </a:cubicBezTo>
                <a:cubicBezTo>
                  <a:pt x="6451" y="14725"/>
                  <a:pt x="6438" y="14820"/>
                  <a:pt x="6424" y="14908"/>
                </a:cubicBezTo>
                <a:cubicBezTo>
                  <a:pt x="6411" y="14989"/>
                  <a:pt x="6435" y="15059"/>
                  <a:pt x="6400" y="15131"/>
                </a:cubicBezTo>
              </a:path>
              <a:path w="1762" h="3325">
                <a:moveTo>
                  <a:pt x="6722" y="14560"/>
                </a:moveTo>
                <a:cubicBezTo>
                  <a:pt x="6689" y="14647"/>
                  <a:pt x="6670" y="14695"/>
                  <a:pt x="6623" y="14784"/>
                </a:cubicBezTo>
                <a:cubicBezTo>
                  <a:pt x="6580" y="14866"/>
                  <a:pt x="6571" y="14924"/>
                  <a:pt x="6548" y="15007"/>
                </a:cubicBezTo>
                <a:cubicBezTo>
                  <a:pt x="6526" y="15087"/>
                  <a:pt x="6513" y="15125"/>
                  <a:pt x="6548" y="15205"/>
                </a:cubicBezTo>
                <a:cubicBezTo>
                  <a:pt x="6582" y="15282"/>
                  <a:pt x="6620" y="15303"/>
                  <a:pt x="6697" y="15255"/>
                </a:cubicBezTo>
                <a:cubicBezTo>
                  <a:pt x="6720" y="15241"/>
                  <a:pt x="6767" y="15112"/>
                  <a:pt x="6772" y="15081"/>
                </a:cubicBezTo>
                <a:cubicBezTo>
                  <a:pt x="6793" y="14963"/>
                  <a:pt x="6768" y="14812"/>
                  <a:pt x="6747" y="14709"/>
                </a:cubicBezTo>
                <a:cubicBezTo>
                  <a:pt x="6747" y="14642"/>
                  <a:pt x="6743" y="14608"/>
                  <a:pt x="6722" y="14560"/>
                </a:cubicBezTo>
              </a:path>
              <a:path w="1762" h="3325">
                <a:moveTo>
                  <a:pt x="6921" y="14436"/>
                </a:moveTo>
                <a:cubicBezTo>
                  <a:pt x="6874" y="14483"/>
                  <a:pt x="6804" y="14533"/>
                  <a:pt x="6821" y="14610"/>
                </a:cubicBezTo>
                <a:cubicBezTo>
                  <a:pt x="6832" y="14658"/>
                  <a:pt x="6889" y="14728"/>
                  <a:pt x="6945" y="14709"/>
                </a:cubicBezTo>
                <a:cubicBezTo>
                  <a:pt x="6996" y="14692"/>
                  <a:pt x="7028" y="14607"/>
                  <a:pt x="7020" y="14560"/>
                </a:cubicBezTo>
                <a:cubicBezTo>
                  <a:pt x="7007" y="14488"/>
                  <a:pt x="6965" y="14441"/>
                  <a:pt x="6921" y="14387"/>
                </a:cubicBezTo>
              </a:path>
              <a:path w="1762" h="3325">
                <a:moveTo>
                  <a:pt x="5358" y="15478"/>
                </a:moveTo>
                <a:cubicBezTo>
                  <a:pt x="5351" y="15525"/>
                  <a:pt x="5328" y="15586"/>
                  <a:pt x="5308" y="15627"/>
                </a:cubicBezTo>
                <a:cubicBezTo>
                  <a:pt x="5280" y="15684"/>
                  <a:pt x="5237" y="15695"/>
                  <a:pt x="5259" y="15776"/>
                </a:cubicBezTo>
                <a:cubicBezTo>
                  <a:pt x="5278" y="15847"/>
                  <a:pt x="5332" y="15861"/>
                  <a:pt x="5383" y="15900"/>
                </a:cubicBezTo>
                <a:cubicBezTo>
                  <a:pt x="5474" y="15970"/>
                  <a:pt x="5490" y="15966"/>
                  <a:pt x="5606" y="15949"/>
                </a:cubicBezTo>
              </a:path>
              <a:path w="1762" h="3325">
                <a:moveTo>
                  <a:pt x="5705" y="15478"/>
                </a:moveTo>
                <a:cubicBezTo>
                  <a:pt x="5668" y="15539"/>
                  <a:pt x="5640" y="15651"/>
                  <a:pt x="5631" y="15726"/>
                </a:cubicBezTo>
                <a:cubicBezTo>
                  <a:pt x="5617" y="15835"/>
                  <a:pt x="5606" y="15938"/>
                  <a:pt x="5606" y="16049"/>
                </a:cubicBezTo>
                <a:cubicBezTo>
                  <a:pt x="5606" y="16168"/>
                  <a:pt x="5594" y="16285"/>
                  <a:pt x="5631" y="16396"/>
                </a:cubicBezTo>
              </a:path>
              <a:path w="1762" h="3325">
                <a:moveTo>
                  <a:pt x="5829" y="15701"/>
                </a:moveTo>
                <a:cubicBezTo>
                  <a:pt x="5907" y="15643"/>
                  <a:pt x="5953" y="15647"/>
                  <a:pt x="6052" y="15677"/>
                </a:cubicBezTo>
                <a:cubicBezTo>
                  <a:pt x="6129" y="15701"/>
                  <a:pt x="6192" y="15701"/>
                  <a:pt x="6276" y="15701"/>
                </a:cubicBezTo>
                <a:cubicBezTo>
                  <a:pt x="6320" y="15701"/>
                  <a:pt x="6333" y="15704"/>
                  <a:pt x="6350" y="15677"/>
                </a:cubicBezTo>
              </a:path>
              <a:path w="1762" h="3325">
                <a:moveTo>
                  <a:pt x="6052" y="15751"/>
                </a:moveTo>
                <a:cubicBezTo>
                  <a:pt x="6034" y="15874"/>
                  <a:pt x="6009" y="16000"/>
                  <a:pt x="6003" y="16123"/>
                </a:cubicBezTo>
                <a:cubicBezTo>
                  <a:pt x="6001" y="16164"/>
                  <a:pt x="6003" y="16206"/>
                  <a:pt x="6003" y="16247"/>
                </a:cubicBezTo>
              </a:path>
              <a:path w="1762" h="3325">
                <a:moveTo>
                  <a:pt x="6226" y="15677"/>
                </a:moveTo>
                <a:cubicBezTo>
                  <a:pt x="6201" y="15751"/>
                  <a:pt x="6185" y="15846"/>
                  <a:pt x="6176" y="15925"/>
                </a:cubicBezTo>
                <a:cubicBezTo>
                  <a:pt x="6159" y="16070"/>
                  <a:pt x="6176" y="16225"/>
                  <a:pt x="6176" y="16371"/>
                </a:cubicBezTo>
              </a:path>
              <a:path w="1762" h="3325">
                <a:moveTo>
                  <a:pt x="6672" y="16197"/>
                </a:moveTo>
                <a:cubicBezTo>
                  <a:pt x="6583" y="16230"/>
                  <a:pt x="6504" y="16271"/>
                  <a:pt x="6424" y="16321"/>
                </a:cubicBezTo>
                <a:cubicBezTo>
                  <a:pt x="6331" y="16379"/>
                  <a:pt x="6204" y="16414"/>
                  <a:pt x="6127" y="16495"/>
                </a:cubicBezTo>
                <a:cubicBezTo>
                  <a:pt x="6041" y="16585"/>
                  <a:pt x="5946" y="16655"/>
                  <a:pt x="5854" y="16743"/>
                </a:cubicBezTo>
                <a:cubicBezTo>
                  <a:pt x="5762" y="16831"/>
                  <a:pt x="5580" y="17007"/>
                  <a:pt x="5556" y="17066"/>
                </a:cubicBezTo>
              </a:path>
              <a:path w="1762" h="3325">
                <a:moveTo>
                  <a:pt x="6102" y="16768"/>
                </a:moveTo>
                <a:cubicBezTo>
                  <a:pt x="6192" y="16734"/>
                  <a:pt x="6215" y="16750"/>
                  <a:pt x="6300" y="16793"/>
                </a:cubicBezTo>
                <a:cubicBezTo>
                  <a:pt x="6375" y="16831"/>
                  <a:pt x="6401" y="16861"/>
                  <a:pt x="6350" y="16942"/>
                </a:cubicBezTo>
                <a:cubicBezTo>
                  <a:pt x="6326" y="16981"/>
                  <a:pt x="6236" y="17009"/>
                  <a:pt x="6201" y="17016"/>
                </a:cubicBezTo>
                <a:cubicBezTo>
                  <a:pt x="6185" y="17016"/>
                  <a:pt x="6168" y="17016"/>
                  <a:pt x="6152" y="17016"/>
                </a:cubicBezTo>
                <a:cubicBezTo>
                  <a:pt x="6212" y="17024"/>
                  <a:pt x="6279" y="17030"/>
                  <a:pt x="6325" y="17066"/>
                </a:cubicBezTo>
                <a:cubicBezTo>
                  <a:pt x="6374" y="17105"/>
                  <a:pt x="6392" y="17204"/>
                  <a:pt x="6375" y="17264"/>
                </a:cubicBezTo>
                <a:cubicBezTo>
                  <a:pt x="6354" y="17340"/>
                  <a:pt x="6347" y="17418"/>
                  <a:pt x="6300" y="17487"/>
                </a:cubicBezTo>
                <a:cubicBezTo>
                  <a:pt x="6275" y="17524"/>
                  <a:pt x="6220" y="17577"/>
                  <a:pt x="6176" y="17587"/>
                </a:cubicBezTo>
                <a:cubicBezTo>
                  <a:pt x="6107" y="17604"/>
                  <a:pt x="6073" y="17582"/>
                  <a:pt x="6028" y="17537"/>
                </a:cubicBezTo>
                <a:cubicBezTo>
                  <a:pt x="6003" y="17512"/>
                  <a:pt x="5978" y="17487"/>
                  <a:pt x="5953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177920" y="4089240"/>
            <a:ext cx="393840" cy="339840"/>
          </a:xfrm>
          <a:custGeom>
            <a:avLst/>
            <a:gdLst/>
            <a:ahLst/>
            <a:rect l="l" t="t" r="r" b="b"/>
            <a:pathLst>
              <a:path w="1093" h="943">
                <a:moveTo>
                  <a:pt x="3274" y="11931"/>
                </a:moveTo>
                <a:cubicBezTo>
                  <a:pt x="3298" y="11902"/>
                  <a:pt x="3333" y="11819"/>
                  <a:pt x="3373" y="11807"/>
                </a:cubicBezTo>
                <a:cubicBezTo>
                  <a:pt x="3464" y="11781"/>
                  <a:pt x="3525" y="11819"/>
                  <a:pt x="3547" y="11906"/>
                </a:cubicBezTo>
                <a:cubicBezTo>
                  <a:pt x="3566" y="11980"/>
                  <a:pt x="3562" y="12140"/>
                  <a:pt x="3522" y="12204"/>
                </a:cubicBezTo>
                <a:cubicBezTo>
                  <a:pt x="3491" y="12254"/>
                  <a:pt x="3452" y="12275"/>
                  <a:pt x="3398" y="12278"/>
                </a:cubicBezTo>
                <a:cubicBezTo>
                  <a:pt x="3359" y="12280"/>
                  <a:pt x="3287" y="12251"/>
                  <a:pt x="3274" y="12204"/>
                </a:cubicBezTo>
                <a:cubicBezTo>
                  <a:pt x="3248" y="12112"/>
                  <a:pt x="3327" y="12090"/>
                  <a:pt x="3398" y="12105"/>
                </a:cubicBezTo>
                <a:cubicBezTo>
                  <a:pt x="3474" y="12121"/>
                  <a:pt x="3497" y="12154"/>
                  <a:pt x="3547" y="12204"/>
                </a:cubicBezTo>
                <a:cubicBezTo>
                  <a:pt x="3572" y="12229"/>
                  <a:pt x="3580" y="12237"/>
                  <a:pt x="3597" y="12204"/>
                </a:cubicBezTo>
              </a:path>
              <a:path w="1093" h="943">
                <a:moveTo>
                  <a:pt x="3721" y="11733"/>
                </a:moveTo>
                <a:cubicBezTo>
                  <a:pt x="3721" y="11923"/>
                  <a:pt x="3721" y="12113"/>
                  <a:pt x="3721" y="12303"/>
                </a:cubicBezTo>
              </a:path>
              <a:path w="1093" h="943">
                <a:moveTo>
                  <a:pt x="3969" y="11658"/>
                </a:moveTo>
                <a:cubicBezTo>
                  <a:pt x="3969" y="11750"/>
                  <a:pt x="3957" y="11821"/>
                  <a:pt x="3919" y="11906"/>
                </a:cubicBezTo>
                <a:cubicBezTo>
                  <a:pt x="3884" y="11983"/>
                  <a:pt x="3879" y="12075"/>
                  <a:pt x="3919" y="12154"/>
                </a:cubicBezTo>
                <a:cubicBezTo>
                  <a:pt x="3949" y="12184"/>
                  <a:pt x="3963" y="12195"/>
                  <a:pt x="3994" y="12204"/>
                </a:cubicBezTo>
                <a:cubicBezTo>
                  <a:pt x="4040" y="12157"/>
                  <a:pt x="4085" y="12137"/>
                  <a:pt x="4118" y="12080"/>
                </a:cubicBezTo>
                <a:cubicBezTo>
                  <a:pt x="4159" y="12009"/>
                  <a:pt x="4167" y="11961"/>
                  <a:pt x="4167" y="11881"/>
                </a:cubicBezTo>
                <a:cubicBezTo>
                  <a:pt x="4167" y="11805"/>
                  <a:pt x="4163" y="11749"/>
                  <a:pt x="4118" y="11683"/>
                </a:cubicBezTo>
                <a:cubicBezTo>
                  <a:pt x="4087" y="11638"/>
                  <a:pt x="4038" y="11624"/>
                  <a:pt x="4018" y="11584"/>
                </a:cubicBezTo>
              </a:path>
              <a:path w="1093" h="943">
                <a:moveTo>
                  <a:pt x="4242" y="11361"/>
                </a:moveTo>
                <a:cubicBezTo>
                  <a:pt x="4199" y="11438"/>
                  <a:pt x="4179" y="11479"/>
                  <a:pt x="4167" y="11559"/>
                </a:cubicBezTo>
                <a:cubicBezTo>
                  <a:pt x="4238" y="11595"/>
                  <a:pt x="4278" y="11590"/>
                  <a:pt x="4341" y="11534"/>
                </a:cubicBezTo>
                <a:cubicBezTo>
                  <a:pt x="4407" y="11474"/>
                  <a:pt x="4346" y="11417"/>
                  <a:pt x="4291" y="11385"/>
                </a:cubicBezTo>
                <a:cubicBezTo>
                  <a:pt x="4275" y="11377"/>
                  <a:pt x="4258" y="11369"/>
                  <a:pt x="4242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00040" y="4768920"/>
            <a:ext cx="357120" cy="723960"/>
          </a:xfrm>
          <a:custGeom>
            <a:avLst/>
            <a:gdLst/>
            <a:ahLst/>
            <a:rect l="l" t="t" r="r" b="b"/>
            <a:pathLst>
              <a:path w="993" h="2010">
                <a:moveTo>
                  <a:pt x="1488" y="13246"/>
                </a:moveTo>
                <a:cubicBezTo>
                  <a:pt x="1602" y="13246"/>
                  <a:pt x="1701" y="13255"/>
                  <a:pt x="1811" y="13271"/>
                </a:cubicBezTo>
                <a:cubicBezTo>
                  <a:pt x="1827" y="13271"/>
                  <a:pt x="1844" y="13271"/>
                  <a:pt x="1860" y="13271"/>
                </a:cubicBezTo>
              </a:path>
              <a:path w="993" h="2010">
                <a:moveTo>
                  <a:pt x="1488" y="13246"/>
                </a:moveTo>
                <a:cubicBezTo>
                  <a:pt x="1393" y="13341"/>
                  <a:pt x="1346" y="13354"/>
                  <a:pt x="1439" y="13469"/>
                </a:cubicBezTo>
                <a:cubicBezTo>
                  <a:pt x="1480" y="13453"/>
                  <a:pt x="1569" y="13404"/>
                  <a:pt x="1612" y="13419"/>
                </a:cubicBezTo>
                <a:cubicBezTo>
                  <a:pt x="1655" y="13434"/>
                  <a:pt x="1703" y="13486"/>
                  <a:pt x="1736" y="13519"/>
                </a:cubicBezTo>
                <a:cubicBezTo>
                  <a:pt x="1798" y="13581"/>
                  <a:pt x="1766" y="13620"/>
                  <a:pt x="1786" y="13692"/>
                </a:cubicBezTo>
                <a:cubicBezTo>
                  <a:pt x="1806" y="13764"/>
                  <a:pt x="1794" y="13817"/>
                  <a:pt x="1761" y="13891"/>
                </a:cubicBezTo>
                <a:cubicBezTo>
                  <a:pt x="1731" y="13957"/>
                  <a:pt x="1679" y="13986"/>
                  <a:pt x="1612" y="13990"/>
                </a:cubicBezTo>
                <a:cubicBezTo>
                  <a:pt x="1573" y="13992"/>
                  <a:pt x="1486" y="13970"/>
                  <a:pt x="1488" y="13915"/>
                </a:cubicBezTo>
                <a:cubicBezTo>
                  <a:pt x="1496" y="13882"/>
                  <a:pt x="1505" y="13849"/>
                  <a:pt x="1513" y="13816"/>
                </a:cubicBezTo>
              </a:path>
              <a:path w="993" h="2010">
                <a:moveTo>
                  <a:pt x="2009" y="13370"/>
                </a:moveTo>
                <a:cubicBezTo>
                  <a:pt x="2108" y="13370"/>
                  <a:pt x="2187" y="13390"/>
                  <a:pt x="2282" y="13395"/>
                </a:cubicBezTo>
                <a:cubicBezTo>
                  <a:pt x="2339" y="13395"/>
                  <a:pt x="2360" y="13390"/>
                  <a:pt x="2381" y="13345"/>
                </a:cubicBezTo>
              </a:path>
              <a:path w="993" h="2010">
                <a:moveTo>
                  <a:pt x="2158" y="13395"/>
                </a:moveTo>
                <a:cubicBezTo>
                  <a:pt x="2138" y="13485"/>
                  <a:pt x="2133" y="13552"/>
                  <a:pt x="2133" y="13643"/>
                </a:cubicBezTo>
                <a:cubicBezTo>
                  <a:pt x="2133" y="13730"/>
                  <a:pt x="2108" y="13804"/>
                  <a:pt x="2108" y="13891"/>
                </a:cubicBezTo>
                <a:cubicBezTo>
                  <a:pt x="2108" y="13932"/>
                  <a:pt x="2100" y="13948"/>
                  <a:pt x="2133" y="13940"/>
                </a:cubicBezTo>
              </a:path>
              <a:path w="993" h="2010">
                <a:moveTo>
                  <a:pt x="2282" y="13444"/>
                </a:moveTo>
                <a:cubicBezTo>
                  <a:pt x="2282" y="13598"/>
                  <a:pt x="2285" y="13742"/>
                  <a:pt x="2307" y="13891"/>
                </a:cubicBezTo>
                <a:cubicBezTo>
                  <a:pt x="2315" y="13946"/>
                  <a:pt x="2324" y="13960"/>
                  <a:pt x="2332" y="14015"/>
                </a:cubicBezTo>
              </a:path>
              <a:path w="993" h="2010">
                <a:moveTo>
                  <a:pt x="1414" y="14139"/>
                </a:moveTo>
                <a:cubicBezTo>
                  <a:pt x="1575" y="14139"/>
                  <a:pt x="1729" y="14146"/>
                  <a:pt x="1885" y="14163"/>
                </a:cubicBezTo>
                <a:cubicBezTo>
                  <a:pt x="2058" y="14182"/>
                  <a:pt x="2530" y="14163"/>
                  <a:pt x="2356" y="14163"/>
                </a:cubicBezTo>
              </a:path>
              <a:path w="993" h="2010">
                <a:moveTo>
                  <a:pt x="2034" y="14387"/>
                </a:moveTo>
                <a:cubicBezTo>
                  <a:pt x="1983" y="14453"/>
                  <a:pt x="1942" y="14503"/>
                  <a:pt x="1885" y="14560"/>
                </a:cubicBezTo>
                <a:cubicBezTo>
                  <a:pt x="1860" y="14585"/>
                  <a:pt x="1852" y="14593"/>
                  <a:pt x="1836" y="14610"/>
                </a:cubicBezTo>
                <a:cubicBezTo>
                  <a:pt x="1897" y="14647"/>
                  <a:pt x="1972" y="14630"/>
                  <a:pt x="2034" y="14660"/>
                </a:cubicBezTo>
                <a:cubicBezTo>
                  <a:pt x="2085" y="14685"/>
                  <a:pt x="2124" y="14704"/>
                  <a:pt x="2183" y="14709"/>
                </a:cubicBezTo>
                <a:cubicBezTo>
                  <a:pt x="2191" y="14709"/>
                  <a:pt x="2200" y="14709"/>
                  <a:pt x="2208" y="14709"/>
                </a:cubicBezTo>
              </a:path>
              <a:path w="993" h="2010">
                <a:moveTo>
                  <a:pt x="2208" y="14312"/>
                </a:moveTo>
                <a:cubicBezTo>
                  <a:pt x="2189" y="14401"/>
                  <a:pt x="2203" y="14500"/>
                  <a:pt x="2183" y="14585"/>
                </a:cubicBezTo>
                <a:cubicBezTo>
                  <a:pt x="2161" y="14677"/>
                  <a:pt x="2158" y="14759"/>
                  <a:pt x="2158" y="14858"/>
                </a:cubicBezTo>
                <a:cubicBezTo>
                  <a:pt x="2158" y="14946"/>
                  <a:pt x="2175" y="15025"/>
                  <a:pt x="2183" y="15106"/>
                </a:cubicBezTo>
                <a:cubicBezTo>
                  <a:pt x="2189" y="15164"/>
                  <a:pt x="2183" y="15288"/>
                  <a:pt x="2183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28760" y="4027320"/>
            <a:ext cx="428400" cy="517680"/>
          </a:xfrm>
          <a:custGeom>
            <a:avLst/>
            <a:gdLst/>
            <a:ahLst/>
            <a:rect l="l" t="t" r="r" b="b"/>
            <a:pathLst>
              <a:path w="1191" h="1440">
                <a:moveTo>
                  <a:pt x="1191" y="11311"/>
                </a:moveTo>
                <a:cubicBezTo>
                  <a:pt x="1258" y="11277"/>
                  <a:pt x="1333" y="11286"/>
                  <a:pt x="1414" y="11286"/>
                </a:cubicBezTo>
                <a:cubicBezTo>
                  <a:pt x="1488" y="11286"/>
                  <a:pt x="1563" y="11286"/>
                  <a:pt x="1637" y="11286"/>
                </a:cubicBezTo>
                <a:cubicBezTo>
                  <a:pt x="1628" y="11356"/>
                  <a:pt x="1599" y="11417"/>
                  <a:pt x="1588" y="11485"/>
                </a:cubicBezTo>
                <a:cubicBezTo>
                  <a:pt x="1576" y="11558"/>
                  <a:pt x="1567" y="11637"/>
                  <a:pt x="1563" y="11708"/>
                </a:cubicBezTo>
                <a:cubicBezTo>
                  <a:pt x="1560" y="11769"/>
                  <a:pt x="1563" y="11984"/>
                  <a:pt x="1563" y="11956"/>
                </a:cubicBezTo>
              </a:path>
              <a:path w="1191" h="1440">
                <a:moveTo>
                  <a:pt x="1761" y="11261"/>
                </a:moveTo>
                <a:cubicBezTo>
                  <a:pt x="1831" y="11236"/>
                  <a:pt x="1884" y="11237"/>
                  <a:pt x="1960" y="11237"/>
                </a:cubicBezTo>
                <a:cubicBezTo>
                  <a:pt x="2037" y="11237"/>
                  <a:pt x="2104" y="11212"/>
                  <a:pt x="2183" y="11212"/>
                </a:cubicBezTo>
                <a:cubicBezTo>
                  <a:pt x="2227" y="11212"/>
                  <a:pt x="2241" y="11215"/>
                  <a:pt x="2257" y="11187"/>
                </a:cubicBezTo>
              </a:path>
              <a:path w="1191" h="1440">
                <a:moveTo>
                  <a:pt x="1960" y="11237"/>
                </a:moveTo>
                <a:cubicBezTo>
                  <a:pt x="1943" y="11378"/>
                  <a:pt x="1933" y="11524"/>
                  <a:pt x="1910" y="11658"/>
                </a:cubicBezTo>
                <a:cubicBezTo>
                  <a:pt x="1907" y="11674"/>
                  <a:pt x="1910" y="11851"/>
                  <a:pt x="1910" y="11782"/>
                </a:cubicBezTo>
              </a:path>
              <a:path w="1191" h="1440">
                <a:moveTo>
                  <a:pt x="2084" y="11237"/>
                </a:moveTo>
                <a:cubicBezTo>
                  <a:pt x="2118" y="11342"/>
                  <a:pt x="2108" y="11446"/>
                  <a:pt x="2108" y="11559"/>
                </a:cubicBezTo>
                <a:cubicBezTo>
                  <a:pt x="2108" y="11634"/>
                  <a:pt x="2121" y="11688"/>
                  <a:pt x="2133" y="11757"/>
                </a:cubicBezTo>
                <a:cubicBezTo>
                  <a:pt x="2133" y="11802"/>
                  <a:pt x="2130" y="11815"/>
                  <a:pt x="2158" y="11832"/>
                </a:cubicBezTo>
              </a:path>
              <a:path w="1191" h="1440">
                <a:moveTo>
                  <a:pt x="1339" y="12055"/>
                </a:moveTo>
                <a:cubicBezTo>
                  <a:pt x="1438" y="12034"/>
                  <a:pt x="1540" y="12026"/>
                  <a:pt x="1637" y="12005"/>
                </a:cubicBezTo>
                <a:cubicBezTo>
                  <a:pt x="1744" y="11982"/>
                  <a:pt x="1856" y="11962"/>
                  <a:pt x="1960" y="11931"/>
                </a:cubicBezTo>
                <a:cubicBezTo>
                  <a:pt x="2034" y="11909"/>
                  <a:pt x="2116" y="11869"/>
                  <a:pt x="2183" y="11857"/>
                </a:cubicBezTo>
                <a:cubicBezTo>
                  <a:pt x="2227" y="11857"/>
                  <a:pt x="2241" y="11860"/>
                  <a:pt x="2257" y="11832"/>
                </a:cubicBezTo>
              </a:path>
              <a:path w="1191" h="1440">
                <a:moveTo>
                  <a:pt x="2034" y="12080"/>
                </a:moveTo>
                <a:cubicBezTo>
                  <a:pt x="1981" y="12162"/>
                  <a:pt x="1951" y="12241"/>
                  <a:pt x="1910" y="12328"/>
                </a:cubicBezTo>
                <a:cubicBezTo>
                  <a:pt x="1879" y="12394"/>
                  <a:pt x="1866" y="12466"/>
                  <a:pt x="1910" y="12526"/>
                </a:cubicBezTo>
                <a:cubicBezTo>
                  <a:pt x="1958" y="12591"/>
                  <a:pt x="2007" y="12598"/>
                  <a:pt x="2084" y="12601"/>
                </a:cubicBezTo>
                <a:cubicBezTo>
                  <a:pt x="2168" y="12604"/>
                  <a:pt x="2219" y="12608"/>
                  <a:pt x="2282" y="12551"/>
                </a:cubicBezTo>
                <a:cubicBezTo>
                  <a:pt x="2343" y="12496"/>
                  <a:pt x="2399" y="12459"/>
                  <a:pt x="2356" y="12378"/>
                </a:cubicBezTo>
                <a:cubicBezTo>
                  <a:pt x="2332" y="12353"/>
                  <a:pt x="2324" y="12344"/>
                  <a:pt x="2307" y="12328"/>
                </a:cubicBezTo>
                <a:cubicBezTo>
                  <a:pt x="2228" y="12391"/>
                  <a:pt x="2213" y="12393"/>
                  <a:pt x="2208" y="12502"/>
                </a:cubicBezTo>
                <a:cubicBezTo>
                  <a:pt x="2206" y="12553"/>
                  <a:pt x="2230" y="12608"/>
                  <a:pt x="2257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660840" y="5661000"/>
            <a:ext cx="430200" cy="777960"/>
          </a:xfrm>
          <a:custGeom>
            <a:avLst/>
            <a:gdLst/>
            <a:ahLst/>
            <a:rect l="l" t="t" r="r" b="b"/>
            <a:pathLst>
              <a:path w="1192" h="2159">
                <a:moveTo>
                  <a:pt x="10765" y="15875"/>
                </a:moveTo>
                <a:cubicBezTo>
                  <a:pt x="10726" y="15915"/>
                  <a:pt x="10655" y="15966"/>
                  <a:pt x="10641" y="16024"/>
                </a:cubicBezTo>
                <a:cubicBezTo>
                  <a:pt x="10624" y="16094"/>
                  <a:pt x="10609" y="16137"/>
                  <a:pt x="10641" y="16197"/>
                </a:cubicBezTo>
                <a:cubicBezTo>
                  <a:pt x="10671" y="16254"/>
                  <a:pt x="10712" y="16324"/>
                  <a:pt x="10790" y="16321"/>
                </a:cubicBezTo>
                <a:cubicBezTo>
                  <a:pt x="10868" y="16318"/>
                  <a:pt x="10923" y="16244"/>
                  <a:pt x="10939" y="16173"/>
                </a:cubicBezTo>
                <a:cubicBezTo>
                  <a:pt x="10956" y="16095"/>
                  <a:pt x="10925" y="16019"/>
                  <a:pt x="10914" y="15949"/>
                </a:cubicBezTo>
                <a:cubicBezTo>
                  <a:pt x="10903" y="15878"/>
                  <a:pt x="10891" y="15852"/>
                  <a:pt x="10840" y="15801"/>
                </a:cubicBezTo>
                <a:cubicBezTo>
                  <a:pt x="10812" y="15773"/>
                  <a:pt x="10803" y="15759"/>
                  <a:pt x="10815" y="15726"/>
                </a:cubicBezTo>
              </a:path>
              <a:path w="1192" h="2159">
                <a:moveTo>
                  <a:pt x="10170" y="16892"/>
                </a:moveTo>
                <a:cubicBezTo>
                  <a:pt x="10232" y="16815"/>
                  <a:pt x="10236" y="16797"/>
                  <a:pt x="10344" y="16793"/>
                </a:cubicBezTo>
                <a:cubicBezTo>
                  <a:pt x="10444" y="16789"/>
                  <a:pt x="10445" y="16797"/>
                  <a:pt x="10517" y="16842"/>
                </a:cubicBezTo>
                <a:cubicBezTo>
                  <a:pt x="10602" y="16896"/>
                  <a:pt x="10600" y="16939"/>
                  <a:pt x="10542" y="17016"/>
                </a:cubicBezTo>
                <a:cubicBezTo>
                  <a:pt x="10509" y="17059"/>
                  <a:pt x="10446" y="17103"/>
                  <a:pt x="10393" y="17115"/>
                </a:cubicBezTo>
                <a:cubicBezTo>
                  <a:pt x="10377" y="17115"/>
                  <a:pt x="10360" y="17115"/>
                  <a:pt x="10344" y="17115"/>
                </a:cubicBezTo>
                <a:cubicBezTo>
                  <a:pt x="10393" y="17145"/>
                  <a:pt x="10440" y="17151"/>
                  <a:pt x="10492" y="17190"/>
                </a:cubicBezTo>
                <a:cubicBezTo>
                  <a:pt x="10544" y="17228"/>
                  <a:pt x="10585" y="17299"/>
                  <a:pt x="10592" y="17363"/>
                </a:cubicBezTo>
                <a:cubicBezTo>
                  <a:pt x="10603" y="17462"/>
                  <a:pt x="10599" y="17554"/>
                  <a:pt x="10542" y="17636"/>
                </a:cubicBezTo>
                <a:cubicBezTo>
                  <a:pt x="10502" y="17693"/>
                  <a:pt x="10416" y="17666"/>
                  <a:pt x="10368" y="17661"/>
                </a:cubicBezTo>
                <a:cubicBezTo>
                  <a:pt x="10323" y="17656"/>
                  <a:pt x="10253" y="17626"/>
                  <a:pt x="10220" y="17587"/>
                </a:cubicBezTo>
                <a:cubicBezTo>
                  <a:pt x="10196" y="17539"/>
                  <a:pt x="10188" y="17524"/>
                  <a:pt x="10195" y="17487"/>
                </a:cubicBezTo>
              </a:path>
              <a:path w="1192" h="2159">
                <a:moveTo>
                  <a:pt x="10666" y="16867"/>
                </a:moveTo>
                <a:cubicBezTo>
                  <a:pt x="10771" y="16840"/>
                  <a:pt x="10816" y="16851"/>
                  <a:pt x="10914" y="16867"/>
                </a:cubicBezTo>
                <a:cubicBezTo>
                  <a:pt x="10985" y="16879"/>
                  <a:pt x="11050" y="16901"/>
                  <a:pt x="11112" y="16917"/>
                </a:cubicBezTo>
                <a:cubicBezTo>
                  <a:pt x="11179" y="16934"/>
                  <a:pt x="11228" y="16952"/>
                  <a:pt x="11286" y="16917"/>
                </a:cubicBezTo>
              </a:path>
              <a:path w="1192" h="2159">
                <a:moveTo>
                  <a:pt x="10889" y="16942"/>
                </a:moveTo>
                <a:cubicBezTo>
                  <a:pt x="10859" y="17058"/>
                  <a:pt x="10869" y="17180"/>
                  <a:pt x="10840" y="17289"/>
                </a:cubicBezTo>
                <a:cubicBezTo>
                  <a:pt x="10822" y="17355"/>
                  <a:pt x="10829" y="17391"/>
                  <a:pt x="10815" y="17462"/>
                </a:cubicBezTo>
              </a:path>
              <a:path w="1192" h="2159">
                <a:moveTo>
                  <a:pt x="11088" y="16917"/>
                </a:moveTo>
                <a:cubicBezTo>
                  <a:pt x="11071" y="17032"/>
                  <a:pt x="11063" y="17124"/>
                  <a:pt x="11063" y="17239"/>
                </a:cubicBezTo>
                <a:cubicBezTo>
                  <a:pt x="11063" y="17335"/>
                  <a:pt x="11043" y="17419"/>
                  <a:pt x="11038" y="17512"/>
                </a:cubicBezTo>
                <a:cubicBezTo>
                  <a:pt x="11034" y="17579"/>
                  <a:pt x="11051" y="17624"/>
                  <a:pt x="11063" y="17686"/>
                </a:cubicBezTo>
              </a:path>
              <a:path w="1192" h="2159">
                <a:moveTo>
                  <a:pt x="11361" y="17711"/>
                </a:moveTo>
                <a:cubicBezTo>
                  <a:pt x="11232" y="17717"/>
                  <a:pt x="11113" y="17745"/>
                  <a:pt x="10988" y="17760"/>
                </a:cubicBezTo>
                <a:cubicBezTo>
                  <a:pt x="10883" y="17772"/>
                  <a:pt x="10769" y="17776"/>
                  <a:pt x="10666" y="17785"/>
                </a:cubicBezTo>
                <a:cubicBezTo>
                  <a:pt x="10569" y="17794"/>
                  <a:pt x="10484" y="17786"/>
                  <a:pt x="10393" y="17810"/>
                </a:cubicBezTo>
                <a:cubicBezTo>
                  <a:pt x="10326" y="17828"/>
                  <a:pt x="10260" y="17860"/>
                  <a:pt x="10195" y="178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010200" y="3983040"/>
            <a:ext cx="293760" cy="544680"/>
          </a:xfrm>
          <a:custGeom>
            <a:avLst/>
            <a:gdLst/>
            <a:ahLst/>
            <a:rect l="l" t="t" r="r" b="b"/>
            <a:pathLst>
              <a:path w="819" h="1514">
                <a:moveTo>
                  <a:pt x="16694" y="12030"/>
                </a:moveTo>
                <a:cubicBezTo>
                  <a:pt x="16741" y="11946"/>
                  <a:pt x="16747" y="11967"/>
                  <a:pt x="16818" y="11931"/>
                </a:cubicBezTo>
                <a:cubicBezTo>
                  <a:pt x="16871" y="11904"/>
                  <a:pt x="16913" y="11888"/>
                  <a:pt x="16966" y="11931"/>
                </a:cubicBezTo>
                <a:cubicBezTo>
                  <a:pt x="17036" y="11988"/>
                  <a:pt x="17005" y="12059"/>
                  <a:pt x="16966" y="12129"/>
                </a:cubicBezTo>
                <a:cubicBezTo>
                  <a:pt x="16943" y="12170"/>
                  <a:pt x="16900" y="12180"/>
                  <a:pt x="16867" y="12204"/>
                </a:cubicBezTo>
                <a:cubicBezTo>
                  <a:pt x="16947" y="12204"/>
                  <a:pt x="17052" y="12183"/>
                  <a:pt x="17115" y="12229"/>
                </a:cubicBezTo>
                <a:cubicBezTo>
                  <a:pt x="17181" y="12278"/>
                  <a:pt x="17117" y="12332"/>
                  <a:pt x="17090" y="12378"/>
                </a:cubicBezTo>
                <a:cubicBezTo>
                  <a:pt x="17039" y="12464"/>
                  <a:pt x="16981" y="12504"/>
                  <a:pt x="16892" y="12551"/>
                </a:cubicBezTo>
                <a:cubicBezTo>
                  <a:pt x="16848" y="12573"/>
                  <a:pt x="16837" y="12586"/>
                  <a:pt x="16818" y="12551"/>
                </a:cubicBezTo>
              </a:path>
              <a:path w="819" h="1514">
                <a:moveTo>
                  <a:pt x="17041" y="11708"/>
                </a:moveTo>
                <a:cubicBezTo>
                  <a:pt x="17078" y="11680"/>
                  <a:pt x="17191" y="11604"/>
                  <a:pt x="17239" y="11683"/>
                </a:cubicBezTo>
                <a:cubicBezTo>
                  <a:pt x="17272" y="11737"/>
                  <a:pt x="17199" y="11843"/>
                  <a:pt x="17165" y="11881"/>
                </a:cubicBezTo>
                <a:cubicBezTo>
                  <a:pt x="17140" y="11906"/>
                  <a:pt x="17132" y="11914"/>
                  <a:pt x="17115" y="11931"/>
                </a:cubicBezTo>
                <a:cubicBezTo>
                  <a:pt x="17192" y="11975"/>
                  <a:pt x="17264" y="11953"/>
                  <a:pt x="17338" y="11981"/>
                </a:cubicBezTo>
                <a:cubicBezTo>
                  <a:pt x="17381" y="11997"/>
                  <a:pt x="17423" y="12063"/>
                  <a:pt x="17413" y="12105"/>
                </a:cubicBezTo>
                <a:cubicBezTo>
                  <a:pt x="17403" y="12145"/>
                  <a:pt x="17349" y="12206"/>
                  <a:pt x="17314" y="12229"/>
                </a:cubicBezTo>
                <a:cubicBezTo>
                  <a:pt x="17273" y="12249"/>
                  <a:pt x="17267" y="12258"/>
                  <a:pt x="17239" y="12254"/>
                </a:cubicBezTo>
              </a:path>
              <a:path w="819" h="1514">
                <a:moveTo>
                  <a:pt x="17338" y="11584"/>
                </a:moveTo>
                <a:cubicBezTo>
                  <a:pt x="17334" y="11674"/>
                  <a:pt x="17299" y="11821"/>
                  <a:pt x="17338" y="11906"/>
                </a:cubicBezTo>
                <a:cubicBezTo>
                  <a:pt x="17379" y="11994"/>
                  <a:pt x="17493" y="11903"/>
                  <a:pt x="17512" y="11857"/>
                </a:cubicBezTo>
                <a:cubicBezTo>
                  <a:pt x="17532" y="11810"/>
                  <a:pt x="17515" y="11697"/>
                  <a:pt x="17487" y="11658"/>
                </a:cubicBezTo>
                <a:cubicBezTo>
                  <a:pt x="17433" y="11583"/>
                  <a:pt x="17398" y="11584"/>
                  <a:pt x="17314" y="11584"/>
                </a:cubicBezTo>
                <a:cubicBezTo>
                  <a:pt x="17254" y="11584"/>
                  <a:pt x="17237" y="11580"/>
                  <a:pt x="17214" y="11534"/>
                </a:cubicBezTo>
              </a:path>
              <a:path w="819" h="1514">
                <a:moveTo>
                  <a:pt x="17363" y="11088"/>
                </a:moveTo>
                <a:cubicBezTo>
                  <a:pt x="17363" y="11175"/>
                  <a:pt x="17360" y="11167"/>
                  <a:pt x="17413" y="11237"/>
                </a:cubicBezTo>
                <a:cubicBezTo>
                  <a:pt x="17430" y="11207"/>
                  <a:pt x="17514" y="11091"/>
                  <a:pt x="17438" y="11063"/>
                </a:cubicBezTo>
                <a:cubicBezTo>
                  <a:pt x="17413" y="11088"/>
                  <a:pt x="17405" y="11096"/>
                  <a:pt x="1738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5616720"/>
            <a:ext cx="982800" cy="1108080"/>
          </a:xfrm>
          <a:custGeom>
            <a:avLst/>
            <a:gdLst/>
            <a:ahLst/>
            <a:rect l="l" t="t" r="r" b="b"/>
            <a:pathLst>
              <a:path w="2730" h="3077">
                <a:moveTo>
                  <a:pt x="9922" y="15801"/>
                </a:moveTo>
                <a:cubicBezTo>
                  <a:pt x="9914" y="15826"/>
                  <a:pt x="9905" y="15850"/>
                  <a:pt x="9897" y="15875"/>
                </a:cubicBezTo>
                <a:cubicBezTo>
                  <a:pt x="9927" y="15825"/>
                  <a:pt x="9927" y="15775"/>
                  <a:pt x="9971" y="15726"/>
                </a:cubicBezTo>
                <a:cubicBezTo>
                  <a:pt x="10047" y="15640"/>
                  <a:pt x="10050" y="15661"/>
                  <a:pt x="10145" y="15677"/>
                </a:cubicBezTo>
                <a:cubicBezTo>
                  <a:pt x="10222" y="15690"/>
                  <a:pt x="10238" y="15742"/>
                  <a:pt x="10220" y="15825"/>
                </a:cubicBezTo>
                <a:cubicBezTo>
                  <a:pt x="10203" y="15904"/>
                  <a:pt x="10159" y="15959"/>
                  <a:pt x="10120" y="16024"/>
                </a:cubicBezTo>
                <a:cubicBezTo>
                  <a:pt x="10084" y="16084"/>
                  <a:pt x="10047" y="16131"/>
                  <a:pt x="9971" y="16148"/>
                </a:cubicBezTo>
                <a:cubicBezTo>
                  <a:pt x="9894" y="16165"/>
                  <a:pt x="9880" y="16103"/>
                  <a:pt x="9872" y="16049"/>
                </a:cubicBezTo>
                <a:cubicBezTo>
                  <a:pt x="9926" y="16028"/>
                  <a:pt x="9966" y="16057"/>
                  <a:pt x="10021" y="16098"/>
                </a:cubicBezTo>
                <a:cubicBezTo>
                  <a:pt x="10078" y="16140"/>
                  <a:pt x="10139" y="16180"/>
                  <a:pt x="10195" y="16222"/>
                </a:cubicBezTo>
                <a:cubicBezTo>
                  <a:pt x="10203" y="16230"/>
                  <a:pt x="10212" y="16239"/>
                  <a:pt x="10220" y="16247"/>
                </a:cubicBezTo>
              </a:path>
              <a:path w="2730" h="3077">
                <a:moveTo>
                  <a:pt x="10368" y="15701"/>
                </a:moveTo>
                <a:cubicBezTo>
                  <a:pt x="10417" y="15701"/>
                  <a:pt x="10539" y="15672"/>
                  <a:pt x="10567" y="15677"/>
                </a:cubicBezTo>
                <a:cubicBezTo>
                  <a:pt x="10575" y="15685"/>
                  <a:pt x="10584" y="15693"/>
                  <a:pt x="10592" y="15701"/>
                </a:cubicBezTo>
                <a:cubicBezTo>
                  <a:pt x="10566" y="15745"/>
                  <a:pt x="10551" y="15821"/>
                  <a:pt x="10542" y="15875"/>
                </a:cubicBezTo>
                <a:cubicBezTo>
                  <a:pt x="10531" y="15940"/>
                  <a:pt x="10521" y="16009"/>
                  <a:pt x="10517" y="16073"/>
                </a:cubicBezTo>
                <a:cubicBezTo>
                  <a:pt x="10513" y="16151"/>
                  <a:pt x="10492" y="16217"/>
                  <a:pt x="10492" y="16297"/>
                </a:cubicBezTo>
                <a:cubicBezTo>
                  <a:pt x="10492" y="16289"/>
                  <a:pt x="10492" y="16280"/>
                  <a:pt x="10492" y="16272"/>
                </a:cubicBezTo>
              </a:path>
              <a:path w="2730" h="3077">
                <a:moveTo>
                  <a:pt x="10988" y="15627"/>
                </a:moveTo>
                <a:cubicBezTo>
                  <a:pt x="10955" y="15684"/>
                  <a:pt x="10955" y="15732"/>
                  <a:pt x="11038" y="15751"/>
                </a:cubicBezTo>
                <a:cubicBezTo>
                  <a:pt x="11121" y="15771"/>
                  <a:pt x="11126" y="15700"/>
                  <a:pt x="11088" y="15652"/>
                </a:cubicBezTo>
                <a:cubicBezTo>
                  <a:pt x="11063" y="15627"/>
                  <a:pt x="11055" y="15619"/>
                  <a:pt x="11038" y="15602"/>
                </a:cubicBezTo>
              </a:path>
              <a:path w="2730" h="3077">
                <a:moveTo>
                  <a:pt x="10641" y="18033"/>
                </a:moveTo>
                <a:cubicBezTo>
                  <a:pt x="10713" y="18033"/>
                  <a:pt x="10809" y="18013"/>
                  <a:pt x="10864" y="18058"/>
                </a:cubicBezTo>
                <a:cubicBezTo>
                  <a:pt x="10912" y="18097"/>
                  <a:pt x="10972" y="18114"/>
                  <a:pt x="10988" y="18182"/>
                </a:cubicBezTo>
                <a:cubicBezTo>
                  <a:pt x="11001" y="18238"/>
                  <a:pt x="11030" y="18320"/>
                  <a:pt x="11013" y="18380"/>
                </a:cubicBezTo>
                <a:cubicBezTo>
                  <a:pt x="10995" y="18443"/>
                  <a:pt x="10984" y="18504"/>
                  <a:pt x="10939" y="18554"/>
                </a:cubicBezTo>
                <a:cubicBezTo>
                  <a:pt x="10905" y="18592"/>
                  <a:pt x="10842" y="18637"/>
                  <a:pt x="10790" y="18628"/>
                </a:cubicBezTo>
                <a:cubicBezTo>
                  <a:pt x="10705" y="18613"/>
                  <a:pt x="10646" y="18588"/>
                  <a:pt x="10641" y="18504"/>
                </a:cubicBezTo>
                <a:cubicBezTo>
                  <a:pt x="10637" y="18429"/>
                  <a:pt x="10725" y="18405"/>
                  <a:pt x="10790" y="18430"/>
                </a:cubicBezTo>
                <a:cubicBezTo>
                  <a:pt x="10858" y="18456"/>
                  <a:pt x="10911" y="18500"/>
                  <a:pt x="10964" y="18554"/>
                </a:cubicBezTo>
                <a:cubicBezTo>
                  <a:pt x="10986" y="18576"/>
                  <a:pt x="11078" y="18680"/>
                  <a:pt x="11112" y="18678"/>
                </a:cubicBezTo>
                <a:cubicBezTo>
                  <a:pt x="11137" y="18670"/>
                  <a:pt x="11162" y="18661"/>
                  <a:pt x="11187" y="18653"/>
                </a:cubicBezTo>
              </a:path>
              <a:path w="2730" h="3077">
                <a:moveTo>
                  <a:pt x="11559" y="17661"/>
                </a:moveTo>
                <a:cubicBezTo>
                  <a:pt x="11559" y="17746"/>
                  <a:pt x="11547" y="17806"/>
                  <a:pt x="11534" y="17884"/>
                </a:cubicBezTo>
                <a:cubicBezTo>
                  <a:pt x="11534" y="17901"/>
                  <a:pt x="11534" y="17917"/>
                  <a:pt x="11534" y="17934"/>
                </a:cubicBezTo>
                <a:cubicBezTo>
                  <a:pt x="11534" y="17861"/>
                  <a:pt x="11537" y="17779"/>
                  <a:pt x="11559" y="17711"/>
                </a:cubicBezTo>
                <a:cubicBezTo>
                  <a:pt x="11580" y="17645"/>
                  <a:pt x="11592" y="17572"/>
                  <a:pt x="11633" y="17512"/>
                </a:cubicBezTo>
                <a:cubicBezTo>
                  <a:pt x="11676" y="17449"/>
                  <a:pt x="11710" y="17442"/>
                  <a:pt x="11782" y="17438"/>
                </a:cubicBezTo>
                <a:cubicBezTo>
                  <a:pt x="11799" y="17438"/>
                  <a:pt x="11815" y="17438"/>
                  <a:pt x="11832" y="17438"/>
                </a:cubicBezTo>
              </a:path>
              <a:path w="2730" h="3077">
                <a:moveTo>
                  <a:pt x="12080" y="17636"/>
                </a:moveTo>
                <a:cubicBezTo>
                  <a:pt x="12080" y="17746"/>
                  <a:pt x="12100" y="17564"/>
                  <a:pt x="12030" y="17537"/>
                </a:cubicBezTo>
                <a:cubicBezTo>
                  <a:pt x="11967" y="17513"/>
                  <a:pt x="11900" y="17573"/>
                  <a:pt x="11857" y="17611"/>
                </a:cubicBezTo>
                <a:cubicBezTo>
                  <a:pt x="11802" y="17661"/>
                  <a:pt x="11807" y="17687"/>
                  <a:pt x="11807" y="17760"/>
                </a:cubicBezTo>
                <a:cubicBezTo>
                  <a:pt x="11807" y="17846"/>
                  <a:pt x="11836" y="17909"/>
                  <a:pt x="11931" y="17859"/>
                </a:cubicBezTo>
                <a:cubicBezTo>
                  <a:pt x="11976" y="17835"/>
                  <a:pt x="12007" y="17776"/>
                  <a:pt x="12030" y="17735"/>
                </a:cubicBezTo>
                <a:cubicBezTo>
                  <a:pt x="12057" y="17814"/>
                  <a:pt x="12071" y="17875"/>
                  <a:pt x="12129" y="17934"/>
                </a:cubicBezTo>
                <a:cubicBezTo>
                  <a:pt x="12137" y="17942"/>
                  <a:pt x="12146" y="17951"/>
                  <a:pt x="12154" y="17959"/>
                </a:cubicBezTo>
              </a:path>
              <a:path w="2730" h="3077">
                <a:moveTo>
                  <a:pt x="12427" y="17760"/>
                </a:moveTo>
                <a:cubicBezTo>
                  <a:pt x="12414" y="17715"/>
                  <a:pt x="12396" y="17581"/>
                  <a:pt x="12328" y="17562"/>
                </a:cubicBezTo>
                <a:cubicBezTo>
                  <a:pt x="12286" y="17550"/>
                  <a:pt x="12193" y="17588"/>
                  <a:pt x="12179" y="17636"/>
                </a:cubicBezTo>
                <a:cubicBezTo>
                  <a:pt x="12165" y="17686"/>
                  <a:pt x="12163" y="17819"/>
                  <a:pt x="12204" y="17859"/>
                </a:cubicBezTo>
                <a:cubicBezTo>
                  <a:pt x="12234" y="17888"/>
                  <a:pt x="12310" y="17944"/>
                  <a:pt x="12353" y="17934"/>
                </a:cubicBezTo>
                <a:cubicBezTo>
                  <a:pt x="12418" y="17919"/>
                  <a:pt x="12478" y="17841"/>
                  <a:pt x="12502" y="17785"/>
                </a:cubicBezTo>
                <a:cubicBezTo>
                  <a:pt x="12535" y="17709"/>
                  <a:pt x="12588" y="17592"/>
                  <a:pt x="12601" y="17512"/>
                </a:cubicBezTo>
                <a:cubicBezTo>
                  <a:pt x="12613" y="17438"/>
                  <a:pt x="12612" y="17323"/>
                  <a:pt x="12576" y="17264"/>
                </a:cubicBezTo>
                <a:cubicBezTo>
                  <a:pt x="12526" y="17326"/>
                  <a:pt x="12508" y="17408"/>
                  <a:pt x="12502" y="17487"/>
                </a:cubicBezTo>
                <a:cubicBezTo>
                  <a:pt x="12490" y="17644"/>
                  <a:pt x="12485" y="17802"/>
                  <a:pt x="12477" y="179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5089680"/>
            <a:ext cx="455400" cy="455400"/>
          </a:xfrm>
          <a:custGeom>
            <a:avLst/>
            <a:gdLst/>
            <a:ahLst/>
            <a:rect l="l" t="t" r="r" b="b"/>
            <a:pathLst>
              <a:path w="1266" h="1266">
                <a:moveTo>
                  <a:pt x="13419" y="14759"/>
                </a:moveTo>
                <a:cubicBezTo>
                  <a:pt x="13471" y="14740"/>
                  <a:pt x="13560" y="14712"/>
                  <a:pt x="13618" y="14734"/>
                </a:cubicBezTo>
                <a:cubicBezTo>
                  <a:pt x="13690" y="14762"/>
                  <a:pt x="13665" y="14833"/>
                  <a:pt x="13643" y="14883"/>
                </a:cubicBezTo>
                <a:cubicBezTo>
                  <a:pt x="13619" y="14938"/>
                  <a:pt x="13478" y="15051"/>
                  <a:pt x="13519" y="15007"/>
                </a:cubicBezTo>
                <a:cubicBezTo>
                  <a:pt x="13569" y="14953"/>
                  <a:pt x="13640" y="14997"/>
                  <a:pt x="13692" y="15032"/>
                </a:cubicBezTo>
                <a:cubicBezTo>
                  <a:pt x="13738" y="15063"/>
                  <a:pt x="13760" y="15128"/>
                  <a:pt x="13767" y="15180"/>
                </a:cubicBezTo>
                <a:cubicBezTo>
                  <a:pt x="13778" y="15262"/>
                  <a:pt x="13765" y="15315"/>
                  <a:pt x="13717" y="15379"/>
                </a:cubicBezTo>
                <a:cubicBezTo>
                  <a:pt x="13679" y="15430"/>
                  <a:pt x="13585" y="15410"/>
                  <a:pt x="13543" y="15379"/>
                </a:cubicBezTo>
                <a:cubicBezTo>
                  <a:pt x="13481" y="15333"/>
                  <a:pt x="13455" y="15330"/>
                  <a:pt x="13444" y="15255"/>
                </a:cubicBezTo>
              </a:path>
              <a:path w="1266" h="1266">
                <a:moveTo>
                  <a:pt x="13891" y="14660"/>
                </a:moveTo>
                <a:cubicBezTo>
                  <a:pt x="13843" y="14706"/>
                  <a:pt x="13828" y="14754"/>
                  <a:pt x="13791" y="14808"/>
                </a:cubicBezTo>
                <a:cubicBezTo>
                  <a:pt x="13762" y="14851"/>
                  <a:pt x="13744" y="14904"/>
                  <a:pt x="13742" y="14957"/>
                </a:cubicBezTo>
                <a:cubicBezTo>
                  <a:pt x="13739" y="15024"/>
                  <a:pt x="13728" y="15111"/>
                  <a:pt x="13791" y="15156"/>
                </a:cubicBezTo>
                <a:cubicBezTo>
                  <a:pt x="13869" y="15211"/>
                  <a:pt x="13924" y="15216"/>
                  <a:pt x="14015" y="15180"/>
                </a:cubicBezTo>
                <a:cubicBezTo>
                  <a:pt x="14093" y="15149"/>
                  <a:pt x="14103" y="15058"/>
                  <a:pt x="14114" y="14982"/>
                </a:cubicBezTo>
                <a:cubicBezTo>
                  <a:pt x="14121" y="14930"/>
                  <a:pt x="14103" y="14810"/>
                  <a:pt x="14089" y="14759"/>
                </a:cubicBezTo>
                <a:cubicBezTo>
                  <a:pt x="14075" y="14707"/>
                  <a:pt x="14026" y="14671"/>
                  <a:pt x="13990" y="14635"/>
                </a:cubicBezTo>
                <a:cubicBezTo>
                  <a:pt x="13945" y="14590"/>
                  <a:pt x="13868" y="14603"/>
                  <a:pt x="13816" y="14635"/>
                </a:cubicBezTo>
                <a:cubicBezTo>
                  <a:pt x="13758" y="14671"/>
                  <a:pt x="13776" y="14680"/>
                  <a:pt x="13791" y="14734"/>
                </a:cubicBezTo>
              </a:path>
              <a:path w="1266" h="1266">
                <a:moveTo>
                  <a:pt x="14188" y="14585"/>
                </a:moveTo>
                <a:cubicBezTo>
                  <a:pt x="14154" y="14678"/>
                  <a:pt x="14161" y="14743"/>
                  <a:pt x="14139" y="14833"/>
                </a:cubicBezTo>
                <a:cubicBezTo>
                  <a:pt x="14123" y="14902"/>
                  <a:pt x="14122" y="14984"/>
                  <a:pt x="14163" y="15056"/>
                </a:cubicBezTo>
                <a:cubicBezTo>
                  <a:pt x="14197" y="15116"/>
                  <a:pt x="14241" y="15107"/>
                  <a:pt x="14288" y="15131"/>
                </a:cubicBezTo>
                <a:cubicBezTo>
                  <a:pt x="14317" y="15146"/>
                  <a:pt x="14465" y="15160"/>
                  <a:pt x="14486" y="15106"/>
                </a:cubicBezTo>
                <a:cubicBezTo>
                  <a:pt x="14507" y="15052"/>
                  <a:pt x="14511" y="14995"/>
                  <a:pt x="14511" y="14932"/>
                </a:cubicBezTo>
                <a:cubicBezTo>
                  <a:pt x="14511" y="14842"/>
                  <a:pt x="14500" y="14768"/>
                  <a:pt x="14486" y="14684"/>
                </a:cubicBezTo>
                <a:cubicBezTo>
                  <a:pt x="14475" y="14616"/>
                  <a:pt x="14455" y="14568"/>
                  <a:pt x="14412" y="14511"/>
                </a:cubicBezTo>
                <a:cubicBezTo>
                  <a:pt x="14385" y="14475"/>
                  <a:pt x="14305" y="14463"/>
                  <a:pt x="14263" y="14461"/>
                </a:cubicBezTo>
                <a:cubicBezTo>
                  <a:pt x="14196" y="14457"/>
                  <a:pt x="14131" y="14489"/>
                  <a:pt x="14114" y="14560"/>
                </a:cubicBezTo>
                <a:cubicBezTo>
                  <a:pt x="14114" y="14577"/>
                  <a:pt x="14114" y="14593"/>
                  <a:pt x="14114" y="14610"/>
                </a:cubicBezTo>
              </a:path>
              <a:path w="1266" h="1266">
                <a:moveTo>
                  <a:pt x="14461" y="14188"/>
                </a:moveTo>
                <a:cubicBezTo>
                  <a:pt x="14423" y="14272"/>
                  <a:pt x="14392" y="14330"/>
                  <a:pt x="14511" y="14337"/>
                </a:cubicBezTo>
                <a:cubicBezTo>
                  <a:pt x="14564" y="14340"/>
                  <a:pt x="14684" y="14309"/>
                  <a:pt x="14684" y="14238"/>
                </a:cubicBezTo>
                <a:cubicBezTo>
                  <a:pt x="14684" y="14179"/>
                  <a:pt x="14595" y="14159"/>
                  <a:pt x="14560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589720" y="4626000"/>
            <a:ext cx="1482480" cy="1000080"/>
          </a:xfrm>
          <a:custGeom>
            <a:avLst/>
            <a:gdLst/>
            <a:ahLst/>
            <a:rect l="l" t="t" r="r" b="b"/>
            <a:pathLst>
              <a:path w="4118" h="2779">
                <a:moveTo>
                  <a:pt x="15553" y="13568"/>
                </a:moveTo>
                <a:cubicBezTo>
                  <a:pt x="15478" y="13593"/>
                  <a:pt x="15545" y="13526"/>
                  <a:pt x="15577" y="13494"/>
                </a:cubicBezTo>
                <a:cubicBezTo>
                  <a:pt x="15613" y="13458"/>
                  <a:pt x="15684" y="13459"/>
                  <a:pt x="15701" y="13519"/>
                </a:cubicBezTo>
                <a:cubicBezTo>
                  <a:pt x="15718" y="13579"/>
                  <a:pt x="15664" y="13651"/>
                  <a:pt x="15627" y="13692"/>
                </a:cubicBezTo>
                <a:cubicBezTo>
                  <a:pt x="15602" y="13717"/>
                  <a:pt x="15594" y="13725"/>
                  <a:pt x="15577" y="13742"/>
                </a:cubicBezTo>
                <a:cubicBezTo>
                  <a:pt x="15625" y="13742"/>
                  <a:pt x="15728" y="13728"/>
                  <a:pt x="15751" y="13791"/>
                </a:cubicBezTo>
                <a:cubicBezTo>
                  <a:pt x="15770" y="13844"/>
                  <a:pt x="15791" y="13928"/>
                  <a:pt x="15776" y="13990"/>
                </a:cubicBezTo>
                <a:cubicBezTo>
                  <a:pt x="15769" y="14018"/>
                  <a:pt x="15709" y="14105"/>
                  <a:pt x="15677" y="14114"/>
                </a:cubicBezTo>
                <a:cubicBezTo>
                  <a:pt x="15609" y="14134"/>
                  <a:pt x="15571" y="14108"/>
                  <a:pt x="15528" y="14064"/>
                </a:cubicBezTo>
              </a:path>
              <a:path w="4118" h="2779">
                <a:moveTo>
                  <a:pt x="15825" y="13395"/>
                </a:moveTo>
                <a:cubicBezTo>
                  <a:pt x="15849" y="13462"/>
                  <a:pt x="15913" y="13550"/>
                  <a:pt x="15925" y="13618"/>
                </a:cubicBezTo>
                <a:cubicBezTo>
                  <a:pt x="15940" y="13701"/>
                  <a:pt x="15981" y="13741"/>
                  <a:pt x="15999" y="13816"/>
                </a:cubicBezTo>
                <a:cubicBezTo>
                  <a:pt x="16012" y="13870"/>
                  <a:pt x="16021" y="13880"/>
                  <a:pt x="15999" y="13891"/>
                </a:cubicBezTo>
              </a:path>
              <a:path w="4118" h="2779">
                <a:moveTo>
                  <a:pt x="15999" y="13271"/>
                </a:moveTo>
                <a:cubicBezTo>
                  <a:pt x="16058" y="13230"/>
                  <a:pt x="16117" y="13188"/>
                  <a:pt x="16173" y="13146"/>
                </a:cubicBezTo>
                <a:cubicBezTo>
                  <a:pt x="16204" y="13123"/>
                  <a:pt x="16214" y="13105"/>
                  <a:pt x="16222" y="13072"/>
                </a:cubicBezTo>
              </a:path>
              <a:path w="4118" h="2779">
                <a:moveTo>
                  <a:pt x="15949" y="13171"/>
                </a:moveTo>
                <a:cubicBezTo>
                  <a:pt x="15949" y="13239"/>
                  <a:pt x="15932" y="13318"/>
                  <a:pt x="15974" y="13370"/>
                </a:cubicBezTo>
                <a:cubicBezTo>
                  <a:pt x="16011" y="13416"/>
                  <a:pt x="16045" y="13422"/>
                  <a:pt x="16098" y="13395"/>
                </a:cubicBezTo>
                <a:cubicBezTo>
                  <a:pt x="16175" y="13356"/>
                  <a:pt x="16202" y="13360"/>
                  <a:pt x="16272" y="13419"/>
                </a:cubicBezTo>
                <a:cubicBezTo>
                  <a:pt x="16319" y="13458"/>
                  <a:pt x="16343" y="13483"/>
                  <a:pt x="16346" y="13543"/>
                </a:cubicBezTo>
                <a:cubicBezTo>
                  <a:pt x="16350" y="13630"/>
                  <a:pt x="16327" y="13637"/>
                  <a:pt x="16272" y="13692"/>
                </a:cubicBezTo>
                <a:cubicBezTo>
                  <a:pt x="16213" y="13751"/>
                  <a:pt x="16160" y="13750"/>
                  <a:pt x="16098" y="13717"/>
                </a:cubicBezTo>
                <a:cubicBezTo>
                  <a:pt x="16082" y="13709"/>
                  <a:pt x="16065" y="13700"/>
                  <a:pt x="16049" y="13692"/>
                </a:cubicBezTo>
              </a:path>
              <a:path w="4118" h="2779">
                <a:moveTo>
                  <a:pt x="16297" y="12923"/>
                </a:moveTo>
                <a:cubicBezTo>
                  <a:pt x="16306" y="12990"/>
                  <a:pt x="16338" y="13030"/>
                  <a:pt x="16421" y="12998"/>
                </a:cubicBezTo>
                <a:cubicBezTo>
                  <a:pt x="16490" y="12971"/>
                  <a:pt x="16489" y="12870"/>
                  <a:pt x="16421" y="12849"/>
                </a:cubicBezTo>
                <a:cubicBezTo>
                  <a:pt x="16404" y="12849"/>
                  <a:pt x="16388" y="12849"/>
                  <a:pt x="16371" y="12849"/>
                </a:cubicBezTo>
              </a:path>
              <a:path w="4118" h="2779">
                <a:moveTo>
                  <a:pt x="16570" y="13767"/>
                </a:moveTo>
                <a:cubicBezTo>
                  <a:pt x="16655" y="13757"/>
                  <a:pt x="16734" y="13729"/>
                  <a:pt x="16818" y="13717"/>
                </a:cubicBezTo>
                <a:cubicBezTo>
                  <a:pt x="16895" y="13706"/>
                  <a:pt x="16992" y="13712"/>
                  <a:pt x="17066" y="13692"/>
                </a:cubicBezTo>
                <a:cubicBezTo>
                  <a:pt x="17109" y="13680"/>
                  <a:pt x="17196" y="13676"/>
                  <a:pt x="17165" y="13767"/>
                </a:cubicBezTo>
                <a:cubicBezTo>
                  <a:pt x="17149" y="13815"/>
                  <a:pt x="17159" y="13891"/>
                  <a:pt x="17140" y="13940"/>
                </a:cubicBezTo>
                <a:cubicBezTo>
                  <a:pt x="17108" y="14022"/>
                  <a:pt x="17094" y="14116"/>
                  <a:pt x="17090" y="14213"/>
                </a:cubicBezTo>
                <a:cubicBezTo>
                  <a:pt x="17087" y="14286"/>
                  <a:pt x="17053" y="14343"/>
                  <a:pt x="17041" y="14412"/>
                </a:cubicBezTo>
                <a:cubicBezTo>
                  <a:pt x="17029" y="14482"/>
                  <a:pt x="17061" y="14538"/>
                  <a:pt x="17115" y="14511"/>
                </a:cubicBezTo>
              </a:path>
              <a:path w="4118" h="2779">
                <a:moveTo>
                  <a:pt x="17388" y="13643"/>
                </a:moveTo>
                <a:cubicBezTo>
                  <a:pt x="17476" y="13569"/>
                  <a:pt x="17550" y="13557"/>
                  <a:pt x="17661" y="13519"/>
                </a:cubicBezTo>
                <a:cubicBezTo>
                  <a:pt x="17752" y="13488"/>
                  <a:pt x="17844" y="13467"/>
                  <a:pt x="17934" y="13444"/>
                </a:cubicBezTo>
                <a:cubicBezTo>
                  <a:pt x="18002" y="13427"/>
                  <a:pt x="18073" y="13412"/>
                  <a:pt x="18132" y="13395"/>
                </a:cubicBezTo>
                <a:cubicBezTo>
                  <a:pt x="18140" y="13395"/>
                  <a:pt x="18149" y="13395"/>
                  <a:pt x="18157" y="13395"/>
                </a:cubicBezTo>
              </a:path>
              <a:path w="4118" h="2779">
                <a:moveTo>
                  <a:pt x="17636" y="13643"/>
                </a:moveTo>
                <a:cubicBezTo>
                  <a:pt x="17636" y="13725"/>
                  <a:pt x="17620" y="13788"/>
                  <a:pt x="17611" y="13866"/>
                </a:cubicBezTo>
                <a:cubicBezTo>
                  <a:pt x="17604" y="13929"/>
                  <a:pt x="17604" y="14002"/>
                  <a:pt x="17587" y="14064"/>
                </a:cubicBezTo>
                <a:cubicBezTo>
                  <a:pt x="17569" y="14127"/>
                  <a:pt x="17562" y="14170"/>
                  <a:pt x="17562" y="14238"/>
                </a:cubicBezTo>
              </a:path>
              <a:path w="4118" h="2779">
                <a:moveTo>
                  <a:pt x="17760" y="13543"/>
                </a:moveTo>
                <a:cubicBezTo>
                  <a:pt x="17760" y="13640"/>
                  <a:pt x="17750" y="13726"/>
                  <a:pt x="17735" y="13816"/>
                </a:cubicBezTo>
                <a:cubicBezTo>
                  <a:pt x="17722" y="13896"/>
                  <a:pt x="17715" y="14053"/>
                  <a:pt x="17760" y="14114"/>
                </a:cubicBezTo>
                <a:cubicBezTo>
                  <a:pt x="17787" y="14151"/>
                  <a:pt x="17821" y="14166"/>
                  <a:pt x="17859" y="14188"/>
                </a:cubicBezTo>
              </a:path>
              <a:path w="4118" h="2779">
                <a:moveTo>
                  <a:pt x="16942" y="14660"/>
                </a:moveTo>
                <a:cubicBezTo>
                  <a:pt x="16978" y="14623"/>
                  <a:pt x="17021" y="14594"/>
                  <a:pt x="17066" y="14585"/>
                </a:cubicBezTo>
                <a:cubicBezTo>
                  <a:pt x="17116" y="14575"/>
                  <a:pt x="17193" y="14558"/>
                  <a:pt x="17239" y="14536"/>
                </a:cubicBezTo>
                <a:cubicBezTo>
                  <a:pt x="17360" y="14478"/>
                  <a:pt x="17486" y="14408"/>
                  <a:pt x="17611" y="14362"/>
                </a:cubicBezTo>
                <a:cubicBezTo>
                  <a:pt x="17736" y="14316"/>
                  <a:pt x="17881" y="14238"/>
                  <a:pt x="18008" y="14213"/>
                </a:cubicBezTo>
                <a:cubicBezTo>
                  <a:pt x="18100" y="14195"/>
                  <a:pt x="18201" y="14178"/>
                  <a:pt x="18281" y="14139"/>
                </a:cubicBezTo>
              </a:path>
              <a:path w="4118" h="2779">
                <a:moveTo>
                  <a:pt x="17587" y="14635"/>
                </a:moveTo>
                <a:cubicBezTo>
                  <a:pt x="17578" y="14695"/>
                  <a:pt x="17558" y="14731"/>
                  <a:pt x="17537" y="14784"/>
                </a:cubicBezTo>
                <a:cubicBezTo>
                  <a:pt x="17502" y="14872"/>
                  <a:pt x="17487" y="14910"/>
                  <a:pt x="17487" y="15007"/>
                </a:cubicBezTo>
                <a:cubicBezTo>
                  <a:pt x="17565" y="14997"/>
                  <a:pt x="17662" y="14992"/>
                  <a:pt x="17735" y="14957"/>
                </a:cubicBezTo>
                <a:cubicBezTo>
                  <a:pt x="17770" y="14940"/>
                  <a:pt x="17771" y="14917"/>
                  <a:pt x="17810" y="14908"/>
                </a:cubicBezTo>
              </a:path>
              <a:path w="4118" h="2779">
                <a:moveTo>
                  <a:pt x="17760" y="14585"/>
                </a:moveTo>
                <a:cubicBezTo>
                  <a:pt x="17760" y="14882"/>
                  <a:pt x="17743" y="15187"/>
                  <a:pt x="17785" y="15478"/>
                </a:cubicBezTo>
                <a:cubicBezTo>
                  <a:pt x="17785" y="15545"/>
                  <a:pt x="17789" y="15579"/>
                  <a:pt x="17810" y="15627"/>
                </a:cubicBezTo>
              </a:path>
              <a:path w="4118" h="2779">
                <a:moveTo>
                  <a:pt x="18331" y="14089"/>
                </a:moveTo>
                <a:lnTo>
                  <a:pt x="18331" y="14089"/>
                </a:lnTo>
              </a:path>
              <a:path w="4118" h="2779">
                <a:moveTo>
                  <a:pt x="18380" y="14536"/>
                </a:moveTo>
                <a:cubicBezTo>
                  <a:pt x="18380" y="14400"/>
                  <a:pt x="18382" y="14260"/>
                  <a:pt x="18405" y="14139"/>
                </a:cubicBezTo>
                <a:cubicBezTo>
                  <a:pt x="18418" y="14071"/>
                  <a:pt x="18442" y="14002"/>
                  <a:pt x="18479" y="13940"/>
                </a:cubicBezTo>
                <a:cubicBezTo>
                  <a:pt x="18509" y="13889"/>
                  <a:pt x="18579" y="13866"/>
                  <a:pt x="18628" y="13841"/>
                </a:cubicBezTo>
              </a:path>
              <a:path w="4118" h="2779">
                <a:moveTo>
                  <a:pt x="18976" y="13866"/>
                </a:moveTo>
                <a:cubicBezTo>
                  <a:pt x="18933" y="13823"/>
                  <a:pt x="18862" y="13707"/>
                  <a:pt x="18802" y="13767"/>
                </a:cubicBezTo>
                <a:cubicBezTo>
                  <a:pt x="18761" y="13808"/>
                  <a:pt x="18713" y="13977"/>
                  <a:pt x="18703" y="14039"/>
                </a:cubicBezTo>
                <a:cubicBezTo>
                  <a:pt x="18703" y="14105"/>
                  <a:pt x="18703" y="14122"/>
                  <a:pt x="18703" y="14163"/>
                </a:cubicBezTo>
              </a:path>
              <a:path w="4118" h="2779">
                <a:moveTo>
                  <a:pt x="18728" y="14213"/>
                </a:moveTo>
                <a:cubicBezTo>
                  <a:pt x="18779" y="14244"/>
                  <a:pt x="18814" y="14248"/>
                  <a:pt x="18852" y="14188"/>
                </a:cubicBezTo>
                <a:cubicBezTo>
                  <a:pt x="18892" y="14125"/>
                  <a:pt x="18851" y="14074"/>
                  <a:pt x="18876" y="14015"/>
                </a:cubicBezTo>
                <a:cubicBezTo>
                  <a:pt x="18884" y="14007"/>
                  <a:pt x="18893" y="13998"/>
                  <a:pt x="18901" y="13990"/>
                </a:cubicBezTo>
                <a:cubicBezTo>
                  <a:pt x="18926" y="14034"/>
                  <a:pt x="18958" y="14109"/>
                  <a:pt x="19000" y="14139"/>
                </a:cubicBezTo>
                <a:cubicBezTo>
                  <a:pt x="19017" y="14147"/>
                  <a:pt x="19033" y="14155"/>
                  <a:pt x="19050" y="14163"/>
                </a:cubicBezTo>
              </a:path>
              <a:path w="4118" h="2779">
                <a:moveTo>
                  <a:pt x="19248" y="13791"/>
                </a:moveTo>
                <a:cubicBezTo>
                  <a:pt x="19211" y="13763"/>
                  <a:pt x="19174" y="13760"/>
                  <a:pt x="19149" y="13816"/>
                </a:cubicBezTo>
                <a:cubicBezTo>
                  <a:pt x="19149" y="13824"/>
                  <a:pt x="19149" y="13833"/>
                  <a:pt x="19149" y="13841"/>
                </a:cubicBezTo>
              </a:path>
              <a:path w="4118" h="2779">
                <a:moveTo>
                  <a:pt x="19174" y="14064"/>
                </a:moveTo>
                <a:cubicBezTo>
                  <a:pt x="19219" y="14057"/>
                  <a:pt x="19296" y="14040"/>
                  <a:pt x="19323" y="13990"/>
                </a:cubicBezTo>
                <a:cubicBezTo>
                  <a:pt x="19354" y="13932"/>
                  <a:pt x="19369" y="13831"/>
                  <a:pt x="19372" y="13767"/>
                </a:cubicBezTo>
                <a:cubicBezTo>
                  <a:pt x="19378" y="13653"/>
                  <a:pt x="19365" y="13551"/>
                  <a:pt x="19348" y="13444"/>
                </a:cubicBezTo>
                <a:cubicBezTo>
                  <a:pt x="19335" y="13363"/>
                  <a:pt x="19337" y="13323"/>
                  <a:pt x="19298" y="13246"/>
                </a:cubicBezTo>
                <a:cubicBezTo>
                  <a:pt x="19276" y="13202"/>
                  <a:pt x="19273" y="13190"/>
                  <a:pt x="19248" y="13171"/>
                </a:cubicBezTo>
                <a:cubicBezTo>
                  <a:pt x="19278" y="13251"/>
                  <a:pt x="19254" y="13314"/>
                  <a:pt x="19273" y="13395"/>
                </a:cubicBezTo>
                <a:cubicBezTo>
                  <a:pt x="19286" y="13450"/>
                  <a:pt x="19300" y="13544"/>
                  <a:pt x="19323" y="13593"/>
                </a:cubicBezTo>
                <a:cubicBezTo>
                  <a:pt x="19348" y="13647"/>
                  <a:pt x="19367" y="13707"/>
                  <a:pt x="19397" y="13767"/>
                </a:cubicBezTo>
                <a:cubicBezTo>
                  <a:pt x="19430" y="13833"/>
                  <a:pt x="19502" y="13863"/>
                  <a:pt x="19571" y="13866"/>
                </a:cubicBezTo>
                <a:cubicBezTo>
                  <a:pt x="19596" y="13866"/>
                  <a:pt x="19620" y="13866"/>
                  <a:pt x="1964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035080" y="98280"/>
            <a:ext cx="644760" cy="1044720"/>
          </a:xfrm>
          <a:custGeom>
            <a:avLst/>
            <a:gdLst/>
            <a:ahLst/>
            <a:rect l="l" t="t" r="r" b="b"/>
            <a:pathLst>
              <a:path w="1787" h="2903">
                <a:moveTo>
                  <a:pt x="6648" y="2629"/>
                </a:moveTo>
                <a:cubicBezTo>
                  <a:pt x="6694" y="2730"/>
                  <a:pt x="6735" y="2862"/>
                  <a:pt x="6796" y="2952"/>
                </a:cubicBezTo>
                <a:cubicBezTo>
                  <a:pt x="6827" y="2998"/>
                  <a:pt x="6906" y="3072"/>
                  <a:pt x="6921" y="3125"/>
                </a:cubicBezTo>
                <a:cubicBezTo>
                  <a:pt x="6921" y="3183"/>
                  <a:pt x="6921" y="3192"/>
                  <a:pt x="6921" y="3101"/>
                </a:cubicBezTo>
              </a:path>
              <a:path w="1787" h="2903">
                <a:moveTo>
                  <a:pt x="6821" y="2604"/>
                </a:moveTo>
                <a:cubicBezTo>
                  <a:pt x="6829" y="2519"/>
                  <a:pt x="6845" y="2474"/>
                  <a:pt x="6896" y="2406"/>
                </a:cubicBezTo>
                <a:cubicBezTo>
                  <a:pt x="6942" y="2345"/>
                  <a:pt x="6983" y="2394"/>
                  <a:pt x="7020" y="2431"/>
                </a:cubicBezTo>
                <a:cubicBezTo>
                  <a:pt x="7053" y="2464"/>
                  <a:pt x="7064" y="2582"/>
                  <a:pt x="7069" y="2629"/>
                </a:cubicBezTo>
                <a:cubicBezTo>
                  <a:pt x="7082" y="2748"/>
                  <a:pt x="7065" y="2873"/>
                  <a:pt x="7045" y="2977"/>
                </a:cubicBezTo>
                <a:cubicBezTo>
                  <a:pt x="7045" y="2993"/>
                  <a:pt x="7045" y="3010"/>
                  <a:pt x="7045" y="3026"/>
                </a:cubicBezTo>
                <a:cubicBezTo>
                  <a:pt x="7106" y="3017"/>
                  <a:pt x="7144" y="2997"/>
                  <a:pt x="7193" y="2952"/>
                </a:cubicBezTo>
                <a:cubicBezTo>
                  <a:pt x="7250" y="2901"/>
                  <a:pt x="7239" y="2836"/>
                  <a:pt x="7268" y="2778"/>
                </a:cubicBezTo>
              </a:path>
              <a:path w="1787" h="2903">
                <a:moveTo>
                  <a:pt x="7119" y="2456"/>
                </a:moveTo>
                <a:cubicBezTo>
                  <a:pt x="7145" y="2547"/>
                  <a:pt x="7176" y="2620"/>
                  <a:pt x="7218" y="2704"/>
                </a:cubicBezTo>
                <a:cubicBezTo>
                  <a:pt x="7233" y="2733"/>
                  <a:pt x="7280" y="2817"/>
                  <a:pt x="7317" y="2828"/>
                </a:cubicBezTo>
                <a:cubicBezTo>
                  <a:pt x="7422" y="2858"/>
                  <a:pt x="7402" y="2732"/>
                  <a:pt x="7417" y="2679"/>
                </a:cubicBezTo>
                <a:cubicBezTo>
                  <a:pt x="7435" y="2615"/>
                  <a:pt x="7432" y="2544"/>
                  <a:pt x="7392" y="2480"/>
                </a:cubicBezTo>
                <a:cubicBezTo>
                  <a:pt x="7353" y="2418"/>
                  <a:pt x="7284" y="2410"/>
                  <a:pt x="7218" y="2406"/>
                </a:cubicBezTo>
                <a:cubicBezTo>
                  <a:pt x="7202" y="2406"/>
                  <a:pt x="7185" y="2406"/>
                  <a:pt x="7169" y="2406"/>
                </a:cubicBezTo>
              </a:path>
              <a:path w="1787" h="2903">
                <a:moveTo>
                  <a:pt x="7218" y="2009"/>
                </a:moveTo>
                <a:cubicBezTo>
                  <a:pt x="7229" y="2096"/>
                  <a:pt x="7248" y="2142"/>
                  <a:pt x="7342" y="2084"/>
                </a:cubicBezTo>
                <a:cubicBezTo>
                  <a:pt x="7389" y="2055"/>
                  <a:pt x="7380" y="1986"/>
                  <a:pt x="7367" y="1960"/>
                </a:cubicBezTo>
                <a:cubicBezTo>
                  <a:pt x="7345" y="1916"/>
                  <a:pt x="7342" y="1904"/>
                  <a:pt x="7317" y="1885"/>
                </a:cubicBezTo>
                <a:cubicBezTo>
                  <a:pt x="7268" y="1910"/>
                  <a:pt x="7239" y="1918"/>
                  <a:pt x="7218" y="1960"/>
                </a:cubicBezTo>
              </a:path>
              <a:path w="1787" h="2903">
                <a:moveTo>
                  <a:pt x="5655" y="1091"/>
                </a:moveTo>
                <a:cubicBezTo>
                  <a:pt x="5655" y="1009"/>
                  <a:pt x="5676" y="965"/>
                  <a:pt x="5680" y="893"/>
                </a:cubicBezTo>
                <a:cubicBezTo>
                  <a:pt x="5686" y="787"/>
                  <a:pt x="5708" y="805"/>
                  <a:pt x="5779" y="769"/>
                </a:cubicBezTo>
                <a:cubicBezTo>
                  <a:pt x="5843" y="737"/>
                  <a:pt x="5866" y="747"/>
                  <a:pt x="5928" y="794"/>
                </a:cubicBezTo>
                <a:cubicBezTo>
                  <a:pt x="5993" y="843"/>
                  <a:pt x="6000" y="889"/>
                  <a:pt x="6003" y="967"/>
                </a:cubicBezTo>
                <a:cubicBezTo>
                  <a:pt x="6008" y="1104"/>
                  <a:pt x="5996" y="1232"/>
                  <a:pt x="5978" y="1364"/>
                </a:cubicBezTo>
                <a:cubicBezTo>
                  <a:pt x="5969" y="1431"/>
                  <a:pt x="5972" y="1469"/>
                  <a:pt x="5953" y="1538"/>
                </a:cubicBezTo>
                <a:cubicBezTo>
                  <a:pt x="6029" y="1527"/>
                  <a:pt x="6044" y="1497"/>
                  <a:pt x="6102" y="1439"/>
                </a:cubicBezTo>
                <a:cubicBezTo>
                  <a:pt x="6150" y="1391"/>
                  <a:pt x="6202" y="1359"/>
                  <a:pt x="6251" y="1315"/>
                </a:cubicBezTo>
                <a:cubicBezTo>
                  <a:pt x="6300" y="1271"/>
                  <a:pt x="6316" y="1253"/>
                  <a:pt x="6325" y="1191"/>
                </a:cubicBezTo>
              </a:path>
              <a:path w="1787" h="2903">
                <a:moveTo>
                  <a:pt x="6077" y="571"/>
                </a:moveTo>
                <a:cubicBezTo>
                  <a:pt x="6140" y="508"/>
                  <a:pt x="6213" y="423"/>
                  <a:pt x="6276" y="372"/>
                </a:cubicBezTo>
                <a:cubicBezTo>
                  <a:pt x="6322" y="335"/>
                  <a:pt x="6378" y="311"/>
                  <a:pt x="6424" y="273"/>
                </a:cubicBezTo>
              </a:path>
              <a:path w="1787" h="2903">
                <a:moveTo>
                  <a:pt x="6201" y="521"/>
                </a:moveTo>
                <a:cubicBezTo>
                  <a:pt x="6263" y="666"/>
                  <a:pt x="6316" y="826"/>
                  <a:pt x="6424" y="943"/>
                </a:cubicBezTo>
                <a:cubicBezTo>
                  <a:pt x="6458" y="976"/>
                  <a:pt x="6467" y="971"/>
                  <a:pt x="6449" y="893"/>
                </a:cubicBezTo>
              </a:path>
              <a:path w="1787" h="2903">
                <a:moveTo>
                  <a:pt x="6325" y="397"/>
                </a:moveTo>
                <a:cubicBezTo>
                  <a:pt x="6360" y="502"/>
                  <a:pt x="6399" y="596"/>
                  <a:pt x="6449" y="695"/>
                </a:cubicBezTo>
                <a:cubicBezTo>
                  <a:pt x="6484" y="765"/>
                  <a:pt x="6517" y="812"/>
                  <a:pt x="6573" y="868"/>
                </a:cubicBezTo>
                <a:cubicBezTo>
                  <a:pt x="6604" y="899"/>
                  <a:pt x="6630" y="909"/>
                  <a:pt x="6672" y="918"/>
                </a:cubicBezTo>
              </a:path>
              <a:path w="1787" h="2903">
                <a:moveTo>
                  <a:pt x="6152" y="1563"/>
                </a:moveTo>
                <a:cubicBezTo>
                  <a:pt x="6230" y="1500"/>
                  <a:pt x="6262" y="1439"/>
                  <a:pt x="6325" y="1364"/>
                </a:cubicBezTo>
                <a:cubicBezTo>
                  <a:pt x="6398" y="1277"/>
                  <a:pt x="6488" y="1214"/>
                  <a:pt x="6573" y="1141"/>
                </a:cubicBezTo>
                <a:cubicBezTo>
                  <a:pt x="6612" y="1107"/>
                  <a:pt x="6674" y="1038"/>
                  <a:pt x="6722" y="1017"/>
                </a:cubicBezTo>
                <a:cubicBezTo>
                  <a:pt x="6730" y="1017"/>
                  <a:pt x="6739" y="1017"/>
                  <a:pt x="6747" y="1017"/>
                </a:cubicBezTo>
              </a:path>
              <a:path w="1787" h="2903">
                <a:moveTo>
                  <a:pt x="6499" y="1588"/>
                </a:moveTo>
                <a:cubicBezTo>
                  <a:pt x="6529" y="1536"/>
                  <a:pt x="6558" y="1483"/>
                  <a:pt x="6598" y="1439"/>
                </a:cubicBezTo>
                <a:cubicBezTo>
                  <a:pt x="6652" y="1380"/>
                  <a:pt x="6662" y="1327"/>
                  <a:pt x="6747" y="1389"/>
                </a:cubicBezTo>
                <a:cubicBezTo>
                  <a:pt x="6810" y="1435"/>
                  <a:pt x="6756" y="1509"/>
                  <a:pt x="6747" y="1563"/>
                </a:cubicBezTo>
                <a:cubicBezTo>
                  <a:pt x="6737" y="1621"/>
                  <a:pt x="6727" y="1662"/>
                  <a:pt x="6697" y="1712"/>
                </a:cubicBezTo>
                <a:cubicBezTo>
                  <a:pt x="6716" y="1675"/>
                  <a:pt x="6747" y="1577"/>
                  <a:pt x="6796" y="1563"/>
                </a:cubicBezTo>
                <a:cubicBezTo>
                  <a:pt x="6902" y="1533"/>
                  <a:pt x="6954" y="1662"/>
                  <a:pt x="6970" y="1736"/>
                </a:cubicBezTo>
                <a:cubicBezTo>
                  <a:pt x="6987" y="1810"/>
                  <a:pt x="6943" y="1883"/>
                  <a:pt x="6896" y="1935"/>
                </a:cubicBezTo>
                <a:cubicBezTo>
                  <a:pt x="6848" y="1988"/>
                  <a:pt x="6761" y="2025"/>
                  <a:pt x="6697" y="20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7240" y="1465200"/>
            <a:ext cx="992160" cy="722520"/>
          </a:xfrm>
          <a:custGeom>
            <a:avLst/>
            <a:gdLst/>
            <a:ahLst/>
            <a:rect l="l" t="t" r="r" b="b"/>
            <a:pathLst>
              <a:path w="2754" h="2010">
                <a:moveTo>
                  <a:pt x="4018" y="5755"/>
                </a:moveTo>
                <a:cubicBezTo>
                  <a:pt x="4117" y="5866"/>
                  <a:pt x="4213" y="5975"/>
                  <a:pt x="4341" y="6052"/>
                </a:cubicBezTo>
                <a:cubicBezTo>
                  <a:pt x="4381" y="6072"/>
                  <a:pt x="4397" y="6091"/>
                  <a:pt x="4390" y="6052"/>
                </a:cubicBezTo>
              </a:path>
              <a:path w="2754" h="2010">
                <a:moveTo>
                  <a:pt x="4093" y="5531"/>
                </a:moveTo>
                <a:cubicBezTo>
                  <a:pt x="4129" y="5477"/>
                  <a:pt x="4160" y="5418"/>
                  <a:pt x="4192" y="5358"/>
                </a:cubicBezTo>
                <a:cubicBezTo>
                  <a:pt x="4218" y="5309"/>
                  <a:pt x="4216" y="5277"/>
                  <a:pt x="4242" y="5234"/>
                </a:cubicBezTo>
              </a:path>
              <a:path w="2754" h="2010">
                <a:moveTo>
                  <a:pt x="4068" y="5631"/>
                </a:moveTo>
                <a:cubicBezTo>
                  <a:pt x="4094" y="5675"/>
                  <a:pt x="4125" y="5752"/>
                  <a:pt x="4192" y="5730"/>
                </a:cubicBezTo>
                <a:cubicBezTo>
                  <a:pt x="4262" y="5707"/>
                  <a:pt x="4212" y="5602"/>
                  <a:pt x="4266" y="5581"/>
                </a:cubicBezTo>
                <a:cubicBezTo>
                  <a:pt x="4336" y="5554"/>
                  <a:pt x="4412" y="5601"/>
                  <a:pt x="4465" y="5631"/>
                </a:cubicBezTo>
                <a:cubicBezTo>
                  <a:pt x="4496" y="5648"/>
                  <a:pt x="4577" y="5690"/>
                  <a:pt x="4589" y="5730"/>
                </a:cubicBezTo>
                <a:cubicBezTo>
                  <a:pt x="4607" y="5792"/>
                  <a:pt x="4580" y="5882"/>
                  <a:pt x="4514" y="5904"/>
                </a:cubicBezTo>
                <a:cubicBezTo>
                  <a:pt x="4438" y="5930"/>
                  <a:pt x="4422" y="5852"/>
                  <a:pt x="4415" y="5804"/>
                </a:cubicBezTo>
              </a:path>
              <a:path w="2754" h="2010">
                <a:moveTo>
                  <a:pt x="4390" y="5407"/>
                </a:moveTo>
                <a:cubicBezTo>
                  <a:pt x="4527" y="5599"/>
                  <a:pt x="4475" y="5635"/>
                  <a:pt x="4638" y="5655"/>
                </a:cubicBezTo>
                <a:cubicBezTo>
                  <a:pt x="4660" y="5598"/>
                  <a:pt x="4681" y="5521"/>
                  <a:pt x="4663" y="5457"/>
                </a:cubicBezTo>
                <a:cubicBezTo>
                  <a:pt x="4644" y="5388"/>
                  <a:pt x="4620" y="5286"/>
                  <a:pt x="4564" y="5234"/>
                </a:cubicBezTo>
                <a:cubicBezTo>
                  <a:pt x="4517" y="5190"/>
                  <a:pt x="4432" y="5199"/>
                  <a:pt x="4390" y="5234"/>
                </a:cubicBezTo>
                <a:cubicBezTo>
                  <a:pt x="4353" y="5264"/>
                  <a:pt x="4336" y="5322"/>
                  <a:pt x="4316" y="5283"/>
                </a:cubicBezTo>
              </a:path>
              <a:path w="2754" h="2010">
                <a:moveTo>
                  <a:pt x="4316" y="4961"/>
                </a:moveTo>
                <a:cubicBezTo>
                  <a:pt x="4387" y="5011"/>
                  <a:pt x="4386" y="5037"/>
                  <a:pt x="4440" y="5011"/>
                </a:cubicBezTo>
                <a:cubicBezTo>
                  <a:pt x="4460" y="4972"/>
                  <a:pt x="4451" y="4912"/>
                  <a:pt x="4415" y="4862"/>
                </a:cubicBezTo>
                <a:cubicBezTo>
                  <a:pt x="4389" y="4826"/>
                  <a:pt x="4311" y="4777"/>
                  <a:pt x="4266" y="4812"/>
                </a:cubicBezTo>
                <a:cubicBezTo>
                  <a:pt x="4246" y="4853"/>
                  <a:pt x="4238" y="4859"/>
                  <a:pt x="4242" y="4887"/>
                </a:cubicBezTo>
              </a:path>
              <a:path w="2754" h="2010">
                <a:moveTo>
                  <a:pt x="1935" y="4837"/>
                </a:moveTo>
                <a:cubicBezTo>
                  <a:pt x="1980" y="4746"/>
                  <a:pt x="2016" y="4663"/>
                  <a:pt x="2084" y="4589"/>
                </a:cubicBezTo>
                <a:cubicBezTo>
                  <a:pt x="2132" y="4537"/>
                  <a:pt x="2132" y="4491"/>
                  <a:pt x="2158" y="4440"/>
                </a:cubicBezTo>
                <a:cubicBezTo>
                  <a:pt x="2183" y="4415"/>
                  <a:pt x="2191" y="4407"/>
                  <a:pt x="2158" y="4390"/>
                </a:cubicBezTo>
              </a:path>
              <a:path w="2754" h="2010">
                <a:moveTo>
                  <a:pt x="1935" y="4837"/>
                </a:moveTo>
                <a:cubicBezTo>
                  <a:pt x="1929" y="4880"/>
                  <a:pt x="1888" y="5052"/>
                  <a:pt x="2009" y="5011"/>
                </a:cubicBezTo>
                <a:cubicBezTo>
                  <a:pt x="2079" y="4987"/>
                  <a:pt x="2071" y="4879"/>
                  <a:pt x="2108" y="4837"/>
                </a:cubicBezTo>
                <a:cubicBezTo>
                  <a:pt x="2161" y="4776"/>
                  <a:pt x="2239" y="4822"/>
                  <a:pt x="2282" y="4862"/>
                </a:cubicBezTo>
                <a:cubicBezTo>
                  <a:pt x="2355" y="4929"/>
                  <a:pt x="2435" y="5038"/>
                  <a:pt x="2456" y="5135"/>
                </a:cubicBezTo>
                <a:cubicBezTo>
                  <a:pt x="2468" y="5193"/>
                  <a:pt x="2466" y="5289"/>
                  <a:pt x="2431" y="5333"/>
                </a:cubicBezTo>
                <a:cubicBezTo>
                  <a:pt x="2390" y="5384"/>
                  <a:pt x="2360" y="5401"/>
                  <a:pt x="2307" y="5358"/>
                </a:cubicBezTo>
                <a:cubicBezTo>
                  <a:pt x="2284" y="5335"/>
                  <a:pt x="2276" y="5331"/>
                  <a:pt x="2282" y="5308"/>
                </a:cubicBezTo>
              </a:path>
              <a:path w="2754" h="2010">
                <a:moveTo>
                  <a:pt x="2332" y="4440"/>
                </a:moveTo>
                <a:cubicBezTo>
                  <a:pt x="2389" y="4372"/>
                  <a:pt x="2442" y="4305"/>
                  <a:pt x="2505" y="4242"/>
                </a:cubicBezTo>
                <a:cubicBezTo>
                  <a:pt x="2535" y="4212"/>
                  <a:pt x="2641" y="4162"/>
                  <a:pt x="2654" y="4118"/>
                </a:cubicBezTo>
                <a:cubicBezTo>
                  <a:pt x="2654" y="4076"/>
                  <a:pt x="2662" y="4060"/>
                  <a:pt x="2629" y="4068"/>
                </a:cubicBezTo>
              </a:path>
              <a:path w="2754" h="2010">
                <a:moveTo>
                  <a:pt x="2456" y="4341"/>
                </a:moveTo>
                <a:cubicBezTo>
                  <a:pt x="2518" y="4452"/>
                  <a:pt x="2576" y="4552"/>
                  <a:pt x="2629" y="4663"/>
                </a:cubicBezTo>
                <a:cubicBezTo>
                  <a:pt x="2655" y="4717"/>
                  <a:pt x="2688" y="4745"/>
                  <a:pt x="2729" y="4787"/>
                </a:cubicBezTo>
                <a:cubicBezTo>
                  <a:pt x="2737" y="4795"/>
                  <a:pt x="2745" y="4804"/>
                  <a:pt x="2753" y="4812"/>
                </a:cubicBezTo>
                <a:cubicBezTo>
                  <a:pt x="2793" y="4745"/>
                  <a:pt x="2756" y="4715"/>
                  <a:pt x="2753" y="4638"/>
                </a:cubicBezTo>
                <a:cubicBezTo>
                  <a:pt x="2753" y="4613"/>
                  <a:pt x="2753" y="4589"/>
                  <a:pt x="2753" y="4564"/>
                </a:cubicBezTo>
              </a:path>
              <a:path w="2754" h="2010">
                <a:moveTo>
                  <a:pt x="2604" y="4142"/>
                </a:moveTo>
                <a:cubicBezTo>
                  <a:pt x="2648" y="4275"/>
                  <a:pt x="2685" y="4372"/>
                  <a:pt x="2753" y="4490"/>
                </a:cubicBezTo>
                <a:cubicBezTo>
                  <a:pt x="2794" y="4562"/>
                  <a:pt x="2846" y="4627"/>
                  <a:pt x="2902" y="4688"/>
                </a:cubicBezTo>
                <a:cubicBezTo>
                  <a:pt x="2926" y="4714"/>
                  <a:pt x="2952" y="4738"/>
                  <a:pt x="2977" y="4762"/>
                </a:cubicBezTo>
              </a:path>
              <a:path w="2754" h="2010">
                <a:moveTo>
                  <a:pt x="2555" y="5358"/>
                </a:moveTo>
                <a:cubicBezTo>
                  <a:pt x="2612" y="5301"/>
                  <a:pt x="2680" y="5247"/>
                  <a:pt x="2729" y="5184"/>
                </a:cubicBezTo>
                <a:cubicBezTo>
                  <a:pt x="2798" y="5096"/>
                  <a:pt x="2860" y="4999"/>
                  <a:pt x="2927" y="4911"/>
                </a:cubicBezTo>
                <a:cubicBezTo>
                  <a:pt x="3007" y="4805"/>
                  <a:pt x="3075" y="4698"/>
                  <a:pt x="3150" y="4589"/>
                </a:cubicBezTo>
                <a:cubicBezTo>
                  <a:pt x="3192" y="4529"/>
                  <a:pt x="3208" y="4531"/>
                  <a:pt x="3150" y="4589"/>
                </a:cubicBezTo>
              </a:path>
              <a:path w="2754" h="2010">
                <a:moveTo>
                  <a:pt x="3051" y="4961"/>
                </a:moveTo>
                <a:cubicBezTo>
                  <a:pt x="3073" y="5084"/>
                  <a:pt x="3094" y="5172"/>
                  <a:pt x="3125" y="5283"/>
                </a:cubicBezTo>
                <a:cubicBezTo>
                  <a:pt x="3146" y="5356"/>
                  <a:pt x="3164" y="5434"/>
                  <a:pt x="3249" y="5457"/>
                </a:cubicBezTo>
                <a:cubicBezTo>
                  <a:pt x="3296" y="5470"/>
                  <a:pt x="3393" y="5418"/>
                  <a:pt x="3423" y="5383"/>
                </a:cubicBezTo>
                <a:cubicBezTo>
                  <a:pt x="3485" y="5311"/>
                  <a:pt x="3517" y="5254"/>
                  <a:pt x="3522" y="5159"/>
                </a:cubicBezTo>
                <a:cubicBezTo>
                  <a:pt x="3526" y="5083"/>
                  <a:pt x="3520" y="5046"/>
                  <a:pt x="3473" y="4986"/>
                </a:cubicBezTo>
                <a:cubicBezTo>
                  <a:pt x="3413" y="5046"/>
                  <a:pt x="3402" y="5071"/>
                  <a:pt x="3398" y="5159"/>
                </a:cubicBezTo>
                <a:cubicBezTo>
                  <a:pt x="3395" y="5227"/>
                  <a:pt x="3384" y="5305"/>
                  <a:pt x="3423" y="5358"/>
                </a:cubicBezTo>
                <a:cubicBezTo>
                  <a:pt x="3449" y="5394"/>
                  <a:pt x="3491" y="5425"/>
                  <a:pt x="3522" y="5457"/>
                </a:cubicBezTo>
                <a:cubicBezTo>
                  <a:pt x="3530" y="5465"/>
                  <a:pt x="3539" y="5474"/>
                  <a:pt x="3547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331040" y="2724120"/>
            <a:ext cx="1679760" cy="785880"/>
          </a:xfrm>
          <a:custGeom>
            <a:avLst/>
            <a:gdLst/>
            <a:ahLst/>
            <a:rect l="l" t="t" r="r" b="b"/>
            <a:pathLst>
              <a:path w="4664" h="2184">
                <a:moveTo>
                  <a:pt x="20588" y="9227"/>
                </a:moveTo>
                <a:cubicBezTo>
                  <a:pt x="20588" y="9310"/>
                  <a:pt x="20579" y="9333"/>
                  <a:pt x="20538" y="9401"/>
                </a:cubicBezTo>
                <a:cubicBezTo>
                  <a:pt x="20499" y="9465"/>
                  <a:pt x="20468" y="9476"/>
                  <a:pt x="20414" y="9525"/>
                </a:cubicBezTo>
                <a:cubicBezTo>
                  <a:pt x="20389" y="9550"/>
                  <a:pt x="20381" y="9558"/>
                  <a:pt x="20365" y="9575"/>
                </a:cubicBezTo>
              </a:path>
              <a:path w="4664" h="2184">
                <a:moveTo>
                  <a:pt x="21258" y="8409"/>
                </a:moveTo>
                <a:cubicBezTo>
                  <a:pt x="21220" y="8456"/>
                  <a:pt x="21186" y="8504"/>
                  <a:pt x="21158" y="8558"/>
                </a:cubicBezTo>
                <a:cubicBezTo>
                  <a:pt x="21122" y="8626"/>
                  <a:pt x="21071" y="8656"/>
                  <a:pt x="21034" y="8731"/>
                </a:cubicBezTo>
                <a:cubicBezTo>
                  <a:pt x="20999" y="8801"/>
                  <a:pt x="20950" y="8876"/>
                  <a:pt x="20935" y="8954"/>
                </a:cubicBezTo>
                <a:cubicBezTo>
                  <a:pt x="20921" y="9025"/>
                  <a:pt x="20928" y="9071"/>
                  <a:pt x="20935" y="9128"/>
                </a:cubicBezTo>
                <a:cubicBezTo>
                  <a:pt x="20944" y="9206"/>
                  <a:pt x="20975" y="9243"/>
                  <a:pt x="21059" y="9252"/>
                </a:cubicBezTo>
                <a:cubicBezTo>
                  <a:pt x="21130" y="9260"/>
                  <a:pt x="21176" y="9245"/>
                  <a:pt x="21233" y="9203"/>
                </a:cubicBezTo>
                <a:cubicBezTo>
                  <a:pt x="21293" y="9158"/>
                  <a:pt x="21328" y="9128"/>
                  <a:pt x="21357" y="9054"/>
                </a:cubicBezTo>
                <a:cubicBezTo>
                  <a:pt x="21395" y="8959"/>
                  <a:pt x="21388" y="8901"/>
                  <a:pt x="21406" y="8806"/>
                </a:cubicBezTo>
                <a:cubicBezTo>
                  <a:pt x="21425" y="8706"/>
                  <a:pt x="21411" y="8678"/>
                  <a:pt x="21406" y="8582"/>
                </a:cubicBezTo>
                <a:cubicBezTo>
                  <a:pt x="21402" y="8513"/>
                  <a:pt x="21372" y="8442"/>
                  <a:pt x="21332" y="8384"/>
                </a:cubicBezTo>
                <a:cubicBezTo>
                  <a:pt x="21296" y="8333"/>
                  <a:pt x="21266" y="8334"/>
                  <a:pt x="21208" y="8334"/>
                </a:cubicBezTo>
              </a:path>
              <a:path w="4664" h="2184">
                <a:moveTo>
                  <a:pt x="21630" y="8905"/>
                </a:moveTo>
                <a:cubicBezTo>
                  <a:pt x="21605" y="9006"/>
                  <a:pt x="21580" y="9055"/>
                  <a:pt x="21580" y="9153"/>
                </a:cubicBezTo>
                <a:cubicBezTo>
                  <a:pt x="21580" y="9170"/>
                  <a:pt x="21580" y="9186"/>
                  <a:pt x="21580" y="9203"/>
                </a:cubicBezTo>
                <a:cubicBezTo>
                  <a:pt x="21544" y="9142"/>
                  <a:pt x="21545" y="9074"/>
                  <a:pt x="21580" y="9004"/>
                </a:cubicBezTo>
                <a:cubicBezTo>
                  <a:pt x="21611" y="8941"/>
                  <a:pt x="21634" y="8918"/>
                  <a:pt x="21679" y="8855"/>
                </a:cubicBezTo>
                <a:cubicBezTo>
                  <a:pt x="21730" y="8783"/>
                  <a:pt x="21789" y="8744"/>
                  <a:pt x="21853" y="8706"/>
                </a:cubicBezTo>
                <a:cubicBezTo>
                  <a:pt x="21876" y="8684"/>
                  <a:pt x="21881" y="8676"/>
                  <a:pt x="21903" y="8682"/>
                </a:cubicBezTo>
              </a:path>
              <a:path w="4664" h="2184">
                <a:moveTo>
                  <a:pt x="22151" y="8930"/>
                </a:moveTo>
                <a:cubicBezTo>
                  <a:pt x="22136" y="8889"/>
                  <a:pt x="22130" y="8796"/>
                  <a:pt x="22076" y="8781"/>
                </a:cubicBezTo>
                <a:cubicBezTo>
                  <a:pt x="22010" y="8762"/>
                  <a:pt x="21967" y="8839"/>
                  <a:pt x="21927" y="8880"/>
                </a:cubicBezTo>
                <a:cubicBezTo>
                  <a:pt x="21887" y="8921"/>
                  <a:pt x="21855" y="8978"/>
                  <a:pt x="21828" y="9029"/>
                </a:cubicBezTo>
                <a:cubicBezTo>
                  <a:pt x="21803" y="9076"/>
                  <a:pt x="21789" y="9171"/>
                  <a:pt x="21853" y="9203"/>
                </a:cubicBezTo>
                <a:cubicBezTo>
                  <a:pt x="21870" y="9203"/>
                  <a:pt x="21886" y="9203"/>
                  <a:pt x="21903" y="9203"/>
                </a:cubicBezTo>
                <a:cubicBezTo>
                  <a:pt x="21939" y="9157"/>
                  <a:pt x="21989" y="9088"/>
                  <a:pt x="22002" y="9029"/>
                </a:cubicBezTo>
                <a:cubicBezTo>
                  <a:pt x="22002" y="8984"/>
                  <a:pt x="21999" y="8971"/>
                  <a:pt x="22027" y="8954"/>
                </a:cubicBezTo>
                <a:cubicBezTo>
                  <a:pt x="22034" y="9031"/>
                  <a:pt x="22054" y="9085"/>
                  <a:pt x="22101" y="9153"/>
                </a:cubicBezTo>
                <a:cubicBezTo>
                  <a:pt x="22155" y="9231"/>
                  <a:pt x="22210" y="9186"/>
                  <a:pt x="22275" y="9153"/>
                </a:cubicBezTo>
              </a:path>
              <a:path w="4664" h="2184">
                <a:moveTo>
                  <a:pt x="22473" y="8830"/>
                </a:moveTo>
                <a:cubicBezTo>
                  <a:pt x="22465" y="8814"/>
                  <a:pt x="22456" y="8797"/>
                  <a:pt x="22448" y="8781"/>
                </a:cubicBezTo>
                <a:cubicBezTo>
                  <a:pt x="22398" y="8831"/>
                  <a:pt x="22401" y="8851"/>
                  <a:pt x="22374" y="8905"/>
                </a:cubicBezTo>
                <a:cubicBezTo>
                  <a:pt x="22349" y="8955"/>
                  <a:pt x="22321" y="9009"/>
                  <a:pt x="22299" y="9054"/>
                </a:cubicBezTo>
                <a:cubicBezTo>
                  <a:pt x="22265" y="9125"/>
                  <a:pt x="22269" y="9147"/>
                  <a:pt x="22324" y="9203"/>
                </a:cubicBezTo>
                <a:cubicBezTo>
                  <a:pt x="22416" y="9150"/>
                  <a:pt x="22408" y="9101"/>
                  <a:pt x="22448" y="9004"/>
                </a:cubicBezTo>
                <a:cubicBezTo>
                  <a:pt x="22485" y="8914"/>
                  <a:pt x="22489" y="8780"/>
                  <a:pt x="22498" y="8682"/>
                </a:cubicBezTo>
                <a:cubicBezTo>
                  <a:pt x="22505" y="8601"/>
                  <a:pt x="22510" y="8534"/>
                  <a:pt x="22523" y="8458"/>
                </a:cubicBezTo>
                <a:cubicBezTo>
                  <a:pt x="22523" y="8409"/>
                  <a:pt x="22523" y="8392"/>
                  <a:pt x="22523" y="8359"/>
                </a:cubicBezTo>
                <a:cubicBezTo>
                  <a:pt x="22490" y="8413"/>
                  <a:pt x="22493" y="8472"/>
                  <a:pt x="22473" y="8533"/>
                </a:cubicBezTo>
                <a:cubicBezTo>
                  <a:pt x="22450" y="8600"/>
                  <a:pt x="22429" y="8687"/>
                  <a:pt x="22423" y="8756"/>
                </a:cubicBezTo>
                <a:cubicBezTo>
                  <a:pt x="22423" y="8797"/>
                  <a:pt x="22423" y="8839"/>
                  <a:pt x="22423" y="8880"/>
                </a:cubicBezTo>
              </a:path>
              <a:path w="4664" h="2184">
                <a:moveTo>
                  <a:pt x="22671" y="9252"/>
                </a:moveTo>
                <a:cubicBezTo>
                  <a:pt x="22646" y="9324"/>
                  <a:pt x="22561" y="9468"/>
                  <a:pt x="22547" y="9550"/>
                </a:cubicBezTo>
                <a:cubicBezTo>
                  <a:pt x="22532" y="9635"/>
                  <a:pt x="22511" y="9666"/>
                  <a:pt x="22473" y="9748"/>
                </a:cubicBezTo>
              </a:path>
              <a:path w="4664" h="2184">
                <a:moveTo>
                  <a:pt x="22895" y="8285"/>
                </a:moveTo>
                <a:cubicBezTo>
                  <a:pt x="22910" y="8231"/>
                  <a:pt x="22947" y="8178"/>
                  <a:pt x="23019" y="8161"/>
                </a:cubicBezTo>
                <a:cubicBezTo>
                  <a:pt x="23067" y="8150"/>
                  <a:pt x="23158" y="8183"/>
                  <a:pt x="23192" y="8210"/>
                </a:cubicBezTo>
                <a:cubicBezTo>
                  <a:pt x="23250" y="8256"/>
                  <a:pt x="23264" y="8317"/>
                  <a:pt x="23267" y="8384"/>
                </a:cubicBezTo>
                <a:cubicBezTo>
                  <a:pt x="23270" y="8460"/>
                  <a:pt x="23240" y="8561"/>
                  <a:pt x="23217" y="8632"/>
                </a:cubicBezTo>
                <a:cubicBezTo>
                  <a:pt x="23196" y="8697"/>
                  <a:pt x="23158" y="8801"/>
                  <a:pt x="23118" y="8855"/>
                </a:cubicBezTo>
                <a:cubicBezTo>
                  <a:pt x="23069" y="8921"/>
                  <a:pt x="23068" y="8983"/>
                  <a:pt x="23019" y="9054"/>
                </a:cubicBezTo>
                <a:cubicBezTo>
                  <a:pt x="22990" y="9097"/>
                  <a:pt x="22948" y="9135"/>
                  <a:pt x="22920" y="9178"/>
                </a:cubicBezTo>
                <a:cubicBezTo>
                  <a:pt x="22888" y="9228"/>
                  <a:pt x="22865" y="9241"/>
                  <a:pt x="22820" y="9277"/>
                </a:cubicBezTo>
                <a:cubicBezTo>
                  <a:pt x="22918" y="9277"/>
                  <a:pt x="22998" y="9288"/>
                  <a:pt x="23093" y="9302"/>
                </a:cubicBezTo>
                <a:cubicBezTo>
                  <a:pt x="23156" y="9311"/>
                  <a:pt x="23208" y="9323"/>
                  <a:pt x="23267" y="9327"/>
                </a:cubicBezTo>
                <a:cubicBezTo>
                  <a:pt x="23325" y="9330"/>
                  <a:pt x="23328" y="9315"/>
                  <a:pt x="23366" y="9277"/>
                </a:cubicBezTo>
              </a:path>
              <a:path w="4664" h="2184">
                <a:moveTo>
                  <a:pt x="23292" y="8384"/>
                </a:moveTo>
                <a:cubicBezTo>
                  <a:pt x="23389" y="8384"/>
                  <a:pt x="23482" y="8375"/>
                  <a:pt x="23564" y="8359"/>
                </a:cubicBezTo>
                <a:cubicBezTo>
                  <a:pt x="23624" y="8347"/>
                  <a:pt x="23681" y="8339"/>
                  <a:pt x="23738" y="8334"/>
                </a:cubicBezTo>
                <a:cubicBezTo>
                  <a:pt x="23746" y="8334"/>
                  <a:pt x="23755" y="8334"/>
                  <a:pt x="23763" y="8334"/>
                </a:cubicBezTo>
              </a:path>
              <a:path w="4664" h="2184">
                <a:moveTo>
                  <a:pt x="23490" y="8334"/>
                </a:moveTo>
                <a:cubicBezTo>
                  <a:pt x="23490" y="8432"/>
                  <a:pt x="23479" y="8512"/>
                  <a:pt x="23465" y="8607"/>
                </a:cubicBezTo>
                <a:cubicBezTo>
                  <a:pt x="23453" y="8689"/>
                  <a:pt x="23452" y="8774"/>
                  <a:pt x="23440" y="8855"/>
                </a:cubicBezTo>
                <a:cubicBezTo>
                  <a:pt x="23428" y="8936"/>
                  <a:pt x="23419" y="9021"/>
                  <a:pt x="23416" y="9103"/>
                </a:cubicBezTo>
                <a:cubicBezTo>
                  <a:pt x="23416" y="9169"/>
                  <a:pt x="23416" y="9186"/>
                  <a:pt x="23416" y="9227"/>
                </a:cubicBezTo>
              </a:path>
              <a:path w="4664" h="2184">
                <a:moveTo>
                  <a:pt x="23589" y="8409"/>
                </a:moveTo>
                <a:cubicBezTo>
                  <a:pt x="23589" y="8579"/>
                  <a:pt x="23586" y="8739"/>
                  <a:pt x="23564" y="8905"/>
                </a:cubicBezTo>
                <a:cubicBezTo>
                  <a:pt x="23553" y="8986"/>
                  <a:pt x="23579" y="9062"/>
                  <a:pt x="23589" y="9128"/>
                </a:cubicBezTo>
                <a:cubicBezTo>
                  <a:pt x="23600" y="9203"/>
                  <a:pt x="23587" y="9233"/>
                  <a:pt x="23664" y="9252"/>
                </a:cubicBezTo>
              </a:path>
              <a:path w="4664" h="2184">
                <a:moveTo>
                  <a:pt x="24011" y="8260"/>
                </a:moveTo>
                <a:cubicBezTo>
                  <a:pt x="24011" y="8334"/>
                  <a:pt x="24011" y="8409"/>
                  <a:pt x="24011" y="8483"/>
                </a:cubicBezTo>
                <a:cubicBezTo>
                  <a:pt x="23989" y="8439"/>
                  <a:pt x="23946" y="8342"/>
                  <a:pt x="23961" y="8285"/>
                </a:cubicBezTo>
                <a:cubicBezTo>
                  <a:pt x="23977" y="8225"/>
                  <a:pt x="23966" y="8127"/>
                  <a:pt x="23986" y="8062"/>
                </a:cubicBezTo>
                <a:cubicBezTo>
                  <a:pt x="23994" y="8038"/>
                  <a:pt x="24054" y="7947"/>
                  <a:pt x="24085" y="7938"/>
                </a:cubicBezTo>
                <a:cubicBezTo>
                  <a:pt x="24120" y="7928"/>
                  <a:pt x="24172" y="7938"/>
                  <a:pt x="24209" y="7938"/>
                </a:cubicBezTo>
              </a:path>
              <a:path w="4664" h="2184">
                <a:moveTo>
                  <a:pt x="24482" y="7962"/>
                </a:moveTo>
                <a:cubicBezTo>
                  <a:pt x="24406" y="7919"/>
                  <a:pt x="24389" y="7907"/>
                  <a:pt x="24309" y="7962"/>
                </a:cubicBezTo>
                <a:cubicBezTo>
                  <a:pt x="24297" y="7970"/>
                  <a:pt x="24239" y="8068"/>
                  <a:pt x="24234" y="8086"/>
                </a:cubicBezTo>
                <a:cubicBezTo>
                  <a:pt x="24219" y="8140"/>
                  <a:pt x="24190" y="8223"/>
                  <a:pt x="24209" y="8285"/>
                </a:cubicBezTo>
                <a:cubicBezTo>
                  <a:pt x="24233" y="8362"/>
                  <a:pt x="24296" y="8318"/>
                  <a:pt x="24333" y="8285"/>
                </a:cubicBezTo>
                <a:cubicBezTo>
                  <a:pt x="24379" y="8243"/>
                  <a:pt x="24398" y="8188"/>
                  <a:pt x="24408" y="8136"/>
                </a:cubicBezTo>
                <a:cubicBezTo>
                  <a:pt x="24408" y="8119"/>
                  <a:pt x="24408" y="8103"/>
                  <a:pt x="24408" y="8086"/>
                </a:cubicBezTo>
                <a:cubicBezTo>
                  <a:pt x="24448" y="8136"/>
                  <a:pt x="24455" y="8185"/>
                  <a:pt x="24482" y="8235"/>
                </a:cubicBezTo>
                <a:cubicBezTo>
                  <a:pt x="24504" y="8279"/>
                  <a:pt x="24507" y="8291"/>
                  <a:pt x="24532" y="8310"/>
                </a:cubicBezTo>
              </a:path>
              <a:path w="4664" h="2184">
                <a:moveTo>
                  <a:pt x="24755" y="7863"/>
                </a:moveTo>
                <a:cubicBezTo>
                  <a:pt x="24712" y="7888"/>
                  <a:pt x="24660" y="7918"/>
                  <a:pt x="24631" y="7962"/>
                </a:cubicBezTo>
                <a:cubicBezTo>
                  <a:pt x="24610" y="7995"/>
                  <a:pt x="24564" y="8097"/>
                  <a:pt x="24557" y="8136"/>
                </a:cubicBezTo>
                <a:cubicBezTo>
                  <a:pt x="24544" y="8208"/>
                  <a:pt x="24566" y="8235"/>
                  <a:pt x="24606" y="8285"/>
                </a:cubicBezTo>
                <a:cubicBezTo>
                  <a:pt x="24664" y="8252"/>
                  <a:pt x="24717" y="8210"/>
                  <a:pt x="24730" y="8136"/>
                </a:cubicBezTo>
                <a:cubicBezTo>
                  <a:pt x="24747" y="8039"/>
                  <a:pt x="24736" y="7934"/>
                  <a:pt x="24755" y="7838"/>
                </a:cubicBezTo>
                <a:cubicBezTo>
                  <a:pt x="24769" y="7767"/>
                  <a:pt x="24807" y="7665"/>
                  <a:pt x="24780" y="7590"/>
                </a:cubicBezTo>
                <a:cubicBezTo>
                  <a:pt x="24772" y="7582"/>
                  <a:pt x="24763" y="7573"/>
                  <a:pt x="24755" y="7565"/>
                </a:cubicBezTo>
                <a:cubicBezTo>
                  <a:pt x="24755" y="7679"/>
                  <a:pt x="24727" y="7834"/>
                  <a:pt x="24780" y="7938"/>
                </a:cubicBezTo>
                <a:cubicBezTo>
                  <a:pt x="24801" y="7980"/>
                  <a:pt x="24806" y="8031"/>
                  <a:pt x="24854" y="8062"/>
                </a:cubicBezTo>
                <a:cubicBezTo>
                  <a:pt x="24915" y="8100"/>
                  <a:pt x="24972" y="8141"/>
                  <a:pt x="25028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46680" y="108000"/>
            <a:ext cx="304560" cy="241200"/>
          </a:xfrm>
          <a:custGeom>
            <a:avLst/>
            <a:gdLst/>
            <a:ahLst/>
            <a:rect l="l" t="t" r="r" b="b"/>
            <a:pathLst>
              <a:path w="844" h="670">
                <a:moveTo>
                  <a:pt x="10964" y="744"/>
                </a:moveTo>
                <a:cubicBezTo>
                  <a:pt x="10973" y="808"/>
                  <a:pt x="10988" y="847"/>
                  <a:pt x="10988" y="918"/>
                </a:cubicBezTo>
                <a:cubicBezTo>
                  <a:pt x="10988" y="934"/>
                  <a:pt x="10988" y="951"/>
                  <a:pt x="10988" y="967"/>
                </a:cubicBezTo>
                <a:cubicBezTo>
                  <a:pt x="10955" y="878"/>
                  <a:pt x="10974" y="833"/>
                  <a:pt x="10988" y="744"/>
                </a:cubicBezTo>
                <a:cubicBezTo>
                  <a:pt x="11000" y="667"/>
                  <a:pt x="10988" y="638"/>
                  <a:pt x="11038" y="571"/>
                </a:cubicBezTo>
                <a:cubicBezTo>
                  <a:pt x="11066" y="534"/>
                  <a:pt x="11111" y="479"/>
                  <a:pt x="11162" y="496"/>
                </a:cubicBezTo>
                <a:cubicBezTo>
                  <a:pt x="11170" y="504"/>
                  <a:pt x="11179" y="513"/>
                  <a:pt x="11187" y="521"/>
                </a:cubicBezTo>
              </a:path>
              <a:path w="844" h="670">
                <a:moveTo>
                  <a:pt x="11361" y="571"/>
                </a:moveTo>
                <a:cubicBezTo>
                  <a:pt x="11270" y="593"/>
                  <a:pt x="11231" y="642"/>
                  <a:pt x="11212" y="744"/>
                </a:cubicBezTo>
                <a:cubicBezTo>
                  <a:pt x="11196" y="828"/>
                  <a:pt x="11198" y="855"/>
                  <a:pt x="11237" y="943"/>
                </a:cubicBezTo>
                <a:cubicBezTo>
                  <a:pt x="11299" y="925"/>
                  <a:pt x="11343" y="873"/>
                  <a:pt x="11361" y="794"/>
                </a:cubicBezTo>
                <a:cubicBezTo>
                  <a:pt x="11386" y="683"/>
                  <a:pt x="11333" y="841"/>
                  <a:pt x="11410" y="868"/>
                </a:cubicBezTo>
                <a:cubicBezTo>
                  <a:pt x="11458" y="885"/>
                  <a:pt x="11499" y="864"/>
                  <a:pt x="11534" y="843"/>
                </a:cubicBezTo>
              </a:path>
              <a:path w="844" h="670">
                <a:moveTo>
                  <a:pt x="11683" y="620"/>
                </a:moveTo>
                <a:cubicBezTo>
                  <a:pt x="11674" y="534"/>
                  <a:pt x="11687" y="550"/>
                  <a:pt x="11633" y="496"/>
                </a:cubicBezTo>
                <a:cubicBezTo>
                  <a:pt x="11591" y="550"/>
                  <a:pt x="11573" y="614"/>
                  <a:pt x="11534" y="670"/>
                </a:cubicBezTo>
                <a:cubicBezTo>
                  <a:pt x="11491" y="732"/>
                  <a:pt x="11510" y="784"/>
                  <a:pt x="11559" y="843"/>
                </a:cubicBezTo>
                <a:cubicBezTo>
                  <a:pt x="11567" y="851"/>
                  <a:pt x="11576" y="860"/>
                  <a:pt x="11584" y="868"/>
                </a:cubicBezTo>
                <a:cubicBezTo>
                  <a:pt x="11668" y="783"/>
                  <a:pt x="11673" y="704"/>
                  <a:pt x="11708" y="595"/>
                </a:cubicBezTo>
                <a:cubicBezTo>
                  <a:pt x="11735" y="511"/>
                  <a:pt x="11733" y="437"/>
                  <a:pt x="11733" y="347"/>
                </a:cubicBezTo>
                <a:cubicBezTo>
                  <a:pt x="11733" y="216"/>
                  <a:pt x="11733" y="423"/>
                  <a:pt x="11733" y="446"/>
                </a:cubicBezTo>
                <a:cubicBezTo>
                  <a:pt x="11733" y="515"/>
                  <a:pt x="11729" y="608"/>
                  <a:pt x="11757" y="670"/>
                </a:cubicBezTo>
                <a:cubicBezTo>
                  <a:pt x="11774" y="707"/>
                  <a:pt x="11783" y="728"/>
                  <a:pt x="11807" y="7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197320" y="5446800"/>
            <a:ext cx="411480" cy="714240"/>
          </a:xfrm>
          <a:custGeom>
            <a:avLst/>
            <a:gdLst/>
            <a:ahLst/>
            <a:rect l="l" t="t" r="r" b="b"/>
            <a:pathLst>
              <a:path w="1142" h="1985">
                <a:moveTo>
                  <a:pt x="14610" y="15429"/>
                </a:moveTo>
                <a:cubicBezTo>
                  <a:pt x="14646" y="15405"/>
                  <a:pt x="14719" y="15341"/>
                  <a:pt x="14759" y="15329"/>
                </a:cubicBezTo>
                <a:cubicBezTo>
                  <a:pt x="14775" y="15329"/>
                  <a:pt x="14792" y="15329"/>
                  <a:pt x="14808" y="15329"/>
                </a:cubicBezTo>
              </a:path>
              <a:path w="1142" h="1985">
                <a:moveTo>
                  <a:pt x="14436" y="15577"/>
                </a:moveTo>
                <a:cubicBezTo>
                  <a:pt x="14436" y="15609"/>
                  <a:pt x="14424" y="15751"/>
                  <a:pt x="14486" y="15751"/>
                </a:cubicBezTo>
                <a:cubicBezTo>
                  <a:pt x="14542" y="15751"/>
                  <a:pt x="14637" y="15704"/>
                  <a:pt x="14709" y="15701"/>
                </a:cubicBezTo>
                <a:cubicBezTo>
                  <a:pt x="14781" y="15698"/>
                  <a:pt x="14882" y="15686"/>
                  <a:pt x="14932" y="15751"/>
                </a:cubicBezTo>
                <a:cubicBezTo>
                  <a:pt x="14971" y="15801"/>
                  <a:pt x="14933" y="15852"/>
                  <a:pt x="14908" y="15900"/>
                </a:cubicBezTo>
                <a:cubicBezTo>
                  <a:pt x="14863" y="15985"/>
                  <a:pt x="14830" y="16014"/>
                  <a:pt x="14759" y="16073"/>
                </a:cubicBezTo>
                <a:cubicBezTo>
                  <a:pt x="14701" y="16131"/>
                  <a:pt x="14676" y="16156"/>
                  <a:pt x="14635" y="16197"/>
                </a:cubicBezTo>
              </a:path>
              <a:path w="1142" h="1985">
                <a:moveTo>
                  <a:pt x="14932" y="15255"/>
                </a:moveTo>
                <a:cubicBezTo>
                  <a:pt x="15003" y="15245"/>
                  <a:pt x="15059" y="15207"/>
                  <a:pt x="15131" y="15180"/>
                </a:cubicBezTo>
                <a:cubicBezTo>
                  <a:pt x="15180" y="15162"/>
                  <a:pt x="15231" y="15141"/>
                  <a:pt x="15280" y="15131"/>
                </a:cubicBezTo>
              </a:path>
              <a:path w="1142" h="1985">
                <a:moveTo>
                  <a:pt x="15056" y="15180"/>
                </a:moveTo>
                <a:cubicBezTo>
                  <a:pt x="15066" y="15259"/>
                  <a:pt x="15081" y="15320"/>
                  <a:pt x="15081" y="15404"/>
                </a:cubicBezTo>
                <a:cubicBezTo>
                  <a:pt x="15081" y="15500"/>
                  <a:pt x="15073" y="15588"/>
                  <a:pt x="15106" y="15677"/>
                </a:cubicBezTo>
              </a:path>
              <a:path w="1142" h="1985">
                <a:moveTo>
                  <a:pt x="15180" y="15156"/>
                </a:moveTo>
                <a:cubicBezTo>
                  <a:pt x="15187" y="15222"/>
                  <a:pt x="15189" y="15278"/>
                  <a:pt x="15230" y="15329"/>
                </a:cubicBezTo>
                <a:cubicBezTo>
                  <a:pt x="15269" y="15377"/>
                  <a:pt x="15255" y="15427"/>
                  <a:pt x="15280" y="15478"/>
                </a:cubicBezTo>
                <a:cubicBezTo>
                  <a:pt x="15297" y="15513"/>
                  <a:pt x="15351" y="15550"/>
                  <a:pt x="15379" y="15577"/>
                </a:cubicBezTo>
              </a:path>
              <a:path w="1142" h="1985">
                <a:moveTo>
                  <a:pt x="14635" y="16123"/>
                </a:moveTo>
                <a:cubicBezTo>
                  <a:pt x="14687" y="16081"/>
                  <a:pt x="14756" y="16065"/>
                  <a:pt x="14808" y="16024"/>
                </a:cubicBezTo>
                <a:cubicBezTo>
                  <a:pt x="14905" y="15948"/>
                  <a:pt x="15000" y="15867"/>
                  <a:pt x="15106" y="15801"/>
                </a:cubicBezTo>
                <a:cubicBezTo>
                  <a:pt x="15155" y="15771"/>
                  <a:pt x="15248" y="15714"/>
                  <a:pt x="15304" y="15701"/>
                </a:cubicBezTo>
                <a:cubicBezTo>
                  <a:pt x="15354" y="15701"/>
                  <a:pt x="15371" y="15701"/>
                  <a:pt x="15404" y="15701"/>
                </a:cubicBezTo>
              </a:path>
              <a:path w="1142" h="1985">
                <a:moveTo>
                  <a:pt x="15032" y="16222"/>
                </a:moveTo>
                <a:cubicBezTo>
                  <a:pt x="15032" y="16239"/>
                  <a:pt x="15032" y="16255"/>
                  <a:pt x="15032" y="16272"/>
                </a:cubicBezTo>
                <a:cubicBezTo>
                  <a:pt x="15080" y="16222"/>
                  <a:pt x="15126" y="16189"/>
                  <a:pt x="15180" y="16148"/>
                </a:cubicBezTo>
                <a:cubicBezTo>
                  <a:pt x="15218" y="16119"/>
                  <a:pt x="15276" y="16055"/>
                  <a:pt x="15329" y="16073"/>
                </a:cubicBezTo>
                <a:cubicBezTo>
                  <a:pt x="15406" y="16099"/>
                  <a:pt x="15362" y="16159"/>
                  <a:pt x="15354" y="16197"/>
                </a:cubicBezTo>
                <a:cubicBezTo>
                  <a:pt x="15339" y="16271"/>
                  <a:pt x="15315" y="16326"/>
                  <a:pt x="15280" y="16396"/>
                </a:cubicBezTo>
                <a:cubicBezTo>
                  <a:pt x="15274" y="16408"/>
                  <a:pt x="15143" y="16582"/>
                  <a:pt x="15205" y="16520"/>
                </a:cubicBezTo>
                <a:cubicBezTo>
                  <a:pt x="15235" y="16490"/>
                  <a:pt x="15334" y="16460"/>
                  <a:pt x="15379" y="16470"/>
                </a:cubicBezTo>
                <a:cubicBezTo>
                  <a:pt x="15440" y="16484"/>
                  <a:pt x="15502" y="16506"/>
                  <a:pt x="15553" y="16545"/>
                </a:cubicBezTo>
                <a:cubicBezTo>
                  <a:pt x="15602" y="16583"/>
                  <a:pt x="15587" y="16724"/>
                  <a:pt x="15553" y="16768"/>
                </a:cubicBezTo>
                <a:cubicBezTo>
                  <a:pt x="15520" y="16811"/>
                  <a:pt x="15451" y="16906"/>
                  <a:pt x="15404" y="16942"/>
                </a:cubicBezTo>
                <a:cubicBezTo>
                  <a:pt x="15361" y="16975"/>
                  <a:pt x="15301" y="17011"/>
                  <a:pt x="15255" y="17041"/>
                </a:cubicBezTo>
                <a:cubicBezTo>
                  <a:pt x="15207" y="17072"/>
                  <a:pt x="15161" y="17104"/>
                  <a:pt x="15106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44760" y="857160"/>
            <a:ext cx="4921200" cy="4545000"/>
          </a:xfrm>
          <a:custGeom>
            <a:avLst/>
            <a:gdLst/>
            <a:ahLst/>
            <a:rect l="l" t="t" r="r" b="b"/>
            <a:pathLst>
              <a:path w="13669" h="12627">
                <a:moveTo>
                  <a:pt x="11162" y="2530"/>
                </a:moveTo>
                <a:cubicBezTo>
                  <a:pt x="11080" y="2517"/>
                  <a:pt x="10996" y="2489"/>
                  <a:pt x="10914" y="2480"/>
                </a:cubicBezTo>
                <a:cubicBezTo>
                  <a:pt x="10816" y="2469"/>
                  <a:pt x="10713" y="2437"/>
                  <a:pt x="10616" y="2431"/>
                </a:cubicBezTo>
                <a:cubicBezTo>
                  <a:pt x="10328" y="2412"/>
                  <a:pt x="10033" y="2434"/>
                  <a:pt x="9748" y="2456"/>
                </a:cubicBezTo>
                <a:cubicBezTo>
                  <a:pt x="9586" y="2469"/>
                  <a:pt x="9413" y="2482"/>
                  <a:pt x="9252" y="2505"/>
                </a:cubicBezTo>
                <a:cubicBezTo>
                  <a:pt x="8887" y="2557"/>
                  <a:pt x="8534" y="2666"/>
                  <a:pt x="8186" y="2778"/>
                </a:cubicBezTo>
                <a:cubicBezTo>
                  <a:pt x="7745" y="2920"/>
                  <a:pt x="7335" y="3103"/>
                  <a:pt x="6945" y="3349"/>
                </a:cubicBezTo>
                <a:cubicBezTo>
                  <a:pt x="6322" y="3741"/>
                  <a:pt x="5816" y="4258"/>
                  <a:pt x="5407" y="4862"/>
                </a:cubicBezTo>
                <a:cubicBezTo>
                  <a:pt x="5224" y="5133"/>
                  <a:pt x="5071" y="5405"/>
                  <a:pt x="4936" y="5705"/>
                </a:cubicBezTo>
                <a:cubicBezTo>
                  <a:pt x="4621" y="6405"/>
                  <a:pt x="4423" y="7153"/>
                  <a:pt x="4341" y="7913"/>
                </a:cubicBezTo>
                <a:cubicBezTo>
                  <a:pt x="4321" y="8095"/>
                  <a:pt x="4327" y="8275"/>
                  <a:pt x="4316" y="8458"/>
                </a:cubicBezTo>
                <a:cubicBezTo>
                  <a:pt x="4288" y="8917"/>
                  <a:pt x="4317" y="9344"/>
                  <a:pt x="4390" y="9798"/>
                </a:cubicBezTo>
                <a:cubicBezTo>
                  <a:pt x="4446" y="10151"/>
                  <a:pt x="4507" y="10519"/>
                  <a:pt x="4614" y="10864"/>
                </a:cubicBezTo>
                <a:cubicBezTo>
                  <a:pt x="4698" y="11134"/>
                  <a:pt x="4801" y="11398"/>
                  <a:pt x="4911" y="11658"/>
                </a:cubicBezTo>
                <a:cubicBezTo>
                  <a:pt x="5043" y="11969"/>
                  <a:pt x="5198" y="12280"/>
                  <a:pt x="5358" y="12576"/>
                </a:cubicBezTo>
                <a:cubicBezTo>
                  <a:pt x="5477" y="12797"/>
                  <a:pt x="5613" y="13059"/>
                  <a:pt x="5779" y="13246"/>
                </a:cubicBezTo>
                <a:cubicBezTo>
                  <a:pt x="5879" y="13358"/>
                  <a:pt x="6009" y="13469"/>
                  <a:pt x="6127" y="13568"/>
                </a:cubicBezTo>
                <a:cubicBezTo>
                  <a:pt x="6255" y="13676"/>
                  <a:pt x="6403" y="13777"/>
                  <a:pt x="6548" y="13866"/>
                </a:cubicBezTo>
                <a:cubicBezTo>
                  <a:pt x="7198" y="14267"/>
                  <a:pt x="7937" y="14512"/>
                  <a:pt x="8657" y="14734"/>
                </a:cubicBezTo>
                <a:cubicBezTo>
                  <a:pt x="9368" y="14953"/>
                  <a:pt x="10078" y="15015"/>
                  <a:pt x="10815" y="14982"/>
                </a:cubicBezTo>
                <a:cubicBezTo>
                  <a:pt x="10958" y="14976"/>
                  <a:pt x="11095" y="14970"/>
                  <a:pt x="11237" y="14957"/>
                </a:cubicBezTo>
                <a:cubicBezTo>
                  <a:pt x="11374" y="14945"/>
                  <a:pt x="11522" y="14928"/>
                  <a:pt x="11658" y="14908"/>
                </a:cubicBezTo>
                <a:cubicBezTo>
                  <a:pt x="11831" y="14883"/>
                  <a:pt x="12007" y="14859"/>
                  <a:pt x="12179" y="14833"/>
                </a:cubicBezTo>
                <a:cubicBezTo>
                  <a:pt x="12320" y="14812"/>
                  <a:pt x="12462" y="14787"/>
                  <a:pt x="12601" y="14759"/>
                </a:cubicBezTo>
                <a:cubicBezTo>
                  <a:pt x="13140" y="14650"/>
                  <a:pt x="13631" y="14497"/>
                  <a:pt x="14114" y="14238"/>
                </a:cubicBezTo>
                <a:cubicBezTo>
                  <a:pt x="14528" y="14017"/>
                  <a:pt x="14905" y="13766"/>
                  <a:pt x="15280" y="13494"/>
                </a:cubicBezTo>
                <a:cubicBezTo>
                  <a:pt x="15394" y="13412"/>
                  <a:pt x="15519" y="13340"/>
                  <a:pt x="15627" y="13246"/>
                </a:cubicBezTo>
                <a:cubicBezTo>
                  <a:pt x="15888" y="13019"/>
                  <a:pt x="16142" y="12746"/>
                  <a:pt x="16346" y="12477"/>
                </a:cubicBezTo>
                <a:cubicBezTo>
                  <a:pt x="16463" y="12322"/>
                  <a:pt x="16591" y="12144"/>
                  <a:pt x="16694" y="11981"/>
                </a:cubicBezTo>
                <a:cubicBezTo>
                  <a:pt x="16782" y="11841"/>
                  <a:pt x="16860" y="11679"/>
                  <a:pt x="16942" y="11534"/>
                </a:cubicBezTo>
                <a:cubicBezTo>
                  <a:pt x="17117" y="11223"/>
                  <a:pt x="17301" y="10891"/>
                  <a:pt x="17438" y="10567"/>
                </a:cubicBezTo>
                <a:cubicBezTo>
                  <a:pt x="17486" y="10453"/>
                  <a:pt x="17521" y="10338"/>
                  <a:pt x="17562" y="10220"/>
                </a:cubicBezTo>
                <a:cubicBezTo>
                  <a:pt x="17700" y="9822"/>
                  <a:pt x="17779" y="9388"/>
                  <a:pt x="17859" y="8979"/>
                </a:cubicBezTo>
                <a:cubicBezTo>
                  <a:pt x="17882" y="8861"/>
                  <a:pt x="17892" y="8750"/>
                  <a:pt x="17909" y="8632"/>
                </a:cubicBezTo>
                <a:cubicBezTo>
                  <a:pt x="17930" y="8482"/>
                  <a:pt x="17955" y="8339"/>
                  <a:pt x="17959" y="8186"/>
                </a:cubicBezTo>
                <a:cubicBezTo>
                  <a:pt x="17963" y="8035"/>
                  <a:pt x="17935" y="7882"/>
                  <a:pt x="17909" y="7739"/>
                </a:cubicBezTo>
                <a:cubicBezTo>
                  <a:pt x="17890" y="7631"/>
                  <a:pt x="17863" y="7521"/>
                  <a:pt x="17835" y="7417"/>
                </a:cubicBezTo>
                <a:cubicBezTo>
                  <a:pt x="17757" y="7126"/>
                  <a:pt x="17631" y="6787"/>
                  <a:pt x="17487" y="6524"/>
                </a:cubicBezTo>
                <a:cubicBezTo>
                  <a:pt x="17429" y="6418"/>
                  <a:pt x="17354" y="6309"/>
                  <a:pt x="17289" y="6201"/>
                </a:cubicBezTo>
                <a:cubicBezTo>
                  <a:pt x="17227" y="6098"/>
                  <a:pt x="17159" y="5977"/>
                  <a:pt x="17090" y="5879"/>
                </a:cubicBezTo>
                <a:cubicBezTo>
                  <a:pt x="16778" y="5436"/>
                  <a:pt x="16417" y="5058"/>
                  <a:pt x="16024" y="4688"/>
                </a:cubicBezTo>
                <a:cubicBezTo>
                  <a:pt x="15890" y="4562"/>
                  <a:pt x="15749" y="4435"/>
                  <a:pt x="15602" y="4316"/>
                </a:cubicBezTo>
                <a:cubicBezTo>
                  <a:pt x="15167" y="3962"/>
                  <a:pt x="14726" y="3637"/>
                  <a:pt x="14238" y="3373"/>
                </a:cubicBezTo>
                <a:cubicBezTo>
                  <a:pt x="13668" y="3065"/>
                  <a:pt x="13047" y="2817"/>
                  <a:pt x="12427" y="2629"/>
                </a:cubicBezTo>
                <a:cubicBezTo>
                  <a:pt x="12300" y="2590"/>
                  <a:pt x="12162" y="2563"/>
                  <a:pt x="12030" y="2530"/>
                </a:cubicBezTo>
                <a:cubicBezTo>
                  <a:pt x="11931" y="2506"/>
                  <a:pt x="11834" y="2478"/>
                  <a:pt x="11733" y="2456"/>
                </a:cubicBezTo>
                <a:cubicBezTo>
                  <a:pt x="11632" y="2434"/>
                  <a:pt x="11537" y="2420"/>
                  <a:pt x="11435" y="2406"/>
                </a:cubicBezTo>
                <a:cubicBezTo>
                  <a:pt x="11318" y="2390"/>
                  <a:pt x="11208" y="2382"/>
                  <a:pt x="11088" y="2381"/>
                </a:cubicBezTo>
                <a:cubicBezTo>
                  <a:pt x="10730" y="2377"/>
                  <a:pt x="10458" y="2466"/>
                  <a:pt x="10120" y="25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81120" y="3143160"/>
            <a:ext cx="4840200" cy="88920"/>
          </a:xfrm>
          <a:custGeom>
            <a:avLst/>
            <a:gdLst/>
            <a:ahLst/>
            <a:rect l="l" t="t" r="r" b="b"/>
            <a:pathLst>
              <a:path w="13446" h="249">
                <a:moveTo>
                  <a:pt x="4390" y="8731"/>
                </a:moveTo>
                <a:cubicBezTo>
                  <a:pt x="4434" y="8735"/>
                  <a:pt x="4505" y="8754"/>
                  <a:pt x="4564" y="8756"/>
                </a:cubicBezTo>
                <a:cubicBezTo>
                  <a:pt x="4733" y="8763"/>
                  <a:pt x="4893" y="8775"/>
                  <a:pt x="5060" y="8781"/>
                </a:cubicBezTo>
                <a:cubicBezTo>
                  <a:pt x="5189" y="8786"/>
                  <a:pt x="5307" y="8802"/>
                  <a:pt x="5432" y="8806"/>
                </a:cubicBezTo>
                <a:cubicBezTo>
                  <a:pt x="6356" y="8838"/>
                  <a:pt x="7289" y="8830"/>
                  <a:pt x="8210" y="8830"/>
                </a:cubicBezTo>
                <a:cubicBezTo>
                  <a:pt x="8618" y="8830"/>
                  <a:pt x="9022" y="8851"/>
                  <a:pt x="9426" y="8855"/>
                </a:cubicBezTo>
                <a:cubicBezTo>
                  <a:pt x="10023" y="8861"/>
                  <a:pt x="10618" y="8874"/>
                  <a:pt x="11212" y="8880"/>
                </a:cubicBezTo>
                <a:cubicBezTo>
                  <a:pt x="11413" y="8882"/>
                  <a:pt x="11609" y="8899"/>
                  <a:pt x="11807" y="8905"/>
                </a:cubicBezTo>
                <a:cubicBezTo>
                  <a:pt x="12411" y="8925"/>
                  <a:pt x="13017" y="8924"/>
                  <a:pt x="13618" y="8930"/>
                </a:cubicBezTo>
                <a:cubicBezTo>
                  <a:pt x="14174" y="8935"/>
                  <a:pt x="14728" y="8950"/>
                  <a:pt x="15280" y="8954"/>
                </a:cubicBezTo>
                <a:cubicBezTo>
                  <a:pt x="15531" y="8956"/>
                  <a:pt x="15776" y="8971"/>
                  <a:pt x="16024" y="8979"/>
                </a:cubicBezTo>
                <a:cubicBezTo>
                  <a:pt x="16574" y="8996"/>
                  <a:pt x="17206" y="9037"/>
                  <a:pt x="17735" y="8954"/>
                </a:cubicBezTo>
                <a:cubicBezTo>
                  <a:pt x="17779" y="8947"/>
                  <a:pt x="17766" y="8940"/>
                  <a:pt x="17810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562200" y="3133800"/>
            <a:ext cx="108000" cy="9036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0145" y="8756"/>
                </a:moveTo>
                <a:cubicBezTo>
                  <a:pt x="10083" y="8718"/>
                  <a:pt x="10071" y="8731"/>
                  <a:pt x="10021" y="8781"/>
                </a:cubicBezTo>
                <a:cubicBezTo>
                  <a:pt x="9977" y="8825"/>
                  <a:pt x="9980" y="8818"/>
                  <a:pt x="9971" y="8880"/>
                </a:cubicBezTo>
                <a:cubicBezTo>
                  <a:pt x="10023" y="8932"/>
                  <a:pt x="10049" y="8949"/>
                  <a:pt x="10120" y="8905"/>
                </a:cubicBezTo>
                <a:cubicBezTo>
                  <a:pt x="10188" y="8863"/>
                  <a:pt x="10178" y="8797"/>
                  <a:pt x="10145" y="8731"/>
                </a:cubicBezTo>
                <a:cubicBezTo>
                  <a:pt x="10137" y="8723"/>
                  <a:pt x="10128" y="8714"/>
                  <a:pt x="10120" y="8706"/>
                </a:cubicBezTo>
                <a:cubicBezTo>
                  <a:pt x="10056" y="8743"/>
                  <a:pt x="10025" y="8754"/>
                  <a:pt x="10021" y="8830"/>
                </a:cubicBezTo>
                <a:cubicBezTo>
                  <a:pt x="10017" y="8889"/>
                  <a:pt x="10033" y="8892"/>
                  <a:pt x="10071" y="8930"/>
                </a:cubicBezTo>
                <a:cubicBezTo>
                  <a:pt x="10125" y="8923"/>
                  <a:pt x="10209" y="8897"/>
                  <a:pt x="10195" y="8830"/>
                </a:cubicBezTo>
                <a:cubicBezTo>
                  <a:pt x="10191" y="8810"/>
                  <a:pt x="10123" y="8714"/>
                  <a:pt x="10096" y="8706"/>
                </a:cubicBezTo>
                <a:cubicBezTo>
                  <a:pt x="10018" y="8683"/>
                  <a:pt x="9989" y="8762"/>
                  <a:pt x="9971" y="8806"/>
                </a:cubicBezTo>
                <a:cubicBezTo>
                  <a:pt x="9943" y="8874"/>
                  <a:pt x="9959" y="8864"/>
                  <a:pt x="9996" y="8930"/>
                </a:cubicBezTo>
                <a:cubicBezTo>
                  <a:pt x="10004" y="8938"/>
                  <a:pt x="10013" y="8946"/>
                  <a:pt x="10021" y="8954"/>
                </a:cubicBezTo>
                <a:cubicBezTo>
                  <a:pt x="10062" y="8914"/>
                  <a:pt x="10096" y="8869"/>
                  <a:pt x="10071" y="8806"/>
                </a:cubicBezTo>
                <a:cubicBezTo>
                  <a:pt x="10045" y="8740"/>
                  <a:pt x="10005" y="8709"/>
                  <a:pt x="9947" y="8756"/>
                </a:cubicBezTo>
                <a:cubicBezTo>
                  <a:pt x="9883" y="8808"/>
                  <a:pt x="9895" y="8833"/>
                  <a:pt x="9922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dc0b"/>
                </a:solidFill>
                <a:uFillTx/>
                <a:latin typeface="Tahoma"/>
                <a:hlinkClick r:id="rId1"/>
              </a:rPr>
              <a:t>Interactive Unit Circle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o convert from degrees to radian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21337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y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1981080" y="1905120"/>
          <a:ext cx="1117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1117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Box 4"/>
          <p:cNvSpPr/>
          <p:nvPr/>
        </p:nvSpPr>
        <p:spPr>
          <a:xfrm>
            <a:off x="685800" y="33526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 Express 250° in radian meas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50° x                   =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523880" y="3733920"/>
          <a:ext cx="1117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117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94000" y="2295360"/>
            <a:ext cx="338040" cy="9720"/>
          </a:xfrm>
          <a:custGeom>
            <a:avLst/>
            <a:gdLst/>
            <a:ahLst/>
            <a:rect l="l" t="t" r="r" b="b"/>
            <a:pathLst>
              <a:path w="943" h="26">
                <a:moveTo>
                  <a:pt x="6648" y="6400"/>
                </a:moveTo>
                <a:cubicBezTo>
                  <a:pt x="6896" y="6400"/>
                  <a:pt x="7153" y="6413"/>
                  <a:pt x="7392" y="6375"/>
                </a:cubicBezTo>
                <a:cubicBezTo>
                  <a:pt x="7424" y="6370"/>
                  <a:pt x="7635" y="6364"/>
                  <a:pt x="7565" y="6400"/>
                </a:cubicBezTo>
                <a:cubicBezTo>
                  <a:pt x="7557" y="6400"/>
                  <a:pt x="7549" y="6400"/>
                  <a:pt x="7541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77880" y="3697200"/>
            <a:ext cx="1893960" cy="1152720"/>
          </a:xfrm>
          <a:custGeom>
            <a:avLst/>
            <a:gdLst/>
            <a:ahLst/>
            <a:rect l="l" t="t" r="r" b="b"/>
            <a:pathLst>
              <a:path w="5260" h="3201">
                <a:moveTo>
                  <a:pt x="5432" y="11435"/>
                </a:moveTo>
                <a:lnTo>
                  <a:pt x="5432" y="11435"/>
                </a:lnTo>
              </a:path>
              <a:path w="5260" h="3201">
                <a:moveTo>
                  <a:pt x="5333" y="11485"/>
                </a:moveTo>
                <a:cubicBezTo>
                  <a:pt x="5403" y="11476"/>
                  <a:pt x="5458" y="11460"/>
                  <a:pt x="5531" y="11460"/>
                </a:cubicBezTo>
                <a:cubicBezTo>
                  <a:pt x="5654" y="11460"/>
                  <a:pt x="5761" y="11468"/>
                  <a:pt x="5879" y="11485"/>
                </a:cubicBezTo>
                <a:cubicBezTo>
                  <a:pt x="5966" y="11498"/>
                  <a:pt x="6064" y="11485"/>
                  <a:pt x="6152" y="11485"/>
                </a:cubicBezTo>
              </a:path>
              <a:path w="5260" h="3201">
                <a:moveTo>
                  <a:pt x="1885" y="11733"/>
                </a:moveTo>
                <a:cubicBezTo>
                  <a:pt x="1997" y="11733"/>
                  <a:pt x="2103" y="11744"/>
                  <a:pt x="2208" y="11757"/>
                </a:cubicBezTo>
                <a:cubicBezTo>
                  <a:pt x="2543" y="11798"/>
                  <a:pt x="2895" y="11732"/>
                  <a:pt x="3225" y="11782"/>
                </a:cubicBezTo>
                <a:cubicBezTo>
                  <a:pt x="3259" y="11787"/>
                  <a:pt x="3448" y="11782"/>
                  <a:pt x="3398" y="11782"/>
                </a:cubicBezTo>
              </a:path>
              <a:path w="5260" h="3201">
                <a:moveTo>
                  <a:pt x="2729" y="12005"/>
                </a:moveTo>
                <a:cubicBezTo>
                  <a:pt x="2722" y="12099"/>
                  <a:pt x="2690" y="12163"/>
                  <a:pt x="2679" y="12254"/>
                </a:cubicBezTo>
                <a:cubicBezTo>
                  <a:pt x="2671" y="12315"/>
                  <a:pt x="2676" y="12420"/>
                  <a:pt x="2654" y="12477"/>
                </a:cubicBezTo>
                <a:cubicBezTo>
                  <a:pt x="2631" y="12536"/>
                  <a:pt x="2608" y="12609"/>
                  <a:pt x="2604" y="12675"/>
                </a:cubicBezTo>
                <a:cubicBezTo>
                  <a:pt x="2602" y="12716"/>
                  <a:pt x="2604" y="12758"/>
                  <a:pt x="2604" y="12799"/>
                </a:cubicBezTo>
              </a:path>
              <a:path w="5260" h="3201">
                <a:moveTo>
                  <a:pt x="2084" y="11559"/>
                </a:moveTo>
                <a:cubicBezTo>
                  <a:pt x="2135" y="11517"/>
                  <a:pt x="2187" y="11521"/>
                  <a:pt x="2232" y="11485"/>
                </a:cubicBezTo>
                <a:cubicBezTo>
                  <a:pt x="2279" y="11448"/>
                  <a:pt x="2318" y="11399"/>
                  <a:pt x="2381" y="11385"/>
                </a:cubicBezTo>
                <a:cubicBezTo>
                  <a:pt x="2469" y="11365"/>
                  <a:pt x="2521" y="11326"/>
                  <a:pt x="2604" y="11286"/>
                </a:cubicBezTo>
                <a:cubicBezTo>
                  <a:pt x="2673" y="11253"/>
                  <a:pt x="2743" y="11242"/>
                  <a:pt x="2803" y="11212"/>
                </a:cubicBezTo>
                <a:cubicBezTo>
                  <a:pt x="2884" y="11171"/>
                  <a:pt x="2975" y="11146"/>
                  <a:pt x="3051" y="11112"/>
                </a:cubicBezTo>
                <a:cubicBezTo>
                  <a:pt x="3076" y="11088"/>
                  <a:pt x="3085" y="11080"/>
                  <a:pt x="3101" y="11063"/>
                </a:cubicBezTo>
              </a:path>
              <a:path w="5260" h="3201">
                <a:moveTo>
                  <a:pt x="2208" y="10344"/>
                </a:moveTo>
                <a:cubicBezTo>
                  <a:pt x="2208" y="10461"/>
                  <a:pt x="2199" y="10290"/>
                  <a:pt x="2257" y="10269"/>
                </a:cubicBezTo>
                <a:cubicBezTo>
                  <a:pt x="2321" y="10246"/>
                  <a:pt x="2356" y="10326"/>
                  <a:pt x="2381" y="10368"/>
                </a:cubicBezTo>
                <a:cubicBezTo>
                  <a:pt x="2424" y="10440"/>
                  <a:pt x="2416" y="10542"/>
                  <a:pt x="2381" y="10616"/>
                </a:cubicBezTo>
                <a:cubicBezTo>
                  <a:pt x="2351" y="10679"/>
                  <a:pt x="2310" y="10701"/>
                  <a:pt x="2257" y="10740"/>
                </a:cubicBezTo>
                <a:cubicBezTo>
                  <a:pt x="2204" y="10780"/>
                  <a:pt x="2174" y="10811"/>
                  <a:pt x="2108" y="10815"/>
                </a:cubicBezTo>
                <a:cubicBezTo>
                  <a:pt x="2046" y="10819"/>
                  <a:pt x="1966" y="10794"/>
                  <a:pt x="1984" y="10716"/>
                </a:cubicBezTo>
                <a:cubicBezTo>
                  <a:pt x="2003" y="10636"/>
                  <a:pt x="2086" y="10618"/>
                  <a:pt x="2158" y="10641"/>
                </a:cubicBezTo>
                <a:cubicBezTo>
                  <a:pt x="2216" y="10659"/>
                  <a:pt x="2275" y="10772"/>
                  <a:pt x="2307" y="10815"/>
                </a:cubicBezTo>
                <a:cubicBezTo>
                  <a:pt x="2340" y="10859"/>
                  <a:pt x="2354" y="10901"/>
                  <a:pt x="2406" y="10914"/>
                </a:cubicBezTo>
              </a:path>
              <a:path w="5260" h="3201">
                <a:moveTo>
                  <a:pt x="2580" y="10368"/>
                </a:moveTo>
                <a:cubicBezTo>
                  <a:pt x="2650" y="10368"/>
                  <a:pt x="2690" y="10347"/>
                  <a:pt x="2753" y="10344"/>
                </a:cubicBezTo>
                <a:cubicBezTo>
                  <a:pt x="2826" y="10341"/>
                  <a:pt x="2855" y="10319"/>
                  <a:pt x="2927" y="10319"/>
                </a:cubicBezTo>
              </a:path>
              <a:path w="5260" h="3201">
                <a:moveTo>
                  <a:pt x="2580" y="10368"/>
                </a:moveTo>
                <a:cubicBezTo>
                  <a:pt x="2547" y="10423"/>
                  <a:pt x="2555" y="10474"/>
                  <a:pt x="2555" y="10542"/>
                </a:cubicBezTo>
                <a:cubicBezTo>
                  <a:pt x="2589" y="10507"/>
                  <a:pt x="2621" y="10449"/>
                  <a:pt x="2679" y="10468"/>
                </a:cubicBezTo>
                <a:cubicBezTo>
                  <a:pt x="2741" y="10488"/>
                  <a:pt x="2768" y="10546"/>
                  <a:pt x="2803" y="10592"/>
                </a:cubicBezTo>
                <a:cubicBezTo>
                  <a:pt x="2853" y="10658"/>
                  <a:pt x="2875" y="10672"/>
                  <a:pt x="2828" y="10765"/>
                </a:cubicBezTo>
                <a:cubicBezTo>
                  <a:pt x="2803" y="10815"/>
                  <a:pt x="2752" y="10838"/>
                  <a:pt x="2704" y="10840"/>
                </a:cubicBezTo>
                <a:cubicBezTo>
                  <a:pt x="2665" y="10842"/>
                  <a:pt x="2536" y="10813"/>
                  <a:pt x="2505" y="10790"/>
                </a:cubicBezTo>
                <a:cubicBezTo>
                  <a:pt x="2505" y="10782"/>
                  <a:pt x="2505" y="10773"/>
                  <a:pt x="2505" y="10765"/>
                </a:cubicBezTo>
              </a:path>
              <a:path w="5260" h="3201">
                <a:moveTo>
                  <a:pt x="4242" y="12378"/>
                </a:moveTo>
                <a:cubicBezTo>
                  <a:pt x="4297" y="12321"/>
                  <a:pt x="4341" y="12309"/>
                  <a:pt x="4415" y="12278"/>
                </a:cubicBezTo>
                <a:cubicBezTo>
                  <a:pt x="4503" y="12241"/>
                  <a:pt x="4575" y="12224"/>
                  <a:pt x="4663" y="12204"/>
                </a:cubicBezTo>
                <a:cubicBezTo>
                  <a:pt x="4775" y="12178"/>
                  <a:pt x="4874" y="12112"/>
                  <a:pt x="4986" y="12080"/>
                </a:cubicBezTo>
                <a:cubicBezTo>
                  <a:pt x="5088" y="12051"/>
                  <a:pt x="5184" y="12018"/>
                  <a:pt x="5283" y="11981"/>
                </a:cubicBezTo>
                <a:cubicBezTo>
                  <a:pt x="5350" y="11956"/>
                  <a:pt x="5421" y="11922"/>
                  <a:pt x="5482" y="11881"/>
                </a:cubicBezTo>
                <a:cubicBezTo>
                  <a:pt x="5505" y="11859"/>
                  <a:pt x="5516" y="11851"/>
                  <a:pt x="5482" y="11857"/>
                </a:cubicBezTo>
              </a:path>
              <a:path w="5260" h="3201">
                <a:moveTo>
                  <a:pt x="4787" y="12650"/>
                </a:moveTo>
                <a:cubicBezTo>
                  <a:pt x="4787" y="12734"/>
                  <a:pt x="4766" y="12795"/>
                  <a:pt x="4762" y="12874"/>
                </a:cubicBezTo>
                <a:cubicBezTo>
                  <a:pt x="4758" y="12944"/>
                  <a:pt x="4738" y="12999"/>
                  <a:pt x="4738" y="13072"/>
                </a:cubicBezTo>
                <a:cubicBezTo>
                  <a:pt x="4738" y="13162"/>
                  <a:pt x="4727" y="13236"/>
                  <a:pt x="4713" y="13320"/>
                </a:cubicBezTo>
                <a:cubicBezTo>
                  <a:pt x="4713" y="13365"/>
                  <a:pt x="4710" y="13385"/>
                  <a:pt x="4738" y="13345"/>
                </a:cubicBezTo>
              </a:path>
              <a:path w="5260" h="3201">
                <a:moveTo>
                  <a:pt x="5283" y="12874"/>
                </a:moveTo>
                <a:cubicBezTo>
                  <a:pt x="5274" y="12780"/>
                  <a:pt x="5266" y="12746"/>
                  <a:pt x="5159" y="12725"/>
                </a:cubicBezTo>
                <a:cubicBezTo>
                  <a:pt x="5112" y="12716"/>
                  <a:pt x="4988" y="12726"/>
                  <a:pt x="4961" y="12774"/>
                </a:cubicBezTo>
                <a:cubicBezTo>
                  <a:pt x="4923" y="12840"/>
                  <a:pt x="5021" y="12957"/>
                  <a:pt x="5060" y="12998"/>
                </a:cubicBezTo>
                <a:cubicBezTo>
                  <a:pt x="5137" y="13079"/>
                  <a:pt x="5229" y="13148"/>
                  <a:pt x="5283" y="13246"/>
                </a:cubicBezTo>
                <a:cubicBezTo>
                  <a:pt x="5318" y="13309"/>
                  <a:pt x="5327" y="13389"/>
                  <a:pt x="5308" y="13444"/>
                </a:cubicBezTo>
                <a:cubicBezTo>
                  <a:pt x="5228" y="13464"/>
                  <a:pt x="5206" y="13433"/>
                  <a:pt x="5135" y="13419"/>
                </a:cubicBezTo>
                <a:cubicBezTo>
                  <a:pt x="5049" y="13402"/>
                  <a:pt x="5063" y="13390"/>
                  <a:pt x="5011" y="13320"/>
                </a:cubicBezTo>
                <a:cubicBezTo>
                  <a:pt x="4964" y="13256"/>
                  <a:pt x="5001" y="13213"/>
                  <a:pt x="5035" y="13146"/>
                </a:cubicBezTo>
                <a:cubicBezTo>
                  <a:pt x="5077" y="13062"/>
                  <a:pt x="5136" y="12978"/>
                  <a:pt x="5184" y="12898"/>
                </a:cubicBezTo>
                <a:cubicBezTo>
                  <a:pt x="5225" y="12829"/>
                  <a:pt x="5251" y="12795"/>
                  <a:pt x="5209" y="12725"/>
                </a:cubicBezTo>
              </a:path>
              <a:path w="5260" h="3201">
                <a:moveTo>
                  <a:pt x="3820" y="10765"/>
                </a:moveTo>
                <a:cubicBezTo>
                  <a:pt x="3812" y="10822"/>
                  <a:pt x="3785" y="10889"/>
                  <a:pt x="3746" y="10939"/>
                </a:cubicBezTo>
                <a:cubicBezTo>
                  <a:pt x="3669" y="11037"/>
                  <a:pt x="3561" y="11124"/>
                  <a:pt x="3473" y="11212"/>
                </a:cubicBezTo>
                <a:cubicBezTo>
                  <a:pt x="3410" y="11275"/>
                  <a:pt x="3364" y="11346"/>
                  <a:pt x="3299" y="11410"/>
                </a:cubicBezTo>
                <a:cubicBezTo>
                  <a:pt x="3241" y="11468"/>
                  <a:pt x="3183" y="11526"/>
                  <a:pt x="3125" y="11584"/>
                </a:cubicBezTo>
              </a:path>
              <a:path w="5260" h="3201">
                <a:moveTo>
                  <a:pt x="7144" y="11857"/>
                </a:moveTo>
                <a:cubicBezTo>
                  <a:pt x="7097" y="11902"/>
                  <a:pt x="7054" y="11927"/>
                  <a:pt x="6995" y="11956"/>
                </a:cubicBezTo>
                <a:cubicBezTo>
                  <a:pt x="6899" y="12004"/>
                  <a:pt x="6795" y="12016"/>
                  <a:pt x="6697" y="12055"/>
                </a:cubicBezTo>
                <a:cubicBezTo>
                  <a:pt x="6578" y="12103"/>
                  <a:pt x="6438" y="12149"/>
                  <a:pt x="6325" y="12204"/>
                </a:cubicBezTo>
                <a:cubicBezTo>
                  <a:pt x="6199" y="12266"/>
                  <a:pt x="6080" y="12344"/>
                  <a:pt x="5953" y="12402"/>
                </a:cubicBezTo>
                <a:cubicBezTo>
                  <a:pt x="5893" y="12429"/>
                  <a:pt x="5850" y="12457"/>
                  <a:pt x="5804" y="12502"/>
                </a:cubicBezTo>
                <a:cubicBezTo>
                  <a:pt x="5774" y="12531"/>
                  <a:pt x="5760" y="12542"/>
                  <a:pt x="5730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3759120"/>
            <a:ext cx="1803240" cy="831960"/>
          </a:xfrm>
          <a:custGeom>
            <a:avLst/>
            <a:gdLst/>
            <a:ahLst/>
            <a:rect l="l" t="t" r="r" b="b"/>
            <a:pathLst>
              <a:path w="5011" h="2308">
                <a:moveTo>
                  <a:pt x="9302" y="10492"/>
                </a:moveTo>
                <a:cubicBezTo>
                  <a:pt x="9293" y="10565"/>
                  <a:pt x="9278" y="10589"/>
                  <a:pt x="9227" y="10641"/>
                </a:cubicBezTo>
                <a:cubicBezTo>
                  <a:pt x="9219" y="10649"/>
                  <a:pt x="9211" y="10658"/>
                  <a:pt x="9203" y="10666"/>
                </a:cubicBezTo>
                <a:cubicBezTo>
                  <a:pt x="9210" y="10617"/>
                  <a:pt x="9236" y="10530"/>
                  <a:pt x="9277" y="10492"/>
                </a:cubicBezTo>
                <a:cubicBezTo>
                  <a:pt x="9332" y="10442"/>
                  <a:pt x="9369" y="10438"/>
                  <a:pt x="9426" y="10468"/>
                </a:cubicBezTo>
                <a:cubicBezTo>
                  <a:pt x="9500" y="10507"/>
                  <a:pt x="9490" y="10527"/>
                  <a:pt x="9525" y="10592"/>
                </a:cubicBezTo>
                <a:cubicBezTo>
                  <a:pt x="9554" y="10646"/>
                  <a:pt x="9564" y="10728"/>
                  <a:pt x="9550" y="10790"/>
                </a:cubicBezTo>
                <a:cubicBezTo>
                  <a:pt x="9525" y="10903"/>
                  <a:pt x="9476" y="11028"/>
                  <a:pt x="9401" y="11112"/>
                </a:cubicBezTo>
                <a:cubicBezTo>
                  <a:pt x="9351" y="11167"/>
                  <a:pt x="9298" y="11279"/>
                  <a:pt x="9227" y="11311"/>
                </a:cubicBezTo>
                <a:cubicBezTo>
                  <a:pt x="9185" y="11330"/>
                  <a:pt x="9070" y="11360"/>
                  <a:pt x="9029" y="11311"/>
                </a:cubicBezTo>
                <a:cubicBezTo>
                  <a:pt x="8998" y="11273"/>
                  <a:pt x="9050" y="11162"/>
                  <a:pt x="9079" y="11137"/>
                </a:cubicBezTo>
                <a:cubicBezTo>
                  <a:pt x="9137" y="11086"/>
                  <a:pt x="9220" y="11022"/>
                  <a:pt x="9302" y="11038"/>
                </a:cubicBezTo>
                <a:cubicBezTo>
                  <a:pt x="9347" y="11047"/>
                  <a:pt x="9419" y="11107"/>
                  <a:pt x="9451" y="11137"/>
                </a:cubicBezTo>
                <a:cubicBezTo>
                  <a:pt x="9500" y="11182"/>
                  <a:pt x="9505" y="11208"/>
                  <a:pt x="9575" y="11212"/>
                </a:cubicBezTo>
                <a:cubicBezTo>
                  <a:pt x="9631" y="11212"/>
                  <a:pt x="9653" y="11207"/>
                  <a:pt x="9674" y="11162"/>
                </a:cubicBezTo>
              </a:path>
              <a:path w="5011" h="2308">
                <a:moveTo>
                  <a:pt x="9897" y="10468"/>
                </a:moveTo>
                <a:cubicBezTo>
                  <a:pt x="9971" y="10468"/>
                  <a:pt x="10025" y="10446"/>
                  <a:pt x="10096" y="10443"/>
                </a:cubicBezTo>
                <a:cubicBezTo>
                  <a:pt x="10170" y="10440"/>
                  <a:pt x="10245" y="10443"/>
                  <a:pt x="10319" y="10443"/>
                </a:cubicBezTo>
              </a:path>
              <a:path w="5011" h="2308">
                <a:moveTo>
                  <a:pt x="9897" y="10468"/>
                </a:moveTo>
                <a:cubicBezTo>
                  <a:pt x="9858" y="10551"/>
                  <a:pt x="9791" y="10651"/>
                  <a:pt x="9773" y="10740"/>
                </a:cubicBezTo>
                <a:cubicBezTo>
                  <a:pt x="9773" y="10757"/>
                  <a:pt x="9773" y="10773"/>
                  <a:pt x="9773" y="10790"/>
                </a:cubicBezTo>
                <a:cubicBezTo>
                  <a:pt x="9839" y="10783"/>
                  <a:pt x="9902" y="10750"/>
                  <a:pt x="9971" y="10765"/>
                </a:cubicBezTo>
                <a:cubicBezTo>
                  <a:pt x="10024" y="10777"/>
                  <a:pt x="10133" y="10821"/>
                  <a:pt x="10170" y="10864"/>
                </a:cubicBezTo>
                <a:cubicBezTo>
                  <a:pt x="10206" y="10906"/>
                  <a:pt x="10217" y="11010"/>
                  <a:pt x="10220" y="11063"/>
                </a:cubicBezTo>
                <a:cubicBezTo>
                  <a:pt x="10224" y="11138"/>
                  <a:pt x="10181" y="11178"/>
                  <a:pt x="10145" y="11237"/>
                </a:cubicBezTo>
                <a:cubicBezTo>
                  <a:pt x="10099" y="11312"/>
                  <a:pt x="10008" y="11350"/>
                  <a:pt x="9922" y="11361"/>
                </a:cubicBezTo>
                <a:cubicBezTo>
                  <a:pt x="9849" y="11371"/>
                  <a:pt x="9766" y="11360"/>
                  <a:pt x="9748" y="11286"/>
                </a:cubicBezTo>
              </a:path>
              <a:path w="5011" h="2308">
                <a:moveTo>
                  <a:pt x="10517" y="10616"/>
                </a:moveTo>
                <a:cubicBezTo>
                  <a:pt x="10626" y="10591"/>
                  <a:pt x="10705" y="10567"/>
                  <a:pt x="10815" y="10567"/>
                </a:cubicBezTo>
                <a:cubicBezTo>
                  <a:pt x="10906" y="10567"/>
                  <a:pt x="10997" y="10567"/>
                  <a:pt x="11088" y="10567"/>
                </a:cubicBezTo>
              </a:path>
              <a:path w="5011" h="2308">
                <a:moveTo>
                  <a:pt x="10691" y="10567"/>
                </a:moveTo>
                <a:cubicBezTo>
                  <a:pt x="10684" y="10664"/>
                  <a:pt x="10665" y="10749"/>
                  <a:pt x="10641" y="10840"/>
                </a:cubicBezTo>
                <a:cubicBezTo>
                  <a:pt x="10620" y="10920"/>
                  <a:pt x="10616" y="11012"/>
                  <a:pt x="10592" y="11088"/>
                </a:cubicBezTo>
                <a:cubicBezTo>
                  <a:pt x="10573" y="11146"/>
                  <a:pt x="10540" y="11223"/>
                  <a:pt x="10567" y="11237"/>
                </a:cubicBezTo>
              </a:path>
              <a:path w="5011" h="2308">
                <a:moveTo>
                  <a:pt x="10964" y="10592"/>
                </a:moveTo>
                <a:cubicBezTo>
                  <a:pt x="10939" y="10657"/>
                  <a:pt x="10918" y="10720"/>
                  <a:pt x="10914" y="10790"/>
                </a:cubicBezTo>
                <a:cubicBezTo>
                  <a:pt x="10909" y="10875"/>
                  <a:pt x="10900" y="10905"/>
                  <a:pt x="10914" y="10988"/>
                </a:cubicBezTo>
                <a:cubicBezTo>
                  <a:pt x="10925" y="11053"/>
                  <a:pt x="10929" y="11128"/>
                  <a:pt x="10964" y="11187"/>
                </a:cubicBezTo>
                <a:cubicBezTo>
                  <a:pt x="10999" y="11246"/>
                  <a:pt x="11072" y="11271"/>
                  <a:pt x="11088" y="11336"/>
                </a:cubicBezTo>
              </a:path>
              <a:path w="5011" h="2308">
                <a:moveTo>
                  <a:pt x="8954" y="11509"/>
                </a:moveTo>
                <a:cubicBezTo>
                  <a:pt x="8946" y="11517"/>
                  <a:pt x="8938" y="11526"/>
                  <a:pt x="8930" y="11534"/>
                </a:cubicBezTo>
                <a:cubicBezTo>
                  <a:pt x="8984" y="11567"/>
                  <a:pt x="9035" y="11559"/>
                  <a:pt x="9103" y="11559"/>
                </a:cubicBezTo>
                <a:cubicBezTo>
                  <a:pt x="9345" y="11559"/>
                  <a:pt x="9584" y="11545"/>
                  <a:pt x="9823" y="11534"/>
                </a:cubicBezTo>
                <a:cubicBezTo>
                  <a:pt x="10145" y="11519"/>
                  <a:pt x="11062" y="11534"/>
                  <a:pt x="10740" y="11534"/>
                </a:cubicBezTo>
                <a:cubicBezTo>
                  <a:pt x="10724" y="11534"/>
                  <a:pt x="10707" y="11534"/>
                  <a:pt x="10691" y="11534"/>
                </a:cubicBezTo>
              </a:path>
              <a:path w="5011" h="2308">
                <a:moveTo>
                  <a:pt x="9550" y="11857"/>
                </a:moveTo>
                <a:cubicBezTo>
                  <a:pt x="9550" y="11970"/>
                  <a:pt x="9543" y="12073"/>
                  <a:pt x="9525" y="12179"/>
                </a:cubicBezTo>
                <a:cubicBezTo>
                  <a:pt x="9512" y="12257"/>
                  <a:pt x="9520" y="12352"/>
                  <a:pt x="9500" y="12427"/>
                </a:cubicBezTo>
                <a:cubicBezTo>
                  <a:pt x="9480" y="12501"/>
                  <a:pt x="9482" y="12607"/>
                  <a:pt x="9451" y="12675"/>
                </a:cubicBezTo>
                <a:cubicBezTo>
                  <a:pt x="9428" y="12698"/>
                  <a:pt x="9420" y="12709"/>
                  <a:pt x="9426" y="12675"/>
                </a:cubicBezTo>
              </a:path>
              <a:path w="5011" h="2308">
                <a:moveTo>
                  <a:pt x="10319" y="12005"/>
                </a:moveTo>
                <a:cubicBezTo>
                  <a:pt x="10273" y="11922"/>
                  <a:pt x="10250" y="11912"/>
                  <a:pt x="10145" y="11906"/>
                </a:cubicBezTo>
                <a:cubicBezTo>
                  <a:pt x="10077" y="11902"/>
                  <a:pt x="10025" y="11902"/>
                  <a:pt x="9971" y="11931"/>
                </a:cubicBezTo>
                <a:cubicBezTo>
                  <a:pt x="9890" y="11975"/>
                  <a:pt x="9915" y="12055"/>
                  <a:pt x="9947" y="12129"/>
                </a:cubicBezTo>
                <a:cubicBezTo>
                  <a:pt x="9991" y="12229"/>
                  <a:pt x="10041" y="12308"/>
                  <a:pt x="10096" y="12402"/>
                </a:cubicBezTo>
                <a:cubicBezTo>
                  <a:pt x="10135" y="12468"/>
                  <a:pt x="10166" y="12551"/>
                  <a:pt x="10170" y="12626"/>
                </a:cubicBezTo>
                <a:cubicBezTo>
                  <a:pt x="10173" y="12688"/>
                  <a:pt x="10149" y="12768"/>
                  <a:pt x="10071" y="12750"/>
                </a:cubicBezTo>
                <a:cubicBezTo>
                  <a:pt x="9983" y="12729"/>
                  <a:pt x="9935" y="12663"/>
                  <a:pt x="9922" y="12576"/>
                </a:cubicBezTo>
                <a:cubicBezTo>
                  <a:pt x="9915" y="12528"/>
                  <a:pt x="9947" y="12416"/>
                  <a:pt x="9971" y="12378"/>
                </a:cubicBezTo>
                <a:cubicBezTo>
                  <a:pt x="10000" y="12334"/>
                  <a:pt x="10085" y="12235"/>
                  <a:pt x="10120" y="12204"/>
                </a:cubicBezTo>
                <a:cubicBezTo>
                  <a:pt x="10182" y="12150"/>
                  <a:pt x="10256" y="12110"/>
                  <a:pt x="10319" y="12055"/>
                </a:cubicBezTo>
              </a:path>
              <a:path w="5011" h="2308">
                <a:moveTo>
                  <a:pt x="11782" y="11609"/>
                </a:moveTo>
                <a:cubicBezTo>
                  <a:pt x="11761" y="11671"/>
                  <a:pt x="11744" y="11750"/>
                  <a:pt x="11733" y="11807"/>
                </a:cubicBezTo>
                <a:cubicBezTo>
                  <a:pt x="11733" y="11824"/>
                  <a:pt x="11733" y="11840"/>
                  <a:pt x="11733" y="11857"/>
                </a:cubicBezTo>
                <a:cubicBezTo>
                  <a:pt x="11733" y="11784"/>
                  <a:pt x="11735" y="11701"/>
                  <a:pt x="11757" y="11633"/>
                </a:cubicBezTo>
                <a:cubicBezTo>
                  <a:pt x="11785" y="11546"/>
                  <a:pt x="11843" y="11518"/>
                  <a:pt x="11906" y="11460"/>
                </a:cubicBezTo>
                <a:cubicBezTo>
                  <a:pt x="11965" y="11406"/>
                  <a:pt x="12040" y="11403"/>
                  <a:pt x="12105" y="11361"/>
                </a:cubicBezTo>
                <a:cubicBezTo>
                  <a:pt x="12113" y="11353"/>
                  <a:pt x="12121" y="11344"/>
                  <a:pt x="12129" y="11336"/>
                </a:cubicBezTo>
              </a:path>
              <a:path w="5011" h="2308">
                <a:moveTo>
                  <a:pt x="12502" y="11435"/>
                </a:moveTo>
                <a:cubicBezTo>
                  <a:pt x="12532" y="11419"/>
                  <a:pt x="12487" y="11375"/>
                  <a:pt x="12452" y="11336"/>
                </a:cubicBezTo>
                <a:cubicBezTo>
                  <a:pt x="12413" y="11292"/>
                  <a:pt x="12310" y="11374"/>
                  <a:pt x="12278" y="11410"/>
                </a:cubicBezTo>
                <a:cubicBezTo>
                  <a:pt x="12241" y="11453"/>
                  <a:pt x="12207" y="11532"/>
                  <a:pt x="12204" y="11584"/>
                </a:cubicBezTo>
                <a:cubicBezTo>
                  <a:pt x="12200" y="11648"/>
                  <a:pt x="12203" y="11734"/>
                  <a:pt x="12254" y="11782"/>
                </a:cubicBezTo>
                <a:cubicBezTo>
                  <a:pt x="12313" y="11837"/>
                  <a:pt x="12376" y="11795"/>
                  <a:pt x="12427" y="11757"/>
                </a:cubicBezTo>
                <a:cubicBezTo>
                  <a:pt x="12471" y="11724"/>
                  <a:pt x="12514" y="11662"/>
                  <a:pt x="12526" y="11609"/>
                </a:cubicBezTo>
                <a:cubicBezTo>
                  <a:pt x="12548" y="11507"/>
                  <a:pt x="12536" y="11639"/>
                  <a:pt x="12551" y="11683"/>
                </a:cubicBezTo>
                <a:cubicBezTo>
                  <a:pt x="12572" y="11743"/>
                  <a:pt x="12624" y="11776"/>
                  <a:pt x="12675" y="11807"/>
                </a:cubicBezTo>
                <a:cubicBezTo>
                  <a:pt x="12730" y="11835"/>
                  <a:pt x="12753" y="11843"/>
                  <a:pt x="12799" y="11832"/>
                </a:cubicBezTo>
              </a:path>
              <a:path w="5011" h="2308">
                <a:moveTo>
                  <a:pt x="13221" y="11435"/>
                </a:moveTo>
                <a:cubicBezTo>
                  <a:pt x="13157" y="11358"/>
                  <a:pt x="13154" y="11394"/>
                  <a:pt x="13072" y="11410"/>
                </a:cubicBezTo>
                <a:cubicBezTo>
                  <a:pt x="12996" y="11425"/>
                  <a:pt x="12983" y="11449"/>
                  <a:pt x="12923" y="11509"/>
                </a:cubicBezTo>
                <a:cubicBezTo>
                  <a:pt x="12902" y="11530"/>
                  <a:pt x="12822" y="11625"/>
                  <a:pt x="12824" y="11658"/>
                </a:cubicBezTo>
                <a:cubicBezTo>
                  <a:pt x="12829" y="11747"/>
                  <a:pt x="12918" y="11797"/>
                  <a:pt x="12998" y="11782"/>
                </a:cubicBezTo>
                <a:cubicBezTo>
                  <a:pt x="13069" y="11768"/>
                  <a:pt x="13146" y="11705"/>
                  <a:pt x="13196" y="11658"/>
                </a:cubicBezTo>
                <a:cubicBezTo>
                  <a:pt x="13271" y="11588"/>
                  <a:pt x="13309" y="11530"/>
                  <a:pt x="13345" y="11435"/>
                </a:cubicBezTo>
                <a:cubicBezTo>
                  <a:pt x="13372" y="11364"/>
                  <a:pt x="13407" y="11285"/>
                  <a:pt x="13419" y="11212"/>
                </a:cubicBezTo>
                <a:cubicBezTo>
                  <a:pt x="13428" y="11159"/>
                  <a:pt x="13419" y="11129"/>
                  <a:pt x="13395" y="11088"/>
                </a:cubicBezTo>
                <a:cubicBezTo>
                  <a:pt x="13395" y="11172"/>
                  <a:pt x="13374" y="11232"/>
                  <a:pt x="13370" y="11311"/>
                </a:cubicBezTo>
                <a:cubicBezTo>
                  <a:pt x="13367" y="11363"/>
                  <a:pt x="13391" y="11489"/>
                  <a:pt x="13419" y="11534"/>
                </a:cubicBezTo>
                <a:cubicBezTo>
                  <a:pt x="13455" y="11592"/>
                  <a:pt x="13540" y="11688"/>
                  <a:pt x="13593" y="11733"/>
                </a:cubicBezTo>
                <a:cubicBezTo>
                  <a:pt x="13679" y="11806"/>
                  <a:pt x="13750" y="11826"/>
                  <a:pt x="13841" y="11857"/>
                </a:cubicBezTo>
                <a:cubicBezTo>
                  <a:pt x="13882" y="11871"/>
                  <a:pt x="13873" y="11873"/>
                  <a:pt x="13915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o convert from radians to degree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066680" y="20574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y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2362320" y="1981080"/>
          <a:ext cx="982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982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4"/>
          <p:cNvSpPr/>
          <p:nvPr/>
        </p:nvSpPr>
        <p:spPr>
          <a:xfrm>
            <a:off x="1066680" y="32004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 Convert          to degre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3124080" y="2819520"/>
          <a:ext cx="4208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19520"/>
                    <a:ext cx="420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758880" y="3589200"/>
            <a:ext cx="2465280" cy="1233720"/>
          </a:xfrm>
          <a:custGeom>
            <a:avLst/>
            <a:gdLst/>
            <a:ahLst/>
            <a:rect l="l" t="t" r="r" b="b"/>
            <a:pathLst>
              <a:path w="6847" h="3425">
                <a:moveTo>
                  <a:pt x="2208" y="10815"/>
                </a:moveTo>
                <a:cubicBezTo>
                  <a:pt x="2208" y="10831"/>
                  <a:pt x="2208" y="10848"/>
                  <a:pt x="2208" y="10864"/>
                </a:cubicBezTo>
                <a:cubicBezTo>
                  <a:pt x="2216" y="10810"/>
                  <a:pt x="2230" y="10773"/>
                  <a:pt x="2282" y="10740"/>
                </a:cubicBezTo>
                <a:cubicBezTo>
                  <a:pt x="2334" y="10707"/>
                  <a:pt x="2444" y="10700"/>
                  <a:pt x="2505" y="10716"/>
                </a:cubicBezTo>
                <a:cubicBezTo>
                  <a:pt x="2585" y="10737"/>
                  <a:pt x="2643" y="10740"/>
                  <a:pt x="2729" y="10740"/>
                </a:cubicBezTo>
                <a:cubicBezTo>
                  <a:pt x="2875" y="10740"/>
                  <a:pt x="3102" y="10782"/>
                  <a:pt x="3225" y="10716"/>
                </a:cubicBezTo>
                <a:cubicBezTo>
                  <a:pt x="3265" y="10696"/>
                  <a:pt x="3281" y="10697"/>
                  <a:pt x="3274" y="10666"/>
                </a:cubicBezTo>
              </a:path>
              <a:path w="6847" h="3425">
                <a:moveTo>
                  <a:pt x="2654" y="10716"/>
                </a:moveTo>
                <a:cubicBezTo>
                  <a:pt x="2634" y="10816"/>
                  <a:pt x="2595" y="10914"/>
                  <a:pt x="2580" y="11013"/>
                </a:cubicBezTo>
                <a:cubicBezTo>
                  <a:pt x="2567" y="11098"/>
                  <a:pt x="2542" y="11175"/>
                  <a:pt x="2530" y="11261"/>
                </a:cubicBezTo>
                <a:cubicBezTo>
                  <a:pt x="2527" y="11282"/>
                  <a:pt x="2499" y="11456"/>
                  <a:pt x="2505" y="11460"/>
                </a:cubicBezTo>
                <a:cubicBezTo>
                  <a:pt x="2538" y="11427"/>
                  <a:pt x="2555" y="11410"/>
                  <a:pt x="2580" y="11385"/>
                </a:cubicBezTo>
              </a:path>
              <a:path w="6847" h="3425">
                <a:moveTo>
                  <a:pt x="2853" y="10691"/>
                </a:moveTo>
                <a:cubicBezTo>
                  <a:pt x="2843" y="10770"/>
                  <a:pt x="2828" y="10830"/>
                  <a:pt x="2828" y="10914"/>
                </a:cubicBezTo>
                <a:cubicBezTo>
                  <a:pt x="2828" y="11022"/>
                  <a:pt x="2800" y="11167"/>
                  <a:pt x="2853" y="11261"/>
                </a:cubicBezTo>
                <a:cubicBezTo>
                  <a:pt x="2881" y="11311"/>
                  <a:pt x="2931" y="11358"/>
                  <a:pt x="2977" y="11385"/>
                </a:cubicBezTo>
                <a:cubicBezTo>
                  <a:pt x="2993" y="11393"/>
                  <a:pt x="3010" y="11402"/>
                  <a:pt x="3026" y="11410"/>
                </a:cubicBezTo>
              </a:path>
              <a:path w="6847" h="3425">
                <a:moveTo>
                  <a:pt x="2108" y="11609"/>
                </a:moveTo>
                <a:cubicBezTo>
                  <a:pt x="2192" y="11617"/>
                  <a:pt x="2242" y="11633"/>
                  <a:pt x="2332" y="11633"/>
                </a:cubicBezTo>
                <a:cubicBezTo>
                  <a:pt x="2484" y="11633"/>
                  <a:pt x="2630" y="11625"/>
                  <a:pt x="2778" y="11609"/>
                </a:cubicBezTo>
                <a:cubicBezTo>
                  <a:pt x="2863" y="11600"/>
                  <a:pt x="2924" y="11621"/>
                  <a:pt x="3001" y="11633"/>
                </a:cubicBezTo>
                <a:cubicBezTo>
                  <a:pt x="3046" y="11633"/>
                  <a:pt x="3066" y="11630"/>
                  <a:pt x="3026" y="11658"/>
                </a:cubicBezTo>
              </a:path>
              <a:path w="6847" h="3425">
                <a:moveTo>
                  <a:pt x="2555" y="11956"/>
                </a:moveTo>
                <a:cubicBezTo>
                  <a:pt x="2604" y="11980"/>
                  <a:pt x="2632" y="11934"/>
                  <a:pt x="2704" y="11931"/>
                </a:cubicBezTo>
                <a:cubicBezTo>
                  <a:pt x="2813" y="11926"/>
                  <a:pt x="2837" y="11927"/>
                  <a:pt x="2902" y="12005"/>
                </a:cubicBezTo>
                <a:cubicBezTo>
                  <a:pt x="2925" y="12032"/>
                  <a:pt x="2916" y="12099"/>
                  <a:pt x="2877" y="12129"/>
                </a:cubicBezTo>
                <a:cubicBezTo>
                  <a:pt x="2837" y="12160"/>
                  <a:pt x="2750" y="12242"/>
                  <a:pt x="2704" y="12254"/>
                </a:cubicBezTo>
                <a:cubicBezTo>
                  <a:pt x="2659" y="12254"/>
                  <a:pt x="2646" y="12250"/>
                  <a:pt x="2629" y="12278"/>
                </a:cubicBezTo>
                <a:cubicBezTo>
                  <a:pt x="2719" y="12246"/>
                  <a:pt x="2722" y="12260"/>
                  <a:pt x="2803" y="12303"/>
                </a:cubicBezTo>
                <a:cubicBezTo>
                  <a:pt x="2878" y="12343"/>
                  <a:pt x="2910" y="12389"/>
                  <a:pt x="2927" y="12477"/>
                </a:cubicBezTo>
                <a:cubicBezTo>
                  <a:pt x="2938" y="12534"/>
                  <a:pt x="2945" y="12681"/>
                  <a:pt x="2902" y="12725"/>
                </a:cubicBezTo>
                <a:cubicBezTo>
                  <a:pt x="2852" y="12775"/>
                  <a:pt x="2771" y="12795"/>
                  <a:pt x="2704" y="12799"/>
                </a:cubicBezTo>
                <a:cubicBezTo>
                  <a:pt x="2630" y="12803"/>
                  <a:pt x="2565" y="12759"/>
                  <a:pt x="2505" y="12725"/>
                </a:cubicBezTo>
                <a:cubicBezTo>
                  <a:pt x="2462" y="12700"/>
                  <a:pt x="2417" y="12634"/>
                  <a:pt x="2431" y="12576"/>
                </a:cubicBezTo>
                <a:cubicBezTo>
                  <a:pt x="2439" y="12559"/>
                  <a:pt x="2448" y="12543"/>
                  <a:pt x="2456" y="12526"/>
                </a:cubicBezTo>
              </a:path>
              <a:path w="6847" h="3425">
                <a:moveTo>
                  <a:pt x="3547" y="11435"/>
                </a:moveTo>
                <a:cubicBezTo>
                  <a:pt x="3547" y="11520"/>
                  <a:pt x="3530" y="11614"/>
                  <a:pt x="3572" y="11683"/>
                </a:cubicBezTo>
                <a:cubicBezTo>
                  <a:pt x="3572" y="11621"/>
                  <a:pt x="3572" y="11539"/>
                  <a:pt x="3597" y="11485"/>
                </a:cubicBezTo>
                <a:cubicBezTo>
                  <a:pt x="3612" y="11453"/>
                  <a:pt x="3668" y="11359"/>
                  <a:pt x="3696" y="11336"/>
                </a:cubicBezTo>
                <a:cubicBezTo>
                  <a:pt x="3740" y="11298"/>
                  <a:pt x="3799" y="11273"/>
                  <a:pt x="3845" y="11237"/>
                </a:cubicBezTo>
              </a:path>
              <a:path w="6847" h="3425">
                <a:moveTo>
                  <a:pt x="4192" y="11385"/>
                </a:moveTo>
                <a:cubicBezTo>
                  <a:pt x="4192" y="11491"/>
                  <a:pt x="4229" y="11323"/>
                  <a:pt x="4142" y="11336"/>
                </a:cubicBezTo>
                <a:cubicBezTo>
                  <a:pt x="4100" y="11342"/>
                  <a:pt x="3998" y="11400"/>
                  <a:pt x="3969" y="11435"/>
                </a:cubicBezTo>
                <a:cubicBezTo>
                  <a:pt x="3931" y="11479"/>
                  <a:pt x="3926" y="11531"/>
                  <a:pt x="3919" y="11584"/>
                </a:cubicBezTo>
                <a:cubicBezTo>
                  <a:pt x="4013" y="11608"/>
                  <a:pt x="4052" y="11581"/>
                  <a:pt x="4118" y="11509"/>
                </a:cubicBezTo>
                <a:cubicBezTo>
                  <a:pt x="4142" y="11485"/>
                  <a:pt x="4151" y="11476"/>
                  <a:pt x="4167" y="11460"/>
                </a:cubicBezTo>
                <a:cubicBezTo>
                  <a:pt x="4167" y="11545"/>
                  <a:pt x="4166" y="11579"/>
                  <a:pt x="4242" y="11633"/>
                </a:cubicBezTo>
                <a:cubicBezTo>
                  <a:pt x="4308" y="11680"/>
                  <a:pt x="4349" y="11646"/>
                  <a:pt x="4415" y="11633"/>
                </a:cubicBezTo>
              </a:path>
              <a:path w="6847" h="3425">
                <a:moveTo>
                  <a:pt x="4589" y="11385"/>
                </a:moveTo>
                <a:cubicBezTo>
                  <a:pt x="4612" y="11318"/>
                  <a:pt x="4623" y="11300"/>
                  <a:pt x="4589" y="11261"/>
                </a:cubicBezTo>
                <a:cubicBezTo>
                  <a:pt x="4490" y="11272"/>
                  <a:pt x="4459" y="11292"/>
                  <a:pt x="4390" y="11361"/>
                </a:cubicBezTo>
                <a:cubicBezTo>
                  <a:pt x="4346" y="11405"/>
                  <a:pt x="4297" y="11494"/>
                  <a:pt x="4316" y="11559"/>
                </a:cubicBezTo>
                <a:cubicBezTo>
                  <a:pt x="4344" y="11658"/>
                  <a:pt x="4447" y="11665"/>
                  <a:pt x="4514" y="11658"/>
                </a:cubicBezTo>
                <a:cubicBezTo>
                  <a:pt x="4587" y="11651"/>
                  <a:pt x="4624" y="11625"/>
                  <a:pt x="4663" y="11559"/>
                </a:cubicBezTo>
                <a:cubicBezTo>
                  <a:pt x="4701" y="11494"/>
                  <a:pt x="4748" y="11411"/>
                  <a:pt x="4762" y="11336"/>
                </a:cubicBezTo>
                <a:cubicBezTo>
                  <a:pt x="4773" y="11279"/>
                  <a:pt x="4777" y="11210"/>
                  <a:pt x="4787" y="11162"/>
                </a:cubicBezTo>
                <a:cubicBezTo>
                  <a:pt x="4787" y="11112"/>
                  <a:pt x="4787" y="11096"/>
                  <a:pt x="4787" y="11063"/>
                </a:cubicBezTo>
                <a:cubicBezTo>
                  <a:pt x="4757" y="11113"/>
                  <a:pt x="4741" y="11173"/>
                  <a:pt x="4738" y="11237"/>
                </a:cubicBezTo>
                <a:cubicBezTo>
                  <a:pt x="4734" y="11315"/>
                  <a:pt x="4717" y="11384"/>
                  <a:pt x="4713" y="11460"/>
                </a:cubicBezTo>
                <a:cubicBezTo>
                  <a:pt x="4713" y="11509"/>
                  <a:pt x="4713" y="11526"/>
                  <a:pt x="4713" y="11559"/>
                </a:cubicBezTo>
              </a:path>
              <a:path w="6847" h="3425">
                <a:moveTo>
                  <a:pt x="5209" y="11733"/>
                </a:moveTo>
                <a:cubicBezTo>
                  <a:pt x="5184" y="11757"/>
                  <a:pt x="5176" y="11765"/>
                  <a:pt x="5209" y="11782"/>
                </a:cubicBezTo>
              </a:path>
              <a:path w="6847" h="3425">
                <a:moveTo>
                  <a:pt x="5209" y="11733"/>
                </a:moveTo>
                <a:cubicBezTo>
                  <a:pt x="5184" y="11757"/>
                  <a:pt x="5176" y="11765"/>
                  <a:pt x="5209" y="11733"/>
                </a:cubicBezTo>
              </a:path>
              <a:path w="6847" h="3425">
                <a:moveTo>
                  <a:pt x="6201" y="10815"/>
                </a:moveTo>
                <a:cubicBezTo>
                  <a:pt x="6178" y="10915"/>
                  <a:pt x="6146" y="11012"/>
                  <a:pt x="6127" y="11112"/>
                </a:cubicBezTo>
                <a:cubicBezTo>
                  <a:pt x="6113" y="11186"/>
                  <a:pt x="6089" y="11263"/>
                  <a:pt x="6077" y="11336"/>
                </a:cubicBezTo>
                <a:cubicBezTo>
                  <a:pt x="6067" y="11396"/>
                  <a:pt x="6038" y="11458"/>
                  <a:pt x="6028" y="11509"/>
                </a:cubicBezTo>
                <a:cubicBezTo>
                  <a:pt x="6023" y="11535"/>
                  <a:pt x="6036" y="11673"/>
                  <a:pt x="6003" y="11609"/>
                </a:cubicBezTo>
              </a:path>
              <a:path w="6847" h="3425">
                <a:moveTo>
                  <a:pt x="6648" y="10889"/>
                </a:moveTo>
                <a:cubicBezTo>
                  <a:pt x="6670" y="10818"/>
                  <a:pt x="6558" y="10880"/>
                  <a:pt x="6499" y="10889"/>
                </a:cubicBezTo>
                <a:cubicBezTo>
                  <a:pt x="6427" y="10900"/>
                  <a:pt x="6414" y="10923"/>
                  <a:pt x="6375" y="10988"/>
                </a:cubicBezTo>
                <a:cubicBezTo>
                  <a:pt x="6327" y="11068"/>
                  <a:pt x="6366" y="11133"/>
                  <a:pt x="6400" y="11212"/>
                </a:cubicBezTo>
                <a:cubicBezTo>
                  <a:pt x="6444" y="11317"/>
                  <a:pt x="6525" y="11421"/>
                  <a:pt x="6548" y="11534"/>
                </a:cubicBezTo>
                <a:cubicBezTo>
                  <a:pt x="6565" y="11615"/>
                  <a:pt x="6553" y="11653"/>
                  <a:pt x="6474" y="11658"/>
                </a:cubicBezTo>
                <a:cubicBezTo>
                  <a:pt x="6382" y="11663"/>
                  <a:pt x="6300" y="11581"/>
                  <a:pt x="6300" y="11485"/>
                </a:cubicBezTo>
                <a:cubicBezTo>
                  <a:pt x="6300" y="11475"/>
                  <a:pt x="6389" y="11319"/>
                  <a:pt x="6400" y="11311"/>
                </a:cubicBezTo>
                <a:cubicBezTo>
                  <a:pt x="6487" y="11251"/>
                  <a:pt x="6523" y="11215"/>
                  <a:pt x="6598" y="11137"/>
                </a:cubicBezTo>
                <a:cubicBezTo>
                  <a:pt x="6638" y="11095"/>
                  <a:pt x="6681" y="11054"/>
                  <a:pt x="6722" y="11013"/>
                </a:cubicBezTo>
              </a:path>
              <a:path w="6847" h="3425">
                <a:moveTo>
                  <a:pt x="6821" y="10889"/>
                </a:moveTo>
                <a:cubicBezTo>
                  <a:pt x="6854" y="10943"/>
                  <a:pt x="6842" y="11000"/>
                  <a:pt x="6821" y="11063"/>
                </a:cubicBezTo>
                <a:cubicBezTo>
                  <a:pt x="6798" y="11132"/>
                  <a:pt x="6738" y="11187"/>
                  <a:pt x="6722" y="11261"/>
                </a:cubicBezTo>
                <a:cubicBezTo>
                  <a:pt x="6709" y="11321"/>
                  <a:pt x="6658" y="11425"/>
                  <a:pt x="6672" y="11485"/>
                </a:cubicBezTo>
                <a:cubicBezTo>
                  <a:pt x="6684" y="11538"/>
                  <a:pt x="6697" y="11601"/>
                  <a:pt x="6747" y="11633"/>
                </a:cubicBezTo>
                <a:cubicBezTo>
                  <a:pt x="6797" y="11665"/>
                  <a:pt x="6905" y="11685"/>
                  <a:pt x="6945" y="11633"/>
                </a:cubicBezTo>
                <a:cubicBezTo>
                  <a:pt x="7010" y="11549"/>
                  <a:pt x="7019" y="11453"/>
                  <a:pt x="7045" y="11361"/>
                </a:cubicBezTo>
                <a:cubicBezTo>
                  <a:pt x="7068" y="11277"/>
                  <a:pt x="7070" y="11198"/>
                  <a:pt x="7045" y="11112"/>
                </a:cubicBezTo>
                <a:cubicBezTo>
                  <a:pt x="7030" y="11061"/>
                  <a:pt x="6969" y="10916"/>
                  <a:pt x="6921" y="10889"/>
                </a:cubicBezTo>
                <a:cubicBezTo>
                  <a:pt x="6913" y="10889"/>
                  <a:pt x="6904" y="10889"/>
                  <a:pt x="6896" y="10889"/>
                </a:cubicBezTo>
              </a:path>
              <a:path w="6847" h="3425">
                <a:moveTo>
                  <a:pt x="7665" y="10716"/>
                </a:moveTo>
                <a:cubicBezTo>
                  <a:pt x="7619" y="10693"/>
                  <a:pt x="7580" y="10734"/>
                  <a:pt x="7541" y="10790"/>
                </a:cubicBezTo>
                <a:cubicBezTo>
                  <a:pt x="7510" y="10834"/>
                  <a:pt x="7496" y="10939"/>
                  <a:pt x="7565" y="10964"/>
                </a:cubicBezTo>
                <a:cubicBezTo>
                  <a:pt x="7636" y="10990"/>
                  <a:pt x="7736" y="10958"/>
                  <a:pt x="7789" y="10914"/>
                </a:cubicBezTo>
                <a:cubicBezTo>
                  <a:pt x="7816" y="10891"/>
                  <a:pt x="7868" y="10816"/>
                  <a:pt x="7863" y="10790"/>
                </a:cubicBezTo>
                <a:cubicBezTo>
                  <a:pt x="7854" y="10746"/>
                  <a:pt x="7824" y="10702"/>
                  <a:pt x="7789" y="10666"/>
                </a:cubicBezTo>
                <a:cubicBezTo>
                  <a:pt x="7750" y="10626"/>
                  <a:pt x="7727" y="10583"/>
                  <a:pt x="7665" y="10592"/>
                </a:cubicBezTo>
                <a:cubicBezTo>
                  <a:pt x="7581" y="10612"/>
                  <a:pt x="7561" y="10613"/>
                  <a:pt x="7516" y="10641"/>
                </a:cubicBezTo>
              </a:path>
              <a:path w="6847" h="3425">
                <a:moveTo>
                  <a:pt x="5953" y="11956"/>
                </a:moveTo>
                <a:cubicBezTo>
                  <a:pt x="6261" y="11956"/>
                  <a:pt x="6566" y="11957"/>
                  <a:pt x="6871" y="11981"/>
                </a:cubicBezTo>
                <a:cubicBezTo>
                  <a:pt x="7157" y="12003"/>
                  <a:pt x="7460" y="11994"/>
                  <a:pt x="7739" y="11956"/>
                </a:cubicBezTo>
                <a:cubicBezTo>
                  <a:pt x="7784" y="11956"/>
                  <a:pt x="7797" y="11960"/>
                  <a:pt x="7813" y="11931"/>
                </a:cubicBezTo>
                <a:cubicBezTo>
                  <a:pt x="7787" y="11851"/>
                  <a:pt x="7723" y="11859"/>
                  <a:pt x="7615" y="11832"/>
                </a:cubicBezTo>
              </a:path>
              <a:path w="6847" h="3425">
                <a:moveTo>
                  <a:pt x="6052" y="12452"/>
                </a:moveTo>
                <a:cubicBezTo>
                  <a:pt x="6112" y="12404"/>
                  <a:pt x="6159" y="12400"/>
                  <a:pt x="6226" y="12378"/>
                </a:cubicBezTo>
                <a:cubicBezTo>
                  <a:pt x="6279" y="12360"/>
                  <a:pt x="6362" y="12361"/>
                  <a:pt x="6424" y="12378"/>
                </a:cubicBezTo>
                <a:cubicBezTo>
                  <a:pt x="6509" y="12401"/>
                  <a:pt x="6586" y="12422"/>
                  <a:pt x="6672" y="12452"/>
                </a:cubicBezTo>
                <a:cubicBezTo>
                  <a:pt x="6750" y="12479"/>
                  <a:pt x="6843" y="12490"/>
                  <a:pt x="6921" y="12502"/>
                </a:cubicBezTo>
                <a:cubicBezTo>
                  <a:pt x="6962" y="12502"/>
                  <a:pt x="6978" y="12510"/>
                  <a:pt x="6970" y="12477"/>
                </a:cubicBezTo>
              </a:path>
              <a:path w="6847" h="3425">
                <a:moveTo>
                  <a:pt x="6325" y="12427"/>
                </a:moveTo>
                <a:cubicBezTo>
                  <a:pt x="6282" y="12536"/>
                  <a:pt x="6264" y="12637"/>
                  <a:pt x="6226" y="12750"/>
                </a:cubicBezTo>
                <a:cubicBezTo>
                  <a:pt x="6197" y="12837"/>
                  <a:pt x="6179" y="12931"/>
                  <a:pt x="6176" y="13022"/>
                </a:cubicBezTo>
                <a:cubicBezTo>
                  <a:pt x="6174" y="13085"/>
                  <a:pt x="6124" y="13181"/>
                  <a:pt x="6152" y="13246"/>
                </a:cubicBezTo>
                <a:cubicBezTo>
                  <a:pt x="6160" y="13246"/>
                  <a:pt x="6168" y="13246"/>
                  <a:pt x="6176" y="13246"/>
                </a:cubicBezTo>
              </a:path>
              <a:path w="6847" h="3425">
                <a:moveTo>
                  <a:pt x="6598" y="12452"/>
                </a:moveTo>
                <a:cubicBezTo>
                  <a:pt x="6598" y="12535"/>
                  <a:pt x="6592" y="12621"/>
                  <a:pt x="6573" y="12700"/>
                </a:cubicBezTo>
                <a:cubicBezTo>
                  <a:pt x="6552" y="12787"/>
                  <a:pt x="6548" y="12858"/>
                  <a:pt x="6548" y="12948"/>
                </a:cubicBezTo>
                <a:cubicBezTo>
                  <a:pt x="6548" y="13024"/>
                  <a:pt x="6544" y="13128"/>
                  <a:pt x="6573" y="13196"/>
                </a:cubicBezTo>
                <a:cubicBezTo>
                  <a:pt x="6587" y="13228"/>
                  <a:pt x="6621" y="13239"/>
                  <a:pt x="6648" y="13246"/>
                </a:cubicBezTo>
              </a:path>
              <a:path w="6847" h="3425">
                <a:moveTo>
                  <a:pt x="7144" y="12824"/>
                </a:moveTo>
                <a:cubicBezTo>
                  <a:pt x="7138" y="12913"/>
                  <a:pt x="7119" y="12983"/>
                  <a:pt x="7119" y="13072"/>
                </a:cubicBezTo>
                <a:cubicBezTo>
                  <a:pt x="7119" y="13130"/>
                  <a:pt x="7116" y="13150"/>
                  <a:pt x="7144" y="13196"/>
                </a:cubicBezTo>
                <a:cubicBezTo>
                  <a:pt x="7152" y="13132"/>
                  <a:pt x="7156" y="13062"/>
                  <a:pt x="7169" y="12998"/>
                </a:cubicBezTo>
                <a:cubicBezTo>
                  <a:pt x="7187" y="12913"/>
                  <a:pt x="7204" y="12872"/>
                  <a:pt x="7243" y="12799"/>
                </a:cubicBezTo>
                <a:cubicBezTo>
                  <a:pt x="7286" y="12720"/>
                  <a:pt x="7304" y="12684"/>
                  <a:pt x="7392" y="12650"/>
                </a:cubicBezTo>
                <a:cubicBezTo>
                  <a:pt x="7457" y="12629"/>
                  <a:pt x="7473" y="12621"/>
                  <a:pt x="7516" y="12626"/>
                </a:cubicBezTo>
              </a:path>
              <a:path w="6847" h="3425">
                <a:moveTo>
                  <a:pt x="7838" y="12898"/>
                </a:moveTo>
                <a:cubicBezTo>
                  <a:pt x="7846" y="12879"/>
                  <a:pt x="7848" y="12770"/>
                  <a:pt x="7789" y="12774"/>
                </a:cubicBezTo>
                <a:cubicBezTo>
                  <a:pt x="7709" y="12780"/>
                  <a:pt x="7610" y="12862"/>
                  <a:pt x="7565" y="12923"/>
                </a:cubicBezTo>
                <a:cubicBezTo>
                  <a:pt x="7528" y="12972"/>
                  <a:pt x="7534" y="13084"/>
                  <a:pt x="7590" y="13122"/>
                </a:cubicBezTo>
                <a:cubicBezTo>
                  <a:pt x="7663" y="13171"/>
                  <a:pt x="7729" y="13142"/>
                  <a:pt x="7789" y="13097"/>
                </a:cubicBezTo>
                <a:cubicBezTo>
                  <a:pt x="7852" y="13049"/>
                  <a:pt x="7859" y="13005"/>
                  <a:pt x="7888" y="12948"/>
                </a:cubicBezTo>
                <a:cubicBezTo>
                  <a:pt x="7896" y="12940"/>
                  <a:pt x="7905" y="12931"/>
                  <a:pt x="7913" y="12923"/>
                </a:cubicBezTo>
                <a:cubicBezTo>
                  <a:pt x="7860" y="12967"/>
                  <a:pt x="7835" y="13006"/>
                  <a:pt x="7888" y="13072"/>
                </a:cubicBezTo>
                <a:cubicBezTo>
                  <a:pt x="7935" y="13131"/>
                  <a:pt x="7988" y="13142"/>
                  <a:pt x="8062" y="13146"/>
                </a:cubicBezTo>
                <a:cubicBezTo>
                  <a:pt x="8154" y="13151"/>
                  <a:pt x="8168" y="13136"/>
                  <a:pt x="8260" y="13097"/>
                </a:cubicBezTo>
              </a:path>
              <a:path w="6847" h="3425">
                <a:moveTo>
                  <a:pt x="8409" y="12898"/>
                </a:moveTo>
                <a:cubicBezTo>
                  <a:pt x="8432" y="12793"/>
                  <a:pt x="8456" y="12772"/>
                  <a:pt x="8384" y="12700"/>
                </a:cubicBezTo>
                <a:cubicBezTo>
                  <a:pt x="8320" y="12636"/>
                  <a:pt x="8294" y="12647"/>
                  <a:pt x="8210" y="12675"/>
                </a:cubicBezTo>
                <a:cubicBezTo>
                  <a:pt x="8130" y="12702"/>
                  <a:pt x="8091" y="12715"/>
                  <a:pt x="8086" y="12799"/>
                </a:cubicBezTo>
                <a:cubicBezTo>
                  <a:pt x="8081" y="12875"/>
                  <a:pt x="8086" y="12938"/>
                  <a:pt x="8136" y="12998"/>
                </a:cubicBezTo>
                <a:cubicBezTo>
                  <a:pt x="8204" y="13079"/>
                  <a:pt x="8235" y="13085"/>
                  <a:pt x="8334" y="13047"/>
                </a:cubicBezTo>
                <a:cubicBezTo>
                  <a:pt x="8398" y="13022"/>
                  <a:pt x="8450" y="12979"/>
                  <a:pt x="8483" y="12923"/>
                </a:cubicBezTo>
                <a:cubicBezTo>
                  <a:pt x="8533" y="12838"/>
                  <a:pt x="8588" y="12699"/>
                  <a:pt x="8607" y="12601"/>
                </a:cubicBezTo>
                <a:cubicBezTo>
                  <a:pt x="8613" y="12567"/>
                  <a:pt x="8636" y="12426"/>
                  <a:pt x="8632" y="12402"/>
                </a:cubicBezTo>
                <a:cubicBezTo>
                  <a:pt x="8602" y="12373"/>
                  <a:pt x="8590" y="12359"/>
                  <a:pt x="8582" y="12328"/>
                </a:cubicBezTo>
                <a:cubicBezTo>
                  <a:pt x="8499" y="12376"/>
                  <a:pt x="8498" y="12396"/>
                  <a:pt x="8508" y="12477"/>
                </a:cubicBezTo>
                <a:cubicBezTo>
                  <a:pt x="8519" y="12563"/>
                  <a:pt x="8546" y="12610"/>
                  <a:pt x="8607" y="12675"/>
                </a:cubicBezTo>
                <a:cubicBezTo>
                  <a:pt x="8710" y="12784"/>
                  <a:pt x="8770" y="12892"/>
                  <a:pt x="8880" y="12998"/>
                </a:cubicBezTo>
                <a:cubicBezTo>
                  <a:pt x="8905" y="13023"/>
                  <a:pt x="8929" y="13047"/>
                  <a:pt x="8954" y="13072"/>
                </a:cubicBezTo>
              </a:path>
              <a:path w="6847" h="3425">
                <a:moveTo>
                  <a:pt x="2232" y="11460"/>
                </a:moveTo>
                <a:cubicBezTo>
                  <a:pt x="2306" y="11418"/>
                  <a:pt x="2361" y="11358"/>
                  <a:pt x="2431" y="11311"/>
                </a:cubicBezTo>
                <a:cubicBezTo>
                  <a:pt x="2506" y="11261"/>
                  <a:pt x="2558" y="11192"/>
                  <a:pt x="2629" y="11137"/>
                </a:cubicBezTo>
                <a:cubicBezTo>
                  <a:pt x="2723" y="11064"/>
                  <a:pt x="2797" y="11000"/>
                  <a:pt x="2877" y="10914"/>
                </a:cubicBezTo>
                <a:cubicBezTo>
                  <a:pt x="2947" y="10839"/>
                  <a:pt x="3026" y="10733"/>
                  <a:pt x="3101" y="10666"/>
                </a:cubicBezTo>
                <a:cubicBezTo>
                  <a:pt x="3167" y="10607"/>
                  <a:pt x="3229" y="10572"/>
                  <a:pt x="3274" y="10492"/>
                </a:cubicBezTo>
              </a:path>
              <a:path w="6847" h="3425">
                <a:moveTo>
                  <a:pt x="5705" y="13295"/>
                </a:moveTo>
                <a:cubicBezTo>
                  <a:pt x="5705" y="13312"/>
                  <a:pt x="5705" y="13328"/>
                  <a:pt x="5705" y="13345"/>
                </a:cubicBezTo>
                <a:cubicBezTo>
                  <a:pt x="5764" y="13330"/>
                  <a:pt x="5800" y="13311"/>
                  <a:pt x="5854" y="13271"/>
                </a:cubicBezTo>
                <a:cubicBezTo>
                  <a:pt x="5910" y="13230"/>
                  <a:pt x="5953" y="13190"/>
                  <a:pt x="6003" y="13146"/>
                </a:cubicBezTo>
                <a:cubicBezTo>
                  <a:pt x="6080" y="13078"/>
                  <a:pt x="6135" y="12999"/>
                  <a:pt x="6201" y="12923"/>
                </a:cubicBezTo>
                <a:cubicBezTo>
                  <a:pt x="6263" y="12851"/>
                  <a:pt x="6328" y="12760"/>
                  <a:pt x="6400" y="12700"/>
                </a:cubicBezTo>
                <a:cubicBezTo>
                  <a:pt x="6470" y="12642"/>
                  <a:pt x="6549" y="12575"/>
                  <a:pt x="6623" y="12526"/>
                </a:cubicBezTo>
                <a:cubicBezTo>
                  <a:pt x="6692" y="12480"/>
                  <a:pt x="6752" y="12425"/>
                  <a:pt x="6821" y="12378"/>
                </a:cubicBezTo>
                <a:cubicBezTo>
                  <a:pt x="6878" y="12339"/>
                  <a:pt x="6955" y="12312"/>
                  <a:pt x="6921" y="12254"/>
                </a:cubicBezTo>
                <a:cubicBezTo>
                  <a:pt x="6913" y="12254"/>
                  <a:pt x="6904" y="12254"/>
                  <a:pt x="6896" y="12254"/>
                </a:cubicBezTo>
              </a:path>
              <a:path w="6847" h="3425">
                <a:moveTo>
                  <a:pt x="3299" y="11733"/>
                </a:moveTo>
                <a:cubicBezTo>
                  <a:pt x="3370" y="11724"/>
                  <a:pt x="3433" y="11693"/>
                  <a:pt x="3497" y="11658"/>
                </a:cubicBezTo>
                <a:cubicBezTo>
                  <a:pt x="3628" y="11587"/>
                  <a:pt x="3736" y="11518"/>
                  <a:pt x="3870" y="11460"/>
                </a:cubicBezTo>
                <a:cubicBezTo>
                  <a:pt x="3999" y="11404"/>
                  <a:pt x="4112" y="11318"/>
                  <a:pt x="4242" y="11261"/>
                </a:cubicBezTo>
                <a:cubicBezTo>
                  <a:pt x="4363" y="11208"/>
                  <a:pt x="4498" y="11174"/>
                  <a:pt x="4614" y="11112"/>
                </a:cubicBezTo>
                <a:cubicBezTo>
                  <a:pt x="4678" y="11078"/>
                  <a:pt x="4758" y="11036"/>
                  <a:pt x="4812" y="10988"/>
                </a:cubicBezTo>
                <a:cubicBezTo>
                  <a:pt x="4842" y="10959"/>
                  <a:pt x="4844" y="10954"/>
                  <a:pt x="4787" y="10988"/>
                </a:cubicBezTo>
              </a:path>
              <a:path w="6847" h="3425">
                <a:moveTo>
                  <a:pt x="6648" y="13320"/>
                </a:moveTo>
                <a:cubicBezTo>
                  <a:pt x="6702" y="13297"/>
                  <a:pt x="6738" y="13278"/>
                  <a:pt x="6796" y="13246"/>
                </a:cubicBezTo>
                <a:cubicBezTo>
                  <a:pt x="6868" y="13206"/>
                  <a:pt x="6949" y="13187"/>
                  <a:pt x="7020" y="13146"/>
                </a:cubicBezTo>
                <a:cubicBezTo>
                  <a:pt x="7134" y="13080"/>
                  <a:pt x="7246" y="13024"/>
                  <a:pt x="7367" y="12973"/>
                </a:cubicBezTo>
                <a:cubicBezTo>
                  <a:pt x="7535" y="12901"/>
                  <a:pt x="7698" y="12828"/>
                  <a:pt x="7863" y="12750"/>
                </a:cubicBezTo>
                <a:cubicBezTo>
                  <a:pt x="7995" y="12687"/>
                  <a:pt x="8127" y="12632"/>
                  <a:pt x="8260" y="12576"/>
                </a:cubicBezTo>
                <a:cubicBezTo>
                  <a:pt x="8376" y="12527"/>
                  <a:pt x="8497" y="12487"/>
                  <a:pt x="8607" y="12427"/>
                </a:cubicBezTo>
                <a:cubicBezTo>
                  <a:pt x="8673" y="12391"/>
                  <a:pt x="8728" y="12353"/>
                  <a:pt x="8781" y="12303"/>
                </a:cubicBezTo>
                <a:cubicBezTo>
                  <a:pt x="8862" y="12227"/>
                  <a:pt x="8811" y="12256"/>
                  <a:pt x="8806" y="12229"/>
                </a:cubicBezTo>
              </a:path>
              <a:path w="6847" h="3425">
                <a:moveTo>
                  <a:pt x="3101" y="11956"/>
                </a:moveTo>
                <a:cubicBezTo>
                  <a:pt x="3063" y="12003"/>
                  <a:pt x="3037" y="12057"/>
                  <a:pt x="3001" y="12105"/>
                </a:cubicBezTo>
                <a:cubicBezTo>
                  <a:pt x="2963" y="12156"/>
                  <a:pt x="2900" y="12205"/>
                  <a:pt x="2853" y="12254"/>
                </a:cubicBezTo>
                <a:cubicBezTo>
                  <a:pt x="2782" y="12328"/>
                  <a:pt x="2728" y="12404"/>
                  <a:pt x="2654" y="12477"/>
                </a:cubicBezTo>
                <a:cubicBezTo>
                  <a:pt x="2582" y="12548"/>
                  <a:pt x="2525" y="12627"/>
                  <a:pt x="2456" y="12700"/>
                </a:cubicBezTo>
                <a:cubicBezTo>
                  <a:pt x="2402" y="12757"/>
                  <a:pt x="2360" y="12850"/>
                  <a:pt x="2307" y="12898"/>
                </a:cubicBezTo>
                <a:cubicBezTo>
                  <a:pt x="2300" y="12904"/>
                  <a:pt x="2173" y="13021"/>
                  <a:pt x="2183" y="13022"/>
                </a:cubicBezTo>
                <a:cubicBezTo>
                  <a:pt x="2191" y="13014"/>
                  <a:pt x="2200" y="13006"/>
                  <a:pt x="2208" y="12998"/>
                </a:cubicBezTo>
              </a:path>
              <a:path w="6847" h="3425">
                <a:moveTo>
                  <a:pt x="3349" y="12626"/>
                </a:moveTo>
                <a:cubicBezTo>
                  <a:pt x="3349" y="12755"/>
                  <a:pt x="3338" y="12870"/>
                  <a:pt x="3324" y="12998"/>
                </a:cubicBezTo>
                <a:cubicBezTo>
                  <a:pt x="3316" y="13073"/>
                  <a:pt x="3308" y="13151"/>
                  <a:pt x="3299" y="13221"/>
                </a:cubicBezTo>
                <a:cubicBezTo>
                  <a:pt x="3292" y="13276"/>
                  <a:pt x="3299" y="13339"/>
                  <a:pt x="3299" y="13395"/>
                </a:cubicBezTo>
                <a:cubicBezTo>
                  <a:pt x="3299" y="13345"/>
                  <a:pt x="3299" y="13328"/>
                  <a:pt x="3299" y="13295"/>
                </a:cubicBezTo>
              </a:path>
              <a:path w="6847" h="3425">
                <a:moveTo>
                  <a:pt x="7069" y="10716"/>
                </a:moveTo>
                <a:cubicBezTo>
                  <a:pt x="7032" y="10753"/>
                  <a:pt x="6974" y="10774"/>
                  <a:pt x="6945" y="10815"/>
                </a:cubicBezTo>
                <a:cubicBezTo>
                  <a:pt x="6909" y="10866"/>
                  <a:pt x="6852" y="10925"/>
                  <a:pt x="6796" y="10964"/>
                </a:cubicBezTo>
                <a:cubicBezTo>
                  <a:pt x="6705" y="11028"/>
                  <a:pt x="6627" y="11114"/>
                  <a:pt x="6524" y="11162"/>
                </a:cubicBezTo>
                <a:cubicBezTo>
                  <a:pt x="6404" y="11217"/>
                  <a:pt x="6316" y="11313"/>
                  <a:pt x="6201" y="11385"/>
                </a:cubicBezTo>
                <a:cubicBezTo>
                  <a:pt x="6134" y="11427"/>
                  <a:pt x="6097" y="11488"/>
                  <a:pt x="6028" y="11534"/>
                </a:cubicBezTo>
                <a:cubicBezTo>
                  <a:pt x="5979" y="11566"/>
                  <a:pt x="5946" y="11591"/>
                  <a:pt x="5904" y="11633"/>
                </a:cubicBezTo>
                <a:cubicBezTo>
                  <a:pt x="5847" y="11690"/>
                  <a:pt x="5846" y="11659"/>
                  <a:pt x="5829" y="11609"/>
                </a:cubicBezTo>
              </a:path>
              <a:path w="6847" h="3425">
                <a:moveTo>
                  <a:pt x="6251" y="9971"/>
                </a:moveTo>
                <a:cubicBezTo>
                  <a:pt x="6242" y="10035"/>
                  <a:pt x="6191" y="10063"/>
                  <a:pt x="6176" y="10120"/>
                </a:cubicBezTo>
                <a:cubicBezTo>
                  <a:pt x="6160" y="10180"/>
                  <a:pt x="6142" y="10236"/>
                  <a:pt x="6102" y="10294"/>
                </a:cubicBezTo>
                <a:cubicBezTo>
                  <a:pt x="6073" y="10336"/>
                  <a:pt x="6036" y="10436"/>
                  <a:pt x="6052" y="10492"/>
                </a:cubicBezTo>
                <a:cubicBezTo>
                  <a:pt x="6069" y="10552"/>
                  <a:pt x="6178" y="10579"/>
                  <a:pt x="6226" y="10567"/>
                </a:cubicBezTo>
                <a:cubicBezTo>
                  <a:pt x="6267" y="10557"/>
                  <a:pt x="6347" y="10511"/>
                  <a:pt x="6375" y="10468"/>
                </a:cubicBezTo>
                <a:cubicBezTo>
                  <a:pt x="6408" y="10417"/>
                  <a:pt x="6400" y="10376"/>
                  <a:pt x="6400" y="10319"/>
                </a:cubicBezTo>
                <a:cubicBezTo>
                  <a:pt x="6325" y="10319"/>
                  <a:pt x="6304" y="10316"/>
                  <a:pt x="6251" y="10368"/>
                </a:cubicBezTo>
                <a:cubicBezTo>
                  <a:pt x="6198" y="10421"/>
                  <a:pt x="6201" y="10441"/>
                  <a:pt x="6201" y="10517"/>
                </a:cubicBezTo>
                <a:cubicBezTo>
                  <a:pt x="6201" y="10595"/>
                  <a:pt x="6205" y="10609"/>
                  <a:pt x="6251" y="10666"/>
                </a:cubicBezTo>
              </a:path>
              <a:path w="6847" h="3425">
                <a:moveTo>
                  <a:pt x="6648" y="10046"/>
                </a:moveTo>
                <a:cubicBezTo>
                  <a:pt x="6617" y="10077"/>
                  <a:pt x="6559" y="10130"/>
                  <a:pt x="6548" y="10170"/>
                </a:cubicBezTo>
                <a:cubicBezTo>
                  <a:pt x="6528" y="10245"/>
                  <a:pt x="6510" y="10311"/>
                  <a:pt x="6548" y="10393"/>
                </a:cubicBezTo>
                <a:cubicBezTo>
                  <a:pt x="6589" y="10481"/>
                  <a:pt x="6631" y="10498"/>
                  <a:pt x="6722" y="10468"/>
                </a:cubicBezTo>
                <a:cubicBezTo>
                  <a:pt x="6790" y="10446"/>
                  <a:pt x="6844" y="10411"/>
                  <a:pt x="6871" y="10344"/>
                </a:cubicBezTo>
                <a:cubicBezTo>
                  <a:pt x="6896" y="10282"/>
                  <a:pt x="6930" y="10145"/>
                  <a:pt x="6871" y="10096"/>
                </a:cubicBezTo>
                <a:cubicBezTo>
                  <a:pt x="6828" y="10060"/>
                  <a:pt x="6726" y="10049"/>
                  <a:pt x="6672" y="10046"/>
                </a:cubicBezTo>
                <a:cubicBezTo>
                  <a:pt x="6631" y="10046"/>
                  <a:pt x="6623" y="10046"/>
                  <a:pt x="659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4321080"/>
            <a:ext cx="13500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9376" y="12005"/>
                </a:moveTo>
                <a:cubicBezTo>
                  <a:pt x="9475" y="12005"/>
                  <a:pt x="9558" y="12015"/>
                  <a:pt x="9649" y="12030"/>
                </a:cubicBezTo>
                <a:cubicBezTo>
                  <a:pt x="9690" y="12030"/>
                  <a:pt x="9698" y="12030"/>
                  <a:pt x="9723" y="12030"/>
                </a:cubicBezTo>
              </a:path>
              <a:path w="373" h="225">
                <a:moveTo>
                  <a:pt x="9426" y="12229"/>
                </a:moveTo>
                <a:cubicBezTo>
                  <a:pt x="9533" y="12229"/>
                  <a:pt x="9641" y="12229"/>
                  <a:pt x="9748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732120" y="3956040"/>
            <a:ext cx="527040" cy="419040"/>
          </a:xfrm>
          <a:custGeom>
            <a:avLst/>
            <a:gdLst/>
            <a:ahLst/>
            <a:rect l="l" t="t" r="r" b="b"/>
            <a:pathLst>
              <a:path w="1465" h="1167">
                <a:moveTo>
                  <a:pt x="10616" y="11361"/>
                </a:moveTo>
                <a:cubicBezTo>
                  <a:pt x="10576" y="11453"/>
                  <a:pt x="10537" y="11543"/>
                  <a:pt x="10492" y="11633"/>
                </a:cubicBezTo>
                <a:cubicBezTo>
                  <a:pt x="10460" y="11697"/>
                  <a:pt x="10409" y="11787"/>
                  <a:pt x="10393" y="11857"/>
                </a:cubicBezTo>
                <a:cubicBezTo>
                  <a:pt x="10386" y="11889"/>
                  <a:pt x="10359" y="12004"/>
                  <a:pt x="10368" y="12030"/>
                </a:cubicBezTo>
                <a:cubicBezTo>
                  <a:pt x="10383" y="12075"/>
                  <a:pt x="10442" y="12142"/>
                  <a:pt x="10492" y="12154"/>
                </a:cubicBezTo>
                <a:cubicBezTo>
                  <a:pt x="10546" y="12167"/>
                  <a:pt x="10642" y="12127"/>
                  <a:pt x="10691" y="12105"/>
                </a:cubicBezTo>
                <a:cubicBezTo>
                  <a:pt x="10731" y="12087"/>
                  <a:pt x="10829" y="12024"/>
                  <a:pt x="10840" y="11981"/>
                </a:cubicBezTo>
                <a:cubicBezTo>
                  <a:pt x="10847" y="11953"/>
                  <a:pt x="10859" y="11777"/>
                  <a:pt x="10790" y="11782"/>
                </a:cubicBezTo>
                <a:cubicBezTo>
                  <a:pt x="10712" y="11788"/>
                  <a:pt x="10655" y="11863"/>
                  <a:pt x="10641" y="11931"/>
                </a:cubicBezTo>
                <a:cubicBezTo>
                  <a:pt x="10629" y="11993"/>
                  <a:pt x="10629" y="12083"/>
                  <a:pt x="10666" y="12129"/>
                </a:cubicBezTo>
                <a:cubicBezTo>
                  <a:pt x="10674" y="12137"/>
                  <a:pt x="10683" y="12146"/>
                  <a:pt x="10691" y="12154"/>
                </a:cubicBezTo>
              </a:path>
              <a:path w="1465" h="1167">
                <a:moveTo>
                  <a:pt x="11212" y="11410"/>
                </a:moveTo>
                <a:cubicBezTo>
                  <a:pt x="11181" y="11471"/>
                  <a:pt x="11146" y="11527"/>
                  <a:pt x="11112" y="11584"/>
                </a:cubicBezTo>
                <a:cubicBezTo>
                  <a:pt x="11073" y="11650"/>
                  <a:pt x="11046" y="11758"/>
                  <a:pt x="11038" y="11832"/>
                </a:cubicBezTo>
                <a:cubicBezTo>
                  <a:pt x="11028" y="11930"/>
                  <a:pt x="11056" y="12000"/>
                  <a:pt x="11112" y="12080"/>
                </a:cubicBezTo>
                <a:cubicBezTo>
                  <a:pt x="11158" y="12145"/>
                  <a:pt x="11213" y="12129"/>
                  <a:pt x="11286" y="12129"/>
                </a:cubicBezTo>
                <a:cubicBezTo>
                  <a:pt x="11352" y="12129"/>
                  <a:pt x="11418" y="12084"/>
                  <a:pt x="11460" y="12030"/>
                </a:cubicBezTo>
                <a:cubicBezTo>
                  <a:pt x="11501" y="11976"/>
                  <a:pt x="11531" y="11897"/>
                  <a:pt x="11534" y="11832"/>
                </a:cubicBezTo>
                <a:cubicBezTo>
                  <a:pt x="11538" y="11745"/>
                  <a:pt x="11543" y="11663"/>
                  <a:pt x="11509" y="11584"/>
                </a:cubicBezTo>
                <a:cubicBezTo>
                  <a:pt x="11478" y="11513"/>
                  <a:pt x="11483" y="11459"/>
                  <a:pt x="11410" y="11410"/>
                </a:cubicBezTo>
                <a:cubicBezTo>
                  <a:pt x="11377" y="11387"/>
                  <a:pt x="11259" y="11353"/>
                  <a:pt x="11237" y="11410"/>
                </a:cubicBezTo>
                <a:cubicBezTo>
                  <a:pt x="11237" y="11427"/>
                  <a:pt x="11237" y="11443"/>
                  <a:pt x="11237" y="11460"/>
                </a:cubicBezTo>
              </a:path>
              <a:path w="1465" h="1167">
                <a:moveTo>
                  <a:pt x="11683" y="11088"/>
                </a:moveTo>
                <a:cubicBezTo>
                  <a:pt x="11644" y="11155"/>
                  <a:pt x="11610" y="11184"/>
                  <a:pt x="11658" y="11261"/>
                </a:cubicBezTo>
                <a:cubicBezTo>
                  <a:pt x="11691" y="11315"/>
                  <a:pt x="11776" y="11273"/>
                  <a:pt x="11807" y="11237"/>
                </a:cubicBezTo>
                <a:cubicBezTo>
                  <a:pt x="11845" y="11193"/>
                  <a:pt x="11850" y="11081"/>
                  <a:pt x="11807" y="11038"/>
                </a:cubicBezTo>
                <a:cubicBezTo>
                  <a:pt x="11756" y="10987"/>
                  <a:pt x="11700" y="10988"/>
                  <a:pt x="11633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b2"/>
                </a:solidFill>
                <a:latin typeface="Tahoma"/>
              </a:rPr>
              <a:t>Since 360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° = 2</a:t>
            </a:r>
            <a:r>
              <a:rPr b="0" lang="en-US" sz="44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, then 180° would equal </a:t>
            </a:r>
            <a:r>
              <a:rPr b="0" lang="en-US" sz="44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cecb2"/>
                </a:solidFill>
                <a:latin typeface="Tahoma"/>
                <a:ea typeface="Arial"/>
              </a:rPr>
              <a:t> radians</a:t>
            </a:r>
            <a:endParaRPr b="0" lang="en-US" sz="44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fore,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 equals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1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rad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r 1 radian equals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onvert to radian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12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20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80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  <a:ea typeface="Arial"/>
              </a:rPr>
              <a:t>0.65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259000" y="1197000"/>
            <a:ext cx="4759200" cy="1098360"/>
          </a:xfrm>
          <a:custGeom>
            <a:avLst/>
            <a:gdLst/>
            <a:ahLst/>
            <a:rect l="l" t="t" r="r" b="b"/>
            <a:pathLst>
              <a:path w="13221" h="3052">
                <a:moveTo>
                  <a:pt x="6276" y="5407"/>
                </a:moveTo>
                <a:cubicBezTo>
                  <a:pt x="6366" y="5407"/>
                  <a:pt x="6413" y="5371"/>
                  <a:pt x="6499" y="5358"/>
                </a:cubicBezTo>
                <a:cubicBezTo>
                  <a:pt x="6611" y="5341"/>
                  <a:pt x="6690" y="5297"/>
                  <a:pt x="6796" y="5259"/>
                </a:cubicBezTo>
                <a:cubicBezTo>
                  <a:pt x="6927" y="5212"/>
                  <a:pt x="7063" y="5183"/>
                  <a:pt x="7193" y="5135"/>
                </a:cubicBezTo>
                <a:cubicBezTo>
                  <a:pt x="7355" y="5076"/>
                  <a:pt x="7520" y="5024"/>
                  <a:pt x="7689" y="4986"/>
                </a:cubicBezTo>
                <a:cubicBezTo>
                  <a:pt x="7848" y="4950"/>
                  <a:pt x="8002" y="4901"/>
                  <a:pt x="8161" y="4862"/>
                </a:cubicBezTo>
                <a:cubicBezTo>
                  <a:pt x="8298" y="4828"/>
                  <a:pt x="8450" y="4803"/>
                  <a:pt x="8582" y="4762"/>
                </a:cubicBezTo>
                <a:cubicBezTo>
                  <a:pt x="8644" y="4743"/>
                  <a:pt x="8703" y="4740"/>
                  <a:pt x="8756" y="4713"/>
                </a:cubicBezTo>
                <a:cubicBezTo>
                  <a:pt x="8748" y="4713"/>
                  <a:pt x="8739" y="4713"/>
                  <a:pt x="8731" y="4713"/>
                </a:cubicBezTo>
              </a:path>
              <a:path w="13221" h="3052">
                <a:moveTo>
                  <a:pt x="8359" y="4514"/>
                </a:moveTo>
                <a:cubicBezTo>
                  <a:pt x="8452" y="4505"/>
                  <a:pt x="8541" y="4476"/>
                  <a:pt x="8632" y="4465"/>
                </a:cubicBezTo>
                <a:cubicBezTo>
                  <a:pt x="8737" y="4453"/>
                  <a:pt x="8998" y="4426"/>
                  <a:pt x="9079" y="4490"/>
                </a:cubicBezTo>
                <a:cubicBezTo>
                  <a:pt x="9162" y="4556"/>
                  <a:pt x="9068" y="4588"/>
                  <a:pt x="9054" y="4638"/>
                </a:cubicBezTo>
                <a:cubicBezTo>
                  <a:pt x="9034" y="4708"/>
                  <a:pt x="9007" y="4766"/>
                  <a:pt x="8979" y="4837"/>
                </a:cubicBezTo>
                <a:cubicBezTo>
                  <a:pt x="8953" y="4903"/>
                  <a:pt x="8935" y="4956"/>
                  <a:pt x="8905" y="5011"/>
                </a:cubicBezTo>
                <a:cubicBezTo>
                  <a:pt x="8897" y="5027"/>
                  <a:pt x="8888" y="5044"/>
                  <a:pt x="8880" y="5060"/>
                </a:cubicBezTo>
              </a:path>
              <a:path w="13221" h="3052">
                <a:moveTo>
                  <a:pt x="9773" y="3994"/>
                </a:moveTo>
                <a:cubicBezTo>
                  <a:pt x="9773" y="4369"/>
                  <a:pt x="9480" y="5309"/>
                  <a:pt x="9798" y="5110"/>
                </a:cubicBezTo>
                <a:cubicBezTo>
                  <a:pt x="9806" y="5093"/>
                  <a:pt x="9815" y="5077"/>
                  <a:pt x="9823" y="5060"/>
                </a:cubicBezTo>
              </a:path>
              <a:path w="13221" h="3052">
                <a:moveTo>
                  <a:pt x="9996" y="4291"/>
                </a:moveTo>
                <a:cubicBezTo>
                  <a:pt x="10008" y="4211"/>
                  <a:pt x="10034" y="4193"/>
                  <a:pt x="10096" y="4142"/>
                </a:cubicBezTo>
                <a:cubicBezTo>
                  <a:pt x="10160" y="4089"/>
                  <a:pt x="10238" y="4070"/>
                  <a:pt x="10319" y="4068"/>
                </a:cubicBezTo>
                <a:cubicBezTo>
                  <a:pt x="10429" y="4065"/>
                  <a:pt x="10486" y="4057"/>
                  <a:pt x="10492" y="4167"/>
                </a:cubicBezTo>
                <a:cubicBezTo>
                  <a:pt x="10496" y="4238"/>
                  <a:pt x="10489" y="4324"/>
                  <a:pt x="10468" y="4390"/>
                </a:cubicBezTo>
                <a:cubicBezTo>
                  <a:pt x="10447" y="4456"/>
                  <a:pt x="10414" y="4526"/>
                  <a:pt x="10393" y="4589"/>
                </a:cubicBezTo>
                <a:cubicBezTo>
                  <a:pt x="10359" y="4689"/>
                  <a:pt x="10290" y="4833"/>
                  <a:pt x="10220" y="4911"/>
                </a:cubicBezTo>
                <a:cubicBezTo>
                  <a:pt x="10183" y="4952"/>
                  <a:pt x="10161" y="4996"/>
                  <a:pt x="10120" y="5035"/>
                </a:cubicBezTo>
                <a:cubicBezTo>
                  <a:pt x="10273" y="5035"/>
                  <a:pt x="10510" y="5074"/>
                  <a:pt x="10641" y="5011"/>
                </a:cubicBezTo>
              </a:path>
              <a:path w="13221" h="3052">
                <a:moveTo>
                  <a:pt x="10815" y="4118"/>
                </a:moveTo>
                <a:cubicBezTo>
                  <a:pt x="10792" y="4207"/>
                  <a:pt x="10779" y="4303"/>
                  <a:pt x="10765" y="4390"/>
                </a:cubicBezTo>
                <a:cubicBezTo>
                  <a:pt x="10741" y="4540"/>
                  <a:pt x="10742" y="4773"/>
                  <a:pt x="10790" y="4911"/>
                </a:cubicBezTo>
                <a:cubicBezTo>
                  <a:pt x="10803" y="4948"/>
                  <a:pt x="10837" y="5045"/>
                  <a:pt x="10889" y="5060"/>
                </a:cubicBezTo>
                <a:cubicBezTo>
                  <a:pt x="10961" y="5080"/>
                  <a:pt x="11027" y="5042"/>
                  <a:pt x="11088" y="5011"/>
                </a:cubicBezTo>
                <a:cubicBezTo>
                  <a:pt x="11149" y="4981"/>
                  <a:pt x="11221" y="4887"/>
                  <a:pt x="11261" y="4837"/>
                </a:cubicBezTo>
                <a:cubicBezTo>
                  <a:pt x="11310" y="4776"/>
                  <a:pt x="11311" y="4711"/>
                  <a:pt x="11311" y="4638"/>
                </a:cubicBezTo>
                <a:cubicBezTo>
                  <a:pt x="11311" y="4551"/>
                  <a:pt x="11322" y="4469"/>
                  <a:pt x="11286" y="4390"/>
                </a:cubicBezTo>
                <a:cubicBezTo>
                  <a:pt x="11250" y="4309"/>
                  <a:pt x="11235" y="4308"/>
                  <a:pt x="11187" y="4242"/>
                </a:cubicBezTo>
                <a:cubicBezTo>
                  <a:pt x="11166" y="4212"/>
                  <a:pt x="11131" y="4130"/>
                  <a:pt x="11088" y="4118"/>
                </a:cubicBezTo>
                <a:cubicBezTo>
                  <a:pt x="11030" y="4102"/>
                  <a:pt x="10956" y="4077"/>
                  <a:pt x="10889" y="4093"/>
                </a:cubicBezTo>
                <a:cubicBezTo>
                  <a:pt x="10849" y="4113"/>
                  <a:pt x="10843" y="4122"/>
                  <a:pt x="10815" y="4118"/>
                </a:cubicBezTo>
              </a:path>
              <a:path w="13221" h="3052">
                <a:moveTo>
                  <a:pt x="11311" y="3696"/>
                </a:moveTo>
                <a:cubicBezTo>
                  <a:pt x="11289" y="3732"/>
                  <a:pt x="11250" y="3798"/>
                  <a:pt x="11261" y="3845"/>
                </a:cubicBezTo>
                <a:cubicBezTo>
                  <a:pt x="11279" y="3921"/>
                  <a:pt x="11331" y="3937"/>
                  <a:pt x="11385" y="3894"/>
                </a:cubicBezTo>
                <a:cubicBezTo>
                  <a:pt x="11435" y="3855"/>
                  <a:pt x="11479" y="3788"/>
                  <a:pt x="11460" y="3721"/>
                </a:cubicBezTo>
                <a:cubicBezTo>
                  <a:pt x="11442" y="3657"/>
                  <a:pt x="11358" y="3671"/>
                  <a:pt x="11311" y="3671"/>
                </a:cubicBezTo>
              </a:path>
              <a:path w="13221" h="3052">
                <a:moveTo>
                  <a:pt x="11708" y="4936"/>
                </a:moveTo>
                <a:cubicBezTo>
                  <a:pt x="11736" y="4964"/>
                  <a:pt x="11749" y="4973"/>
                  <a:pt x="11782" y="4961"/>
                </a:cubicBezTo>
                <a:cubicBezTo>
                  <a:pt x="11729" y="4825"/>
                  <a:pt x="11793" y="5008"/>
                  <a:pt x="11782" y="4936"/>
                </a:cubicBezTo>
                <a:cubicBezTo>
                  <a:pt x="11777" y="4900"/>
                  <a:pt x="11732" y="4908"/>
                  <a:pt x="11757" y="4961"/>
                </a:cubicBezTo>
              </a:path>
              <a:path w="13221" h="3052">
                <a:moveTo>
                  <a:pt x="12129" y="5035"/>
                </a:moveTo>
                <a:cubicBezTo>
                  <a:pt x="12205" y="5028"/>
                  <a:pt x="12272" y="4997"/>
                  <a:pt x="12353" y="4986"/>
                </a:cubicBezTo>
                <a:cubicBezTo>
                  <a:pt x="12458" y="4972"/>
                  <a:pt x="12572" y="4973"/>
                  <a:pt x="12675" y="4961"/>
                </a:cubicBezTo>
                <a:cubicBezTo>
                  <a:pt x="12935" y="4932"/>
                  <a:pt x="13209" y="4956"/>
                  <a:pt x="13469" y="4936"/>
                </a:cubicBezTo>
                <a:cubicBezTo>
                  <a:pt x="13774" y="4912"/>
                  <a:pt x="14089" y="4949"/>
                  <a:pt x="14387" y="4911"/>
                </a:cubicBezTo>
                <a:cubicBezTo>
                  <a:pt x="14458" y="4902"/>
                  <a:pt x="14538" y="4911"/>
                  <a:pt x="14610" y="4911"/>
                </a:cubicBezTo>
              </a:path>
              <a:path w="13221" h="3052">
                <a:moveTo>
                  <a:pt x="12129" y="5407"/>
                </a:moveTo>
                <a:cubicBezTo>
                  <a:pt x="12129" y="5580"/>
                  <a:pt x="12208" y="6278"/>
                  <a:pt x="12105" y="6350"/>
                </a:cubicBezTo>
              </a:path>
              <a:path w="13221" h="3052">
                <a:moveTo>
                  <a:pt x="12874" y="5482"/>
                </a:moveTo>
                <a:cubicBezTo>
                  <a:pt x="12783" y="5421"/>
                  <a:pt x="12734" y="5421"/>
                  <a:pt x="12626" y="5457"/>
                </a:cubicBezTo>
                <a:cubicBezTo>
                  <a:pt x="12550" y="5482"/>
                  <a:pt x="12530" y="5503"/>
                  <a:pt x="12477" y="5556"/>
                </a:cubicBezTo>
                <a:cubicBezTo>
                  <a:pt x="12433" y="5600"/>
                  <a:pt x="12405" y="5646"/>
                  <a:pt x="12402" y="5705"/>
                </a:cubicBezTo>
                <a:cubicBezTo>
                  <a:pt x="12399" y="5756"/>
                  <a:pt x="12435" y="5846"/>
                  <a:pt x="12477" y="5879"/>
                </a:cubicBezTo>
                <a:cubicBezTo>
                  <a:pt x="12534" y="5924"/>
                  <a:pt x="12572" y="5974"/>
                  <a:pt x="12626" y="6028"/>
                </a:cubicBezTo>
                <a:cubicBezTo>
                  <a:pt x="12658" y="6060"/>
                  <a:pt x="12716" y="6128"/>
                  <a:pt x="12700" y="6176"/>
                </a:cubicBezTo>
                <a:cubicBezTo>
                  <a:pt x="12663" y="6287"/>
                  <a:pt x="12629" y="6312"/>
                  <a:pt x="12526" y="6325"/>
                </a:cubicBezTo>
                <a:cubicBezTo>
                  <a:pt x="12501" y="6273"/>
                  <a:pt x="12480" y="6166"/>
                  <a:pt x="12502" y="6102"/>
                </a:cubicBezTo>
                <a:cubicBezTo>
                  <a:pt x="12520" y="6050"/>
                  <a:pt x="12532" y="5983"/>
                  <a:pt x="12551" y="5928"/>
                </a:cubicBezTo>
                <a:cubicBezTo>
                  <a:pt x="12589" y="5815"/>
                  <a:pt x="12614" y="5725"/>
                  <a:pt x="12700" y="5655"/>
                </a:cubicBezTo>
                <a:cubicBezTo>
                  <a:pt x="12708" y="5647"/>
                  <a:pt x="12717" y="5639"/>
                  <a:pt x="12725" y="5631"/>
                </a:cubicBezTo>
              </a:path>
              <a:path w="13221" h="3052">
                <a:moveTo>
                  <a:pt x="12998" y="5507"/>
                </a:moveTo>
                <a:cubicBezTo>
                  <a:pt x="12961" y="5560"/>
                  <a:pt x="12909" y="5623"/>
                  <a:pt x="12898" y="5680"/>
                </a:cubicBezTo>
                <a:cubicBezTo>
                  <a:pt x="12885" y="5742"/>
                  <a:pt x="12891" y="5818"/>
                  <a:pt x="12874" y="5879"/>
                </a:cubicBezTo>
                <a:cubicBezTo>
                  <a:pt x="12852" y="5956"/>
                  <a:pt x="12849" y="6020"/>
                  <a:pt x="12849" y="6102"/>
                </a:cubicBezTo>
                <a:cubicBezTo>
                  <a:pt x="12849" y="6171"/>
                  <a:pt x="12844" y="6219"/>
                  <a:pt x="12874" y="6276"/>
                </a:cubicBezTo>
                <a:cubicBezTo>
                  <a:pt x="12896" y="6317"/>
                  <a:pt x="12950" y="6385"/>
                  <a:pt x="12998" y="6375"/>
                </a:cubicBezTo>
                <a:cubicBezTo>
                  <a:pt x="13068" y="6361"/>
                  <a:pt x="13105" y="6320"/>
                  <a:pt x="13146" y="6251"/>
                </a:cubicBezTo>
                <a:cubicBezTo>
                  <a:pt x="13180" y="6194"/>
                  <a:pt x="13217" y="6139"/>
                  <a:pt x="13221" y="6077"/>
                </a:cubicBezTo>
                <a:cubicBezTo>
                  <a:pt x="13227" y="5971"/>
                  <a:pt x="13213" y="5877"/>
                  <a:pt x="13196" y="5779"/>
                </a:cubicBezTo>
                <a:cubicBezTo>
                  <a:pt x="13183" y="5701"/>
                  <a:pt x="13169" y="5625"/>
                  <a:pt x="13122" y="5556"/>
                </a:cubicBezTo>
                <a:cubicBezTo>
                  <a:pt x="13095" y="5516"/>
                  <a:pt x="13056" y="5508"/>
                  <a:pt x="13022" y="5482"/>
                </a:cubicBezTo>
              </a:path>
              <a:path w="13221" h="3052">
                <a:moveTo>
                  <a:pt x="13419" y="5308"/>
                </a:moveTo>
                <a:cubicBezTo>
                  <a:pt x="13397" y="5336"/>
                  <a:pt x="13339" y="5429"/>
                  <a:pt x="13345" y="5457"/>
                </a:cubicBezTo>
                <a:cubicBezTo>
                  <a:pt x="13373" y="5485"/>
                  <a:pt x="13382" y="5498"/>
                  <a:pt x="13370" y="5531"/>
                </a:cubicBezTo>
                <a:cubicBezTo>
                  <a:pt x="13470" y="5531"/>
                  <a:pt x="13503" y="5528"/>
                  <a:pt x="13568" y="5457"/>
                </a:cubicBezTo>
                <a:cubicBezTo>
                  <a:pt x="13607" y="5415"/>
                  <a:pt x="13643" y="5374"/>
                  <a:pt x="13618" y="5308"/>
                </a:cubicBezTo>
                <a:cubicBezTo>
                  <a:pt x="13604" y="5272"/>
                  <a:pt x="13525" y="5242"/>
                  <a:pt x="13494" y="5234"/>
                </a:cubicBezTo>
              </a:path>
              <a:path w="13221" h="3052">
                <a:moveTo>
                  <a:pt x="12129" y="3969"/>
                </a:moveTo>
                <a:cubicBezTo>
                  <a:pt x="12201" y="3928"/>
                  <a:pt x="12267" y="3885"/>
                  <a:pt x="12353" y="3870"/>
                </a:cubicBezTo>
                <a:cubicBezTo>
                  <a:pt x="12522" y="3840"/>
                  <a:pt x="12715" y="3875"/>
                  <a:pt x="12874" y="3845"/>
                </a:cubicBezTo>
                <a:cubicBezTo>
                  <a:pt x="12915" y="3845"/>
                  <a:pt x="12931" y="3853"/>
                  <a:pt x="12923" y="3820"/>
                </a:cubicBezTo>
              </a:path>
              <a:path w="13221" h="3052">
                <a:moveTo>
                  <a:pt x="12402" y="3919"/>
                </a:moveTo>
                <a:cubicBezTo>
                  <a:pt x="12402" y="4097"/>
                  <a:pt x="12402" y="4267"/>
                  <a:pt x="12427" y="4440"/>
                </a:cubicBezTo>
                <a:cubicBezTo>
                  <a:pt x="12435" y="4495"/>
                  <a:pt x="12392" y="4718"/>
                  <a:pt x="12452" y="4738"/>
                </a:cubicBezTo>
                <a:cubicBezTo>
                  <a:pt x="12452" y="4730"/>
                  <a:pt x="12452" y="4721"/>
                  <a:pt x="12452" y="4713"/>
                </a:cubicBezTo>
              </a:path>
              <a:path w="13221" h="3052">
                <a:moveTo>
                  <a:pt x="12601" y="3969"/>
                </a:moveTo>
                <a:cubicBezTo>
                  <a:pt x="12579" y="4056"/>
                  <a:pt x="12576" y="4127"/>
                  <a:pt x="12576" y="4217"/>
                </a:cubicBezTo>
                <a:cubicBezTo>
                  <a:pt x="12576" y="4287"/>
                  <a:pt x="12583" y="4397"/>
                  <a:pt x="12601" y="4465"/>
                </a:cubicBezTo>
                <a:cubicBezTo>
                  <a:pt x="12614" y="4516"/>
                  <a:pt x="12629" y="4595"/>
                  <a:pt x="12650" y="4638"/>
                </a:cubicBezTo>
                <a:cubicBezTo>
                  <a:pt x="12697" y="4731"/>
                  <a:pt x="12682" y="4691"/>
                  <a:pt x="12725" y="4663"/>
                </a:cubicBezTo>
              </a:path>
              <a:path w="13221" h="3052">
                <a:moveTo>
                  <a:pt x="13221" y="4564"/>
                </a:moveTo>
                <a:cubicBezTo>
                  <a:pt x="13225" y="4577"/>
                  <a:pt x="13271" y="4777"/>
                  <a:pt x="13246" y="4688"/>
                </a:cubicBezTo>
                <a:cubicBezTo>
                  <a:pt x="13228" y="4625"/>
                  <a:pt x="13239" y="4515"/>
                  <a:pt x="13271" y="4465"/>
                </a:cubicBezTo>
                <a:cubicBezTo>
                  <a:pt x="13314" y="4398"/>
                  <a:pt x="13361" y="4312"/>
                  <a:pt x="13419" y="4266"/>
                </a:cubicBezTo>
                <a:cubicBezTo>
                  <a:pt x="13463" y="4231"/>
                  <a:pt x="13492" y="4224"/>
                  <a:pt x="13543" y="4217"/>
                </a:cubicBezTo>
              </a:path>
              <a:path w="13221" h="3052">
                <a:moveTo>
                  <a:pt x="13816" y="4440"/>
                </a:moveTo>
                <a:cubicBezTo>
                  <a:pt x="13835" y="4394"/>
                  <a:pt x="13828" y="4339"/>
                  <a:pt x="13791" y="4291"/>
                </a:cubicBezTo>
                <a:cubicBezTo>
                  <a:pt x="13783" y="4283"/>
                  <a:pt x="13775" y="4274"/>
                  <a:pt x="13767" y="4266"/>
                </a:cubicBezTo>
                <a:cubicBezTo>
                  <a:pt x="13712" y="4321"/>
                  <a:pt x="13706" y="4348"/>
                  <a:pt x="13667" y="4415"/>
                </a:cubicBezTo>
                <a:cubicBezTo>
                  <a:pt x="13645" y="4452"/>
                  <a:pt x="13607" y="4570"/>
                  <a:pt x="13618" y="4614"/>
                </a:cubicBezTo>
                <a:cubicBezTo>
                  <a:pt x="13637" y="4694"/>
                  <a:pt x="13671" y="4728"/>
                  <a:pt x="13742" y="4738"/>
                </a:cubicBezTo>
                <a:cubicBezTo>
                  <a:pt x="13788" y="4668"/>
                  <a:pt x="13813" y="4621"/>
                  <a:pt x="13816" y="4539"/>
                </a:cubicBezTo>
                <a:cubicBezTo>
                  <a:pt x="13816" y="4514"/>
                  <a:pt x="13816" y="4490"/>
                  <a:pt x="13816" y="4465"/>
                </a:cubicBezTo>
                <a:cubicBezTo>
                  <a:pt x="13816" y="4341"/>
                  <a:pt x="13822" y="4597"/>
                  <a:pt x="13841" y="4638"/>
                </a:cubicBezTo>
                <a:cubicBezTo>
                  <a:pt x="13875" y="4709"/>
                  <a:pt x="13986" y="4681"/>
                  <a:pt x="14039" y="4663"/>
                </a:cubicBezTo>
                <a:cubicBezTo>
                  <a:pt x="14089" y="4638"/>
                  <a:pt x="14105" y="4630"/>
                  <a:pt x="14114" y="4589"/>
                </a:cubicBezTo>
              </a:path>
              <a:path w="13221" h="3052">
                <a:moveTo>
                  <a:pt x="14238" y="4192"/>
                </a:moveTo>
                <a:cubicBezTo>
                  <a:pt x="14134" y="4224"/>
                  <a:pt x="14118" y="4227"/>
                  <a:pt x="14064" y="4316"/>
                </a:cubicBezTo>
                <a:cubicBezTo>
                  <a:pt x="14028" y="4375"/>
                  <a:pt x="14036" y="4432"/>
                  <a:pt x="14015" y="4490"/>
                </a:cubicBezTo>
                <a:cubicBezTo>
                  <a:pt x="14004" y="4522"/>
                  <a:pt x="13990" y="4633"/>
                  <a:pt x="14039" y="4663"/>
                </a:cubicBezTo>
                <a:cubicBezTo>
                  <a:pt x="14108" y="4705"/>
                  <a:pt x="14173" y="4628"/>
                  <a:pt x="14213" y="4589"/>
                </a:cubicBezTo>
                <a:cubicBezTo>
                  <a:pt x="14269" y="4533"/>
                  <a:pt x="14323" y="4471"/>
                  <a:pt x="14337" y="4390"/>
                </a:cubicBezTo>
                <a:cubicBezTo>
                  <a:pt x="14350" y="4309"/>
                  <a:pt x="14379" y="4201"/>
                  <a:pt x="14362" y="4118"/>
                </a:cubicBezTo>
                <a:cubicBezTo>
                  <a:pt x="14346" y="4041"/>
                  <a:pt x="14339" y="3966"/>
                  <a:pt x="14312" y="3894"/>
                </a:cubicBezTo>
                <a:cubicBezTo>
                  <a:pt x="14312" y="4048"/>
                  <a:pt x="14314" y="4195"/>
                  <a:pt x="14337" y="4341"/>
                </a:cubicBezTo>
                <a:cubicBezTo>
                  <a:pt x="14349" y="4416"/>
                  <a:pt x="14378" y="4433"/>
                  <a:pt x="14436" y="4490"/>
                </a:cubicBezTo>
                <a:cubicBezTo>
                  <a:pt x="14487" y="4540"/>
                  <a:pt x="14543" y="4556"/>
                  <a:pt x="14610" y="4564"/>
                </a:cubicBezTo>
              </a:path>
              <a:path w="13221" h="3052">
                <a:moveTo>
                  <a:pt x="15180" y="4564"/>
                </a:moveTo>
                <a:cubicBezTo>
                  <a:pt x="15308" y="4564"/>
                  <a:pt x="15439" y="4569"/>
                  <a:pt x="15553" y="4589"/>
                </a:cubicBezTo>
                <a:cubicBezTo>
                  <a:pt x="15594" y="4589"/>
                  <a:pt x="15602" y="4589"/>
                  <a:pt x="15627" y="4589"/>
                </a:cubicBezTo>
              </a:path>
              <a:path w="13221" h="3052">
                <a:moveTo>
                  <a:pt x="15230" y="4837"/>
                </a:moveTo>
                <a:cubicBezTo>
                  <a:pt x="15297" y="4891"/>
                  <a:pt x="15343" y="4887"/>
                  <a:pt x="15429" y="4887"/>
                </a:cubicBezTo>
                <a:cubicBezTo>
                  <a:pt x="15500" y="4887"/>
                  <a:pt x="15538" y="4866"/>
                  <a:pt x="15602" y="4862"/>
                </a:cubicBezTo>
                <a:cubicBezTo>
                  <a:pt x="15660" y="4859"/>
                  <a:pt x="15676" y="4875"/>
                  <a:pt x="15701" y="4837"/>
                </a:cubicBezTo>
              </a:path>
              <a:path w="13221" h="3052">
                <a:moveTo>
                  <a:pt x="13370" y="5507"/>
                </a:moveTo>
                <a:cubicBezTo>
                  <a:pt x="13378" y="5441"/>
                  <a:pt x="13400" y="5364"/>
                  <a:pt x="13444" y="5308"/>
                </a:cubicBezTo>
                <a:cubicBezTo>
                  <a:pt x="13503" y="5233"/>
                  <a:pt x="13542" y="5211"/>
                  <a:pt x="13618" y="5159"/>
                </a:cubicBezTo>
                <a:cubicBezTo>
                  <a:pt x="13690" y="5110"/>
                  <a:pt x="13583" y="5194"/>
                  <a:pt x="13568" y="5209"/>
                </a:cubicBezTo>
                <a:cubicBezTo>
                  <a:pt x="13528" y="5249"/>
                  <a:pt x="13503" y="5261"/>
                  <a:pt x="13469" y="5308"/>
                </a:cubicBezTo>
              </a:path>
              <a:path w="13221" h="3052">
                <a:moveTo>
                  <a:pt x="11361" y="3944"/>
                </a:moveTo>
                <a:cubicBezTo>
                  <a:pt x="11344" y="3944"/>
                  <a:pt x="11328" y="3944"/>
                  <a:pt x="11311" y="3944"/>
                </a:cubicBezTo>
                <a:cubicBezTo>
                  <a:pt x="11374" y="3838"/>
                  <a:pt x="11425" y="3779"/>
                  <a:pt x="11534" y="3721"/>
                </a:cubicBezTo>
                <a:cubicBezTo>
                  <a:pt x="11600" y="3686"/>
                  <a:pt x="11667" y="3654"/>
                  <a:pt x="11733" y="3621"/>
                </a:cubicBezTo>
              </a:path>
              <a:path w="13221" h="3052">
                <a:moveTo>
                  <a:pt x="9599" y="5060"/>
                </a:moveTo>
                <a:cubicBezTo>
                  <a:pt x="9662" y="5013"/>
                  <a:pt x="9736" y="4983"/>
                  <a:pt x="9798" y="4936"/>
                </a:cubicBezTo>
                <a:cubicBezTo>
                  <a:pt x="9882" y="4873"/>
                  <a:pt x="9977" y="4815"/>
                  <a:pt x="10071" y="4762"/>
                </a:cubicBezTo>
                <a:cubicBezTo>
                  <a:pt x="10232" y="4672"/>
                  <a:pt x="10392" y="4553"/>
                  <a:pt x="10567" y="4490"/>
                </a:cubicBezTo>
                <a:cubicBezTo>
                  <a:pt x="10709" y="4439"/>
                  <a:pt x="10850" y="4382"/>
                  <a:pt x="10988" y="4316"/>
                </a:cubicBezTo>
                <a:cubicBezTo>
                  <a:pt x="11078" y="4273"/>
                  <a:pt x="11074" y="4266"/>
                  <a:pt x="11088" y="4217"/>
                </a:cubicBezTo>
              </a:path>
              <a:path w="13221" h="3052">
                <a:moveTo>
                  <a:pt x="9996" y="3696"/>
                </a:moveTo>
                <a:cubicBezTo>
                  <a:pt x="10004" y="3620"/>
                  <a:pt x="10014" y="3569"/>
                  <a:pt x="10046" y="3497"/>
                </a:cubicBezTo>
                <a:cubicBezTo>
                  <a:pt x="10093" y="3393"/>
                  <a:pt x="10105" y="3403"/>
                  <a:pt x="10195" y="3349"/>
                </a:cubicBezTo>
                <a:cubicBezTo>
                  <a:pt x="10237" y="3324"/>
                  <a:pt x="10352" y="3289"/>
                  <a:pt x="10393" y="3349"/>
                </a:cubicBezTo>
                <a:cubicBezTo>
                  <a:pt x="10425" y="3395"/>
                  <a:pt x="10375" y="3488"/>
                  <a:pt x="10368" y="3522"/>
                </a:cubicBezTo>
                <a:cubicBezTo>
                  <a:pt x="10354" y="3592"/>
                  <a:pt x="10337" y="3658"/>
                  <a:pt x="10294" y="3721"/>
                </a:cubicBezTo>
                <a:cubicBezTo>
                  <a:pt x="10253" y="3781"/>
                  <a:pt x="10223" y="3842"/>
                  <a:pt x="10170" y="3894"/>
                </a:cubicBezTo>
                <a:cubicBezTo>
                  <a:pt x="10145" y="3919"/>
                  <a:pt x="10120" y="3944"/>
                  <a:pt x="10096" y="3969"/>
                </a:cubicBezTo>
                <a:cubicBezTo>
                  <a:pt x="10157" y="3919"/>
                  <a:pt x="10192" y="3919"/>
                  <a:pt x="10269" y="3919"/>
                </a:cubicBezTo>
                <a:cubicBezTo>
                  <a:pt x="10351" y="3919"/>
                  <a:pt x="10424" y="3908"/>
                  <a:pt x="10492" y="3894"/>
                </a:cubicBezTo>
                <a:cubicBezTo>
                  <a:pt x="10554" y="3882"/>
                  <a:pt x="10628" y="3894"/>
                  <a:pt x="10691" y="3894"/>
                </a:cubicBezTo>
              </a:path>
              <a:path w="13221" h="3052">
                <a:moveTo>
                  <a:pt x="16470" y="3795"/>
                </a:moveTo>
                <a:cubicBezTo>
                  <a:pt x="16441" y="3825"/>
                  <a:pt x="16430" y="3840"/>
                  <a:pt x="16421" y="3870"/>
                </a:cubicBezTo>
                <a:cubicBezTo>
                  <a:pt x="16430" y="3808"/>
                  <a:pt x="16443" y="3757"/>
                  <a:pt x="16470" y="3696"/>
                </a:cubicBezTo>
                <a:cubicBezTo>
                  <a:pt x="16496" y="3636"/>
                  <a:pt x="16495" y="3567"/>
                  <a:pt x="16570" y="3547"/>
                </a:cubicBezTo>
                <a:cubicBezTo>
                  <a:pt x="16627" y="3532"/>
                  <a:pt x="16659" y="3586"/>
                  <a:pt x="16694" y="3621"/>
                </a:cubicBezTo>
                <a:cubicBezTo>
                  <a:pt x="16743" y="3670"/>
                  <a:pt x="16760" y="3756"/>
                  <a:pt x="16768" y="3820"/>
                </a:cubicBezTo>
                <a:cubicBezTo>
                  <a:pt x="16787" y="3971"/>
                  <a:pt x="16777" y="4153"/>
                  <a:pt x="16718" y="4291"/>
                </a:cubicBezTo>
                <a:cubicBezTo>
                  <a:pt x="16685" y="4369"/>
                  <a:pt x="16614" y="4464"/>
                  <a:pt x="16545" y="4514"/>
                </a:cubicBezTo>
                <a:cubicBezTo>
                  <a:pt x="16520" y="4532"/>
                  <a:pt x="16417" y="4593"/>
                  <a:pt x="16396" y="4589"/>
                </a:cubicBezTo>
                <a:cubicBezTo>
                  <a:pt x="16336" y="4577"/>
                  <a:pt x="16300" y="4519"/>
                  <a:pt x="16297" y="4465"/>
                </a:cubicBezTo>
                <a:cubicBezTo>
                  <a:pt x="16295" y="4426"/>
                  <a:pt x="16326" y="4332"/>
                  <a:pt x="16371" y="4316"/>
                </a:cubicBezTo>
                <a:cubicBezTo>
                  <a:pt x="16439" y="4292"/>
                  <a:pt x="16540" y="4375"/>
                  <a:pt x="16594" y="4415"/>
                </a:cubicBezTo>
                <a:cubicBezTo>
                  <a:pt x="16622" y="4436"/>
                  <a:pt x="16698" y="4554"/>
                  <a:pt x="16694" y="4589"/>
                </a:cubicBezTo>
                <a:cubicBezTo>
                  <a:pt x="16692" y="4604"/>
                  <a:pt x="16689" y="4611"/>
                  <a:pt x="16743" y="4589"/>
                </a:cubicBezTo>
              </a:path>
              <a:path w="13221" h="3052">
                <a:moveTo>
                  <a:pt x="16942" y="3721"/>
                </a:moveTo>
                <a:cubicBezTo>
                  <a:pt x="17023" y="3699"/>
                  <a:pt x="17082" y="3696"/>
                  <a:pt x="17165" y="3696"/>
                </a:cubicBezTo>
                <a:cubicBezTo>
                  <a:pt x="17260" y="3696"/>
                  <a:pt x="17342" y="3671"/>
                  <a:pt x="17438" y="3671"/>
                </a:cubicBezTo>
                <a:cubicBezTo>
                  <a:pt x="17523" y="3671"/>
                  <a:pt x="17555" y="3686"/>
                  <a:pt x="17587" y="3621"/>
                </a:cubicBezTo>
              </a:path>
              <a:path w="13221" h="3052">
                <a:moveTo>
                  <a:pt x="17140" y="3746"/>
                </a:moveTo>
                <a:cubicBezTo>
                  <a:pt x="17140" y="3858"/>
                  <a:pt x="17128" y="3963"/>
                  <a:pt x="17115" y="4068"/>
                </a:cubicBezTo>
                <a:cubicBezTo>
                  <a:pt x="17105" y="4149"/>
                  <a:pt x="17094" y="4236"/>
                  <a:pt x="17090" y="4316"/>
                </a:cubicBezTo>
                <a:cubicBezTo>
                  <a:pt x="17090" y="4366"/>
                  <a:pt x="17090" y="4382"/>
                  <a:pt x="17090" y="4415"/>
                </a:cubicBezTo>
                <a:cubicBezTo>
                  <a:pt x="17140" y="4340"/>
                  <a:pt x="17157" y="4281"/>
                  <a:pt x="17165" y="4192"/>
                </a:cubicBezTo>
              </a:path>
              <a:path w="13221" h="3052">
                <a:moveTo>
                  <a:pt x="17363" y="3770"/>
                </a:moveTo>
                <a:cubicBezTo>
                  <a:pt x="17324" y="3863"/>
                  <a:pt x="17293" y="3941"/>
                  <a:pt x="17289" y="4043"/>
                </a:cubicBezTo>
                <a:cubicBezTo>
                  <a:pt x="17284" y="4156"/>
                  <a:pt x="17317" y="4235"/>
                  <a:pt x="17338" y="4341"/>
                </a:cubicBezTo>
                <a:cubicBezTo>
                  <a:pt x="17353" y="4418"/>
                  <a:pt x="17371" y="4442"/>
                  <a:pt x="17438" y="4490"/>
                </a:cubicBezTo>
              </a:path>
              <a:path w="13221" h="3052">
                <a:moveTo>
                  <a:pt x="16272" y="4762"/>
                </a:moveTo>
                <a:cubicBezTo>
                  <a:pt x="16340" y="4803"/>
                  <a:pt x="16388" y="4765"/>
                  <a:pt x="16470" y="4762"/>
                </a:cubicBezTo>
                <a:cubicBezTo>
                  <a:pt x="16580" y="4758"/>
                  <a:pt x="16684" y="4741"/>
                  <a:pt x="16793" y="4738"/>
                </a:cubicBezTo>
                <a:cubicBezTo>
                  <a:pt x="16929" y="4735"/>
                  <a:pt x="17053" y="4713"/>
                  <a:pt x="17190" y="4713"/>
                </a:cubicBezTo>
                <a:cubicBezTo>
                  <a:pt x="17273" y="4713"/>
                  <a:pt x="17474" y="4681"/>
                  <a:pt x="17512" y="4738"/>
                </a:cubicBezTo>
              </a:path>
              <a:path w="13221" h="3052">
                <a:moveTo>
                  <a:pt x="16545" y="5159"/>
                </a:moveTo>
                <a:cubicBezTo>
                  <a:pt x="16602" y="5103"/>
                  <a:pt x="16633" y="5091"/>
                  <a:pt x="16694" y="5060"/>
                </a:cubicBezTo>
                <a:cubicBezTo>
                  <a:pt x="16761" y="5026"/>
                  <a:pt x="16770" y="4989"/>
                  <a:pt x="16867" y="5011"/>
                </a:cubicBezTo>
                <a:cubicBezTo>
                  <a:pt x="16884" y="5019"/>
                  <a:pt x="16900" y="5027"/>
                  <a:pt x="16917" y="5035"/>
                </a:cubicBezTo>
                <a:cubicBezTo>
                  <a:pt x="16917" y="5128"/>
                  <a:pt x="16924" y="5185"/>
                  <a:pt x="16867" y="5259"/>
                </a:cubicBezTo>
                <a:cubicBezTo>
                  <a:pt x="16821" y="5319"/>
                  <a:pt x="16752" y="5345"/>
                  <a:pt x="16694" y="5383"/>
                </a:cubicBezTo>
                <a:cubicBezTo>
                  <a:pt x="16665" y="5411"/>
                  <a:pt x="16652" y="5419"/>
                  <a:pt x="16619" y="5407"/>
                </a:cubicBezTo>
                <a:cubicBezTo>
                  <a:pt x="16673" y="5344"/>
                  <a:pt x="16729" y="5339"/>
                  <a:pt x="16818" y="5383"/>
                </a:cubicBezTo>
                <a:cubicBezTo>
                  <a:pt x="16881" y="5414"/>
                  <a:pt x="16903" y="5454"/>
                  <a:pt x="16942" y="5507"/>
                </a:cubicBezTo>
                <a:cubicBezTo>
                  <a:pt x="16973" y="5548"/>
                  <a:pt x="16988" y="5603"/>
                  <a:pt x="16991" y="5655"/>
                </a:cubicBezTo>
                <a:cubicBezTo>
                  <a:pt x="16995" y="5726"/>
                  <a:pt x="16950" y="5770"/>
                  <a:pt x="16892" y="5804"/>
                </a:cubicBezTo>
                <a:cubicBezTo>
                  <a:pt x="16817" y="5848"/>
                  <a:pt x="16729" y="5869"/>
                  <a:pt x="16644" y="5879"/>
                </a:cubicBezTo>
                <a:cubicBezTo>
                  <a:pt x="16567" y="5888"/>
                  <a:pt x="16467" y="5876"/>
                  <a:pt x="16396" y="5854"/>
                </a:cubicBezTo>
                <a:cubicBezTo>
                  <a:pt x="16343" y="5837"/>
                  <a:pt x="16310" y="5792"/>
                  <a:pt x="16272" y="5755"/>
                </a:cubicBezTo>
              </a:path>
              <a:path w="13221" h="3052">
                <a:moveTo>
                  <a:pt x="17859" y="4415"/>
                </a:moveTo>
                <a:cubicBezTo>
                  <a:pt x="17859" y="4528"/>
                  <a:pt x="17853" y="4638"/>
                  <a:pt x="17835" y="4738"/>
                </a:cubicBezTo>
                <a:cubicBezTo>
                  <a:pt x="17835" y="4782"/>
                  <a:pt x="17832" y="4795"/>
                  <a:pt x="17859" y="4812"/>
                </a:cubicBezTo>
                <a:cubicBezTo>
                  <a:pt x="17859" y="4738"/>
                  <a:pt x="17844" y="4681"/>
                  <a:pt x="17835" y="4614"/>
                </a:cubicBezTo>
                <a:cubicBezTo>
                  <a:pt x="17824" y="4531"/>
                  <a:pt x="17808" y="4509"/>
                  <a:pt x="17835" y="4440"/>
                </a:cubicBezTo>
                <a:cubicBezTo>
                  <a:pt x="17891" y="4299"/>
                  <a:pt x="18027" y="4303"/>
                  <a:pt x="18157" y="4242"/>
                </a:cubicBezTo>
                <a:cubicBezTo>
                  <a:pt x="18165" y="4234"/>
                  <a:pt x="18174" y="4225"/>
                  <a:pt x="18182" y="4217"/>
                </a:cubicBezTo>
              </a:path>
              <a:path w="13221" h="3052">
                <a:moveTo>
                  <a:pt x="18479" y="4415"/>
                </a:moveTo>
                <a:cubicBezTo>
                  <a:pt x="18450" y="4340"/>
                  <a:pt x="18434" y="4320"/>
                  <a:pt x="18380" y="4266"/>
                </a:cubicBezTo>
                <a:cubicBezTo>
                  <a:pt x="18298" y="4314"/>
                  <a:pt x="18318" y="4332"/>
                  <a:pt x="18281" y="4415"/>
                </a:cubicBezTo>
                <a:cubicBezTo>
                  <a:pt x="18247" y="4492"/>
                  <a:pt x="18231" y="4529"/>
                  <a:pt x="18231" y="4614"/>
                </a:cubicBezTo>
                <a:cubicBezTo>
                  <a:pt x="18231" y="4666"/>
                  <a:pt x="18225" y="4780"/>
                  <a:pt x="18281" y="4812"/>
                </a:cubicBezTo>
                <a:cubicBezTo>
                  <a:pt x="18298" y="4812"/>
                  <a:pt x="18314" y="4812"/>
                  <a:pt x="18331" y="4812"/>
                </a:cubicBezTo>
                <a:cubicBezTo>
                  <a:pt x="18378" y="4752"/>
                  <a:pt x="18387" y="4707"/>
                  <a:pt x="18405" y="4638"/>
                </a:cubicBezTo>
                <a:cubicBezTo>
                  <a:pt x="18426" y="4558"/>
                  <a:pt x="18444" y="4553"/>
                  <a:pt x="18405" y="4490"/>
                </a:cubicBezTo>
                <a:cubicBezTo>
                  <a:pt x="18405" y="4354"/>
                  <a:pt x="18429" y="4588"/>
                  <a:pt x="18430" y="4614"/>
                </a:cubicBezTo>
                <a:cubicBezTo>
                  <a:pt x="18433" y="4674"/>
                  <a:pt x="18462" y="4715"/>
                  <a:pt x="18504" y="4762"/>
                </a:cubicBezTo>
                <a:cubicBezTo>
                  <a:pt x="18563" y="4827"/>
                  <a:pt x="18641" y="4769"/>
                  <a:pt x="18703" y="4738"/>
                </a:cubicBezTo>
                <a:cubicBezTo>
                  <a:pt x="18719" y="4730"/>
                  <a:pt x="18736" y="4721"/>
                  <a:pt x="18752" y="4713"/>
                </a:cubicBezTo>
              </a:path>
              <a:path w="13221" h="3052">
                <a:moveTo>
                  <a:pt x="19025" y="4291"/>
                </a:moveTo>
                <a:cubicBezTo>
                  <a:pt x="18966" y="4221"/>
                  <a:pt x="18914" y="4235"/>
                  <a:pt x="18827" y="4291"/>
                </a:cubicBezTo>
                <a:cubicBezTo>
                  <a:pt x="18765" y="4331"/>
                  <a:pt x="18756" y="4386"/>
                  <a:pt x="18728" y="4440"/>
                </a:cubicBezTo>
                <a:cubicBezTo>
                  <a:pt x="18703" y="4487"/>
                  <a:pt x="18682" y="4585"/>
                  <a:pt x="18703" y="4638"/>
                </a:cubicBezTo>
                <a:cubicBezTo>
                  <a:pt x="18729" y="4704"/>
                  <a:pt x="18796" y="4722"/>
                  <a:pt x="18852" y="4688"/>
                </a:cubicBezTo>
                <a:cubicBezTo>
                  <a:pt x="18923" y="4645"/>
                  <a:pt x="18951" y="4563"/>
                  <a:pt x="18976" y="4490"/>
                </a:cubicBezTo>
                <a:cubicBezTo>
                  <a:pt x="19010" y="4389"/>
                  <a:pt x="19045" y="4298"/>
                  <a:pt x="19050" y="4192"/>
                </a:cubicBezTo>
                <a:cubicBezTo>
                  <a:pt x="19054" y="4100"/>
                  <a:pt x="19037" y="4031"/>
                  <a:pt x="19025" y="3944"/>
                </a:cubicBezTo>
                <a:cubicBezTo>
                  <a:pt x="19025" y="3899"/>
                  <a:pt x="19029" y="3886"/>
                  <a:pt x="19000" y="3870"/>
                </a:cubicBezTo>
                <a:cubicBezTo>
                  <a:pt x="19000" y="3722"/>
                  <a:pt x="19000" y="4003"/>
                  <a:pt x="19000" y="4018"/>
                </a:cubicBezTo>
                <a:cubicBezTo>
                  <a:pt x="19000" y="4101"/>
                  <a:pt x="19008" y="4210"/>
                  <a:pt x="19025" y="4291"/>
                </a:cubicBezTo>
                <a:cubicBezTo>
                  <a:pt x="19045" y="4387"/>
                  <a:pt x="19057" y="4441"/>
                  <a:pt x="19124" y="4514"/>
                </a:cubicBezTo>
                <a:cubicBezTo>
                  <a:pt x="19170" y="4564"/>
                  <a:pt x="19227" y="4623"/>
                  <a:pt x="19298" y="4638"/>
                </a:cubicBezTo>
                <a:cubicBezTo>
                  <a:pt x="19357" y="4651"/>
                  <a:pt x="19472" y="4717"/>
                  <a:pt x="19496" y="4663"/>
                </a:cubicBezTo>
                <a:cubicBezTo>
                  <a:pt x="19474" y="4640"/>
                  <a:pt x="19469" y="4632"/>
                  <a:pt x="19447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062080" y="2446200"/>
            <a:ext cx="2448000" cy="1081080"/>
          </a:xfrm>
          <a:custGeom>
            <a:avLst/>
            <a:gdLst/>
            <a:ahLst/>
            <a:rect l="l" t="t" r="r" b="b"/>
            <a:pathLst>
              <a:path w="6797" h="3003">
                <a:moveTo>
                  <a:pt x="5730" y="8682"/>
                </a:moveTo>
                <a:cubicBezTo>
                  <a:pt x="5807" y="8673"/>
                  <a:pt x="5874" y="8657"/>
                  <a:pt x="5953" y="8657"/>
                </a:cubicBezTo>
                <a:cubicBezTo>
                  <a:pt x="6083" y="8657"/>
                  <a:pt x="6640" y="8720"/>
                  <a:pt x="6697" y="8632"/>
                </a:cubicBezTo>
              </a:path>
              <a:path w="6797" h="3003">
                <a:moveTo>
                  <a:pt x="6375" y="8483"/>
                </a:moveTo>
                <a:cubicBezTo>
                  <a:pt x="6475" y="8483"/>
                  <a:pt x="6555" y="8503"/>
                  <a:pt x="6648" y="8508"/>
                </a:cubicBezTo>
                <a:cubicBezTo>
                  <a:pt x="6705" y="8511"/>
                  <a:pt x="6791" y="8518"/>
                  <a:pt x="6846" y="8533"/>
                </a:cubicBezTo>
                <a:cubicBezTo>
                  <a:pt x="6892" y="8546"/>
                  <a:pt x="6932" y="8560"/>
                  <a:pt x="6970" y="8582"/>
                </a:cubicBezTo>
                <a:cubicBezTo>
                  <a:pt x="6941" y="8634"/>
                  <a:pt x="6913" y="8664"/>
                  <a:pt x="6871" y="8706"/>
                </a:cubicBezTo>
                <a:cubicBezTo>
                  <a:pt x="6835" y="8741"/>
                  <a:pt x="6784" y="8778"/>
                  <a:pt x="6772" y="8830"/>
                </a:cubicBezTo>
                <a:cubicBezTo>
                  <a:pt x="6772" y="8872"/>
                  <a:pt x="6780" y="8888"/>
                  <a:pt x="6747" y="8880"/>
                </a:cubicBezTo>
              </a:path>
              <a:path w="6797" h="3003">
                <a:moveTo>
                  <a:pt x="7317" y="8086"/>
                </a:moveTo>
                <a:cubicBezTo>
                  <a:pt x="7292" y="8035"/>
                  <a:pt x="7330" y="8019"/>
                  <a:pt x="7342" y="7962"/>
                </a:cubicBezTo>
                <a:cubicBezTo>
                  <a:pt x="7354" y="7901"/>
                  <a:pt x="7371" y="7864"/>
                  <a:pt x="7417" y="7813"/>
                </a:cubicBezTo>
                <a:cubicBezTo>
                  <a:pt x="7479" y="7744"/>
                  <a:pt x="7486" y="7771"/>
                  <a:pt x="7565" y="7739"/>
                </a:cubicBezTo>
                <a:cubicBezTo>
                  <a:pt x="7642" y="7708"/>
                  <a:pt x="7643" y="7751"/>
                  <a:pt x="7689" y="7813"/>
                </a:cubicBezTo>
                <a:cubicBezTo>
                  <a:pt x="7725" y="7862"/>
                  <a:pt x="7708" y="7908"/>
                  <a:pt x="7689" y="7962"/>
                </a:cubicBezTo>
                <a:cubicBezTo>
                  <a:pt x="7664" y="8036"/>
                  <a:pt x="7621" y="8114"/>
                  <a:pt x="7590" y="8186"/>
                </a:cubicBezTo>
                <a:cubicBezTo>
                  <a:pt x="7551" y="8276"/>
                  <a:pt x="7501" y="8381"/>
                  <a:pt x="7441" y="8458"/>
                </a:cubicBezTo>
                <a:cubicBezTo>
                  <a:pt x="7397" y="8514"/>
                  <a:pt x="7365" y="8580"/>
                  <a:pt x="7317" y="8632"/>
                </a:cubicBezTo>
                <a:cubicBezTo>
                  <a:pt x="7207" y="8751"/>
                  <a:pt x="7249" y="8664"/>
                  <a:pt x="7342" y="8632"/>
                </a:cubicBezTo>
                <a:cubicBezTo>
                  <a:pt x="7420" y="8605"/>
                  <a:pt x="7478" y="8649"/>
                  <a:pt x="7541" y="8682"/>
                </a:cubicBezTo>
                <a:cubicBezTo>
                  <a:pt x="7613" y="8720"/>
                  <a:pt x="7623" y="8723"/>
                  <a:pt x="7689" y="8706"/>
                </a:cubicBezTo>
              </a:path>
              <a:path w="6797" h="3003">
                <a:moveTo>
                  <a:pt x="7962" y="7863"/>
                </a:moveTo>
                <a:cubicBezTo>
                  <a:pt x="7940" y="7946"/>
                  <a:pt x="7927" y="8009"/>
                  <a:pt x="7888" y="8086"/>
                </a:cubicBezTo>
                <a:cubicBezTo>
                  <a:pt x="7847" y="8168"/>
                  <a:pt x="7834" y="8249"/>
                  <a:pt x="7813" y="8334"/>
                </a:cubicBezTo>
                <a:cubicBezTo>
                  <a:pt x="7797" y="8399"/>
                  <a:pt x="7749" y="8516"/>
                  <a:pt x="7764" y="8582"/>
                </a:cubicBezTo>
                <a:cubicBezTo>
                  <a:pt x="7778" y="8644"/>
                  <a:pt x="7849" y="8716"/>
                  <a:pt x="7913" y="8706"/>
                </a:cubicBezTo>
                <a:cubicBezTo>
                  <a:pt x="7967" y="8697"/>
                  <a:pt x="8032" y="8622"/>
                  <a:pt x="8062" y="8582"/>
                </a:cubicBezTo>
                <a:cubicBezTo>
                  <a:pt x="8118" y="8507"/>
                  <a:pt x="8150" y="8423"/>
                  <a:pt x="8161" y="8334"/>
                </a:cubicBezTo>
                <a:cubicBezTo>
                  <a:pt x="8180" y="8185"/>
                  <a:pt x="8162" y="8047"/>
                  <a:pt x="8111" y="7913"/>
                </a:cubicBezTo>
                <a:cubicBezTo>
                  <a:pt x="8077" y="7823"/>
                  <a:pt x="8089" y="7832"/>
                  <a:pt x="8012" y="7789"/>
                </a:cubicBezTo>
              </a:path>
              <a:path w="6797" h="3003">
                <a:moveTo>
                  <a:pt x="8334" y="7938"/>
                </a:moveTo>
                <a:cubicBezTo>
                  <a:pt x="8312" y="8022"/>
                  <a:pt x="8282" y="8103"/>
                  <a:pt x="8260" y="8186"/>
                </a:cubicBezTo>
                <a:cubicBezTo>
                  <a:pt x="8228" y="8307"/>
                  <a:pt x="8210" y="8409"/>
                  <a:pt x="8210" y="8533"/>
                </a:cubicBezTo>
                <a:cubicBezTo>
                  <a:pt x="8210" y="8597"/>
                  <a:pt x="8222" y="8684"/>
                  <a:pt x="8260" y="8731"/>
                </a:cubicBezTo>
                <a:cubicBezTo>
                  <a:pt x="8310" y="8793"/>
                  <a:pt x="8339" y="8787"/>
                  <a:pt x="8409" y="8756"/>
                </a:cubicBezTo>
                <a:cubicBezTo>
                  <a:pt x="8477" y="8726"/>
                  <a:pt x="8506" y="8650"/>
                  <a:pt x="8533" y="8582"/>
                </a:cubicBezTo>
                <a:cubicBezTo>
                  <a:pt x="8561" y="8512"/>
                  <a:pt x="8593" y="8385"/>
                  <a:pt x="8582" y="8310"/>
                </a:cubicBezTo>
                <a:cubicBezTo>
                  <a:pt x="8571" y="8235"/>
                  <a:pt x="8555" y="8132"/>
                  <a:pt x="8533" y="8062"/>
                </a:cubicBezTo>
                <a:cubicBezTo>
                  <a:pt x="8510" y="7989"/>
                  <a:pt x="8461" y="7940"/>
                  <a:pt x="8409" y="7888"/>
                </a:cubicBezTo>
                <a:cubicBezTo>
                  <a:pt x="8367" y="7846"/>
                  <a:pt x="8341" y="7845"/>
                  <a:pt x="8285" y="7838"/>
                </a:cubicBezTo>
              </a:path>
              <a:path w="6797" h="3003">
                <a:moveTo>
                  <a:pt x="8657" y="7615"/>
                </a:moveTo>
                <a:cubicBezTo>
                  <a:pt x="8648" y="7657"/>
                  <a:pt x="8587" y="7822"/>
                  <a:pt x="8706" y="7813"/>
                </a:cubicBezTo>
                <a:cubicBezTo>
                  <a:pt x="8730" y="7811"/>
                  <a:pt x="8816" y="7710"/>
                  <a:pt x="8830" y="7689"/>
                </a:cubicBezTo>
                <a:cubicBezTo>
                  <a:pt x="8866" y="7633"/>
                  <a:pt x="8869" y="7566"/>
                  <a:pt x="8830" y="7516"/>
                </a:cubicBezTo>
                <a:cubicBezTo>
                  <a:pt x="8794" y="7470"/>
                  <a:pt x="8787" y="7474"/>
                  <a:pt x="8731" y="7466"/>
                </a:cubicBezTo>
              </a:path>
              <a:path w="6797" h="3003">
                <a:moveTo>
                  <a:pt x="9103" y="8582"/>
                </a:moveTo>
                <a:cubicBezTo>
                  <a:pt x="9201" y="8537"/>
                  <a:pt x="9031" y="8632"/>
                  <a:pt x="9128" y="8582"/>
                </a:cubicBezTo>
              </a:path>
              <a:path w="6797" h="3003">
                <a:moveTo>
                  <a:pt x="9475" y="7764"/>
                </a:moveTo>
                <a:cubicBezTo>
                  <a:pt x="9530" y="7668"/>
                  <a:pt x="9530" y="7714"/>
                  <a:pt x="9624" y="7689"/>
                </a:cubicBezTo>
                <a:cubicBezTo>
                  <a:pt x="9709" y="7666"/>
                  <a:pt x="9781" y="7665"/>
                  <a:pt x="9872" y="7665"/>
                </a:cubicBezTo>
                <a:cubicBezTo>
                  <a:pt x="10009" y="7665"/>
                  <a:pt x="10140" y="7662"/>
                  <a:pt x="10269" y="7640"/>
                </a:cubicBezTo>
                <a:cubicBezTo>
                  <a:pt x="10286" y="7640"/>
                  <a:pt x="10302" y="7640"/>
                  <a:pt x="10319" y="7640"/>
                </a:cubicBezTo>
              </a:path>
              <a:path w="6797" h="3003">
                <a:moveTo>
                  <a:pt x="9798" y="7689"/>
                </a:moveTo>
                <a:cubicBezTo>
                  <a:pt x="9780" y="7788"/>
                  <a:pt x="9763" y="7892"/>
                  <a:pt x="9748" y="7987"/>
                </a:cubicBezTo>
                <a:cubicBezTo>
                  <a:pt x="9735" y="8069"/>
                  <a:pt x="9737" y="8163"/>
                  <a:pt x="9723" y="8235"/>
                </a:cubicBezTo>
                <a:cubicBezTo>
                  <a:pt x="9715" y="8274"/>
                  <a:pt x="9668" y="8449"/>
                  <a:pt x="9723" y="8334"/>
                </a:cubicBezTo>
              </a:path>
              <a:path w="6797" h="3003">
                <a:moveTo>
                  <a:pt x="9971" y="7714"/>
                </a:moveTo>
                <a:cubicBezTo>
                  <a:pt x="9964" y="7801"/>
                  <a:pt x="9965" y="7902"/>
                  <a:pt x="9947" y="7987"/>
                </a:cubicBezTo>
                <a:cubicBezTo>
                  <a:pt x="9929" y="8075"/>
                  <a:pt x="9922" y="8143"/>
                  <a:pt x="9922" y="8235"/>
                </a:cubicBezTo>
                <a:cubicBezTo>
                  <a:pt x="9922" y="8302"/>
                  <a:pt x="9904" y="8405"/>
                  <a:pt x="9947" y="8434"/>
                </a:cubicBezTo>
              </a:path>
              <a:path w="6797" h="3003">
                <a:moveTo>
                  <a:pt x="10368" y="8186"/>
                </a:moveTo>
                <a:cubicBezTo>
                  <a:pt x="10350" y="8254"/>
                  <a:pt x="10344" y="8290"/>
                  <a:pt x="10344" y="8359"/>
                </a:cubicBezTo>
                <a:cubicBezTo>
                  <a:pt x="10371" y="8259"/>
                  <a:pt x="10367" y="8176"/>
                  <a:pt x="10418" y="8086"/>
                </a:cubicBezTo>
                <a:cubicBezTo>
                  <a:pt x="10449" y="8031"/>
                  <a:pt x="10477" y="7984"/>
                  <a:pt x="10542" y="7962"/>
                </a:cubicBezTo>
                <a:cubicBezTo>
                  <a:pt x="10550" y="7962"/>
                  <a:pt x="10559" y="7962"/>
                  <a:pt x="10567" y="7962"/>
                </a:cubicBezTo>
              </a:path>
              <a:path w="6797" h="3003">
                <a:moveTo>
                  <a:pt x="11038" y="8161"/>
                </a:moveTo>
                <a:cubicBezTo>
                  <a:pt x="11105" y="8228"/>
                  <a:pt x="10999" y="8122"/>
                  <a:pt x="10988" y="8111"/>
                </a:cubicBezTo>
                <a:cubicBezTo>
                  <a:pt x="10923" y="8152"/>
                  <a:pt x="10879" y="8194"/>
                  <a:pt x="10840" y="8260"/>
                </a:cubicBezTo>
                <a:cubicBezTo>
                  <a:pt x="10800" y="8327"/>
                  <a:pt x="10767" y="8358"/>
                  <a:pt x="10815" y="8434"/>
                </a:cubicBezTo>
                <a:cubicBezTo>
                  <a:pt x="10845" y="8482"/>
                  <a:pt x="10950" y="8464"/>
                  <a:pt x="10988" y="8434"/>
                </a:cubicBezTo>
                <a:cubicBezTo>
                  <a:pt x="11068" y="8372"/>
                  <a:pt x="11101" y="8328"/>
                  <a:pt x="11112" y="8235"/>
                </a:cubicBezTo>
                <a:cubicBezTo>
                  <a:pt x="11099" y="8271"/>
                  <a:pt x="11050" y="8385"/>
                  <a:pt x="11112" y="8409"/>
                </a:cubicBezTo>
                <a:cubicBezTo>
                  <a:pt x="11162" y="8409"/>
                  <a:pt x="11179" y="8409"/>
                  <a:pt x="11212" y="8409"/>
                </a:cubicBezTo>
              </a:path>
              <a:path w="6797" h="3003">
                <a:moveTo>
                  <a:pt x="11559" y="7987"/>
                </a:moveTo>
                <a:cubicBezTo>
                  <a:pt x="11559" y="7943"/>
                  <a:pt x="11562" y="7929"/>
                  <a:pt x="11534" y="7913"/>
                </a:cubicBezTo>
                <a:cubicBezTo>
                  <a:pt x="11456" y="7929"/>
                  <a:pt x="11432" y="7955"/>
                  <a:pt x="11385" y="8012"/>
                </a:cubicBezTo>
                <a:cubicBezTo>
                  <a:pt x="11313" y="8100"/>
                  <a:pt x="11295" y="8127"/>
                  <a:pt x="11336" y="8235"/>
                </a:cubicBezTo>
                <a:cubicBezTo>
                  <a:pt x="11365" y="8311"/>
                  <a:pt x="11427" y="8336"/>
                  <a:pt x="11509" y="8310"/>
                </a:cubicBezTo>
                <a:cubicBezTo>
                  <a:pt x="11537" y="8301"/>
                  <a:pt x="11619" y="8203"/>
                  <a:pt x="11633" y="8186"/>
                </a:cubicBezTo>
                <a:cubicBezTo>
                  <a:pt x="11677" y="8130"/>
                  <a:pt x="11704" y="8030"/>
                  <a:pt x="11708" y="7962"/>
                </a:cubicBezTo>
                <a:cubicBezTo>
                  <a:pt x="11714" y="7855"/>
                  <a:pt x="11708" y="7747"/>
                  <a:pt x="11708" y="7640"/>
                </a:cubicBezTo>
                <a:cubicBezTo>
                  <a:pt x="11654" y="7707"/>
                  <a:pt x="11658" y="7753"/>
                  <a:pt x="11658" y="7838"/>
                </a:cubicBezTo>
                <a:cubicBezTo>
                  <a:pt x="11658" y="7912"/>
                  <a:pt x="11679" y="7966"/>
                  <a:pt x="11683" y="8037"/>
                </a:cubicBezTo>
                <a:cubicBezTo>
                  <a:pt x="11686" y="8084"/>
                  <a:pt x="11699" y="8116"/>
                  <a:pt x="11708" y="8161"/>
                </a:cubicBezTo>
              </a:path>
              <a:path w="6797" h="3003">
                <a:moveTo>
                  <a:pt x="9823" y="8632"/>
                </a:moveTo>
                <a:cubicBezTo>
                  <a:pt x="10139" y="8632"/>
                  <a:pt x="10453" y="8635"/>
                  <a:pt x="10765" y="8657"/>
                </a:cubicBezTo>
                <a:cubicBezTo>
                  <a:pt x="10905" y="8667"/>
                  <a:pt x="11045" y="8632"/>
                  <a:pt x="11187" y="8632"/>
                </a:cubicBezTo>
                <a:cubicBezTo>
                  <a:pt x="11267" y="8632"/>
                  <a:pt x="11345" y="8646"/>
                  <a:pt x="11410" y="8607"/>
                </a:cubicBezTo>
                <a:cubicBezTo>
                  <a:pt x="11351" y="8607"/>
                  <a:pt x="11325" y="8604"/>
                  <a:pt x="11286" y="8582"/>
                </a:cubicBezTo>
              </a:path>
              <a:path w="6797" h="3003">
                <a:moveTo>
                  <a:pt x="9773" y="8930"/>
                </a:moveTo>
                <a:cubicBezTo>
                  <a:pt x="9764" y="8994"/>
                  <a:pt x="9748" y="9032"/>
                  <a:pt x="9748" y="9103"/>
                </a:cubicBezTo>
                <a:cubicBezTo>
                  <a:pt x="9748" y="9232"/>
                  <a:pt x="9738" y="9348"/>
                  <a:pt x="9723" y="9475"/>
                </a:cubicBezTo>
                <a:cubicBezTo>
                  <a:pt x="9714" y="9547"/>
                  <a:pt x="9681" y="9761"/>
                  <a:pt x="9748" y="9674"/>
                </a:cubicBezTo>
              </a:path>
              <a:path w="6797" h="3003">
                <a:moveTo>
                  <a:pt x="10294" y="9128"/>
                </a:moveTo>
                <a:cubicBezTo>
                  <a:pt x="10339" y="9084"/>
                  <a:pt x="10356" y="9074"/>
                  <a:pt x="10344" y="9029"/>
                </a:cubicBezTo>
                <a:cubicBezTo>
                  <a:pt x="10268" y="8968"/>
                  <a:pt x="10239" y="8975"/>
                  <a:pt x="10145" y="9004"/>
                </a:cubicBezTo>
                <a:cubicBezTo>
                  <a:pt x="10060" y="9030"/>
                  <a:pt x="9967" y="9051"/>
                  <a:pt x="10021" y="9153"/>
                </a:cubicBezTo>
                <a:cubicBezTo>
                  <a:pt x="10060" y="9227"/>
                  <a:pt x="10116" y="9338"/>
                  <a:pt x="10170" y="9401"/>
                </a:cubicBezTo>
                <a:cubicBezTo>
                  <a:pt x="10214" y="9452"/>
                  <a:pt x="10348" y="9585"/>
                  <a:pt x="10344" y="9674"/>
                </a:cubicBezTo>
                <a:cubicBezTo>
                  <a:pt x="10321" y="9741"/>
                  <a:pt x="10316" y="9759"/>
                  <a:pt x="10294" y="9798"/>
                </a:cubicBezTo>
                <a:cubicBezTo>
                  <a:pt x="10137" y="9784"/>
                  <a:pt x="10131" y="9746"/>
                  <a:pt x="10145" y="9599"/>
                </a:cubicBezTo>
                <a:cubicBezTo>
                  <a:pt x="10150" y="9541"/>
                  <a:pt x="10185" y="9501"/>
                  <a:pt x="10195" y="9451"/>
                </a:cubicBezTo>
                <a:cubicBezTo>
                  <a:pt x="10205" y="9400"/>
                  <a:pt x="10222" y="9325"/>
                  <a:pt x="10244" y="9277"/>
                </a:cubicBezTo>
                <a:cubicBezTo>
                  <a:pt x="10274" y="9247"/>
                  <a:pt x="10285" y="9233"/>
                  <a:pt x="10294" y="9203"/>
                </a:cubicBezTo>
              </a:path>
              <a:path w="6797" h="3003">
                <a:moveTo>
                  <a:pt x="10616" y="9103"/>
                </a:moveTo>
                <a:cubicBezTo>
                  <a:pt x="10570" y="9177"/>
                  <a:pt x="10530" y="9249"/>
                  <a:pt x="10492" y="9327"/>
                </a:cubicBezTo>
                <a:cubicBezTo>
                  <a:pt x="10460" y="9391"/>
                  <a:pt x="10447" y="9479"/>
                  <a:pt x="10443" y="9550"/>
                </a:cubicBezTo>
                <a:cubicBezTo>
                  <a:pt x="10440" y="9608"/>
                  <a:pt x="10478" y="9656"/>
                  <a:pt x="10517" y="9699"/>
                </a:cubicBezTo>
                <a:cubicBezTo>
                  <a:pt x="10575" y="9763"/>
                  <a:pt x="10666" y="9783"/>
                  <a:pt x="10740" y="9723"/>
                </a:cubicBezTo>
                <a:cubicBezTo>
                  <a:pt x="10801" y="9674"/>
                  <a:pt x="10851" y="9578"/>
                  <a:pt x="10864" y="9500"/>
                </a:cubicBezTo>
                <a:cubicBezTo>
                  <a:pt x="10876" y="9424"/>
                  <a:pt x="10863" y="9346"/>
                  <a:pt x="10840" y="9277"/>
                </a:cubicBezTo>
                <a:cubicBezTo>
                  <a:pt x="10814" y="9200"/>
                  <a:pt x="10766" y="9142"/>
                  <a:pt x="10716" y="9079"/>
                </a:cubicBezTo>
              </a:path>
              <a:path w="6797" h="3003">
                <a:moveTo>
                  <a:pt x="11063" y="8954"/>
                </a:moveTo>
                <a:cubicBezTo>
                  <a:pt x="11002" y="8989"/>
                  <a:pt x="10944" y="9005"/>
                  <a:pt x="10988" y="9079"/>
                </a:cubicBezTo>
                <a:cubicBezTo>
                  <a:pt x="11020" y="9133"/>
                  <a:pt x="11108" y="9088"/>
                  <a:pt x="11137" y="9054"/>
                </a:cubicBezTo>
                <a:cubicBezTo>
                  <a:pt x="11179" y="9004"/>
                  <a:pt x="11173" y="8924"/>
                  <a:pt x="11137" y="8880"/>
                </a:cubicBezTo>
                <a:cubicBezTo>
                  <a:pt x="11129" y="8872"/>
                  <a:pt x="11120" y="8863"/>
                  <a:pt x="11112" y="8855"/>
                </a:cubicBezTo>
              </a:path>
              <a:path w="6797" h="3003">
                <a:moveTo>
                  <a:pt x="12105" y="8508"/>
                </a:moveTo>
                <a:cubicBezTo>
                  <a:pt x="12237" y="8508"/>
                  <a:pt x="12370" y="8508"/>
                  <a:pt x="12502" y="8508"/>
                </a:cubicBezTo>
              </a:path>
              <a:path w="6797" h="3003">
                <a:moveTo>
                  <a:pt x="12080" y="8806"/>
                </a:moveTo>
                <a:cubicBezTo>
                  <a:pt x="12128" y="8787"/>
                  <a:pt x="12186" y="8806"/>
                  <a:pt x="12254" y="8806"/>
                </a:cubicBezTo>
                <a:cubicBezTo>
                  <a:pt x="12331" y="8806"/>
                  <a:pt x="12396" y="8830"/>
                  <a:pt x="12477" y="8830"/>
                </a:cubicBezTo>
                <a:cubicBezTo>
                  <a:pt x="12493" y="8830"/>
                  <a:pt x="12510" y="8830"/>
                  <a:pt x="12526" y="8830"/>
                </a:cubicBezTo>
              </a:path>
              <a:path w="6797" h="3003">
                <a:moveTo>
                  <a:pt x="7367" y="8657"/>
                </a:moveTo>
                <a:cubicBezTo>
                  <a:pt x="7423" y="8601"/>
                  <a:pt x="7441" y="8591"/>
                  <a:pt x="7516" y="8558"/>
                </a:cubicBezTo>
                <a:cubicBezTo>
                  <a:pt x="7599" y="8521"/>
                  <a:pt x="7677" y="8487"/>
                  <a:pt x="7764" y="8458"/>
                </a:cubicBezTo>
                <a:cubicBezTo>
                  <a:pt x="7868" y="8424"/>
                  <a:pt x="7956" y="8369"/>
                  <a:pt x="8062" y="8334"/>
                </a:cubicBezTo>
                <a:cubicBezTo>
                  <a:pt x="8137" y="8309"/>
                  <a:pt x="8243" y="8289"/>
                  <a:pt x="8310" y="8260"/>
                </a:cubicBezTo>
                <a:cubicBezTo>
                  <a:pt x="8357" y="8240"/>
                  <a:pt x="8417" y="8194"/>
                  <a:pt x="8458" y="8161"/>
                </a:cubicBezTo>
              </a:path>
              <a:path w="6797" h="3003">
                <a:moveTo>
                  <a:pt x="7193" y="6995"/>
                </a:moveTo>
                <a:cubicBezTo>
                  <a:pt x="7219" y="6950"/>
                  <a:pt x="7250" y="6877"/>
                  <a:pt x="7293" y="6846"/>
                </a:cubicBezTo>
                <a:cubicBezTo>
                  <a:pt x="7341" y="6811"/>
                  <a:pt x="7433" y="6799"/>
                  <a:pt x="7491" y="6796"/>
                </a:cubicBezTo>
                <a:cubicBezTo>
                  <a:pt x="7594" y="6790"/>
                  <a:pt x="7611" y="6832"/>
                  <a:pt x="7615" y="6921"/>
                </a:cubicBezTo>
                <a:cubicBezTo>
                  <a:pt x="7620" y="7016"/>
                  <a:pt x="7605" y="7083"/>
                  <a:pt x="7565" y="7169"/>
                </a:cubicBezTo>
                <a:cubicBezTo>
                  <a:pt x="7531" y="7241"/>
                  <a:pt x="7475" y="7301"/>
                  <a:pt x="7441" y="7367"/>
                </a:cubicBezTo>
                <a:cubicBezTo>
                  <a:pt x="7412" y="7423"/>
                  <a:pt x="7400" y="7460"/>
                  <a:pt x="7392" y="7516"/>
                </a:cubicBezTo>
                <a:cubicBezTo>
                  <a:pt x="7459" y="7550"/>
                  <a:pt x="7534" y="7541"/>
                  <a:pt x="7615" y="7541"/>
                </a:cubicBezTo>
                <a:cubicBezTo>
                  <a:pt x="7670" y="7541"/>
                  <a:pt x="7710" y="7523"/>
                  <a:pt x="7764" y="7516"/>
                </a:cubicBezTo>
              </a:path>
              <a:path w="6797" h="3003">
                <a:moveTo>
                  <a:pt x="7913" y="6896"/>
                </a:moveTo>
                <a:cubicBezTo>
                  <a:pt x="7863" y="6984"/>
                  <a:pt x="7836" y="7049"/>
                  <a:pt x="7813" y="7144"/>
                </a:cubicBezTo>
                <a:cubicBezTo>
                  <a:pt x="7790" y="7237"/>
                  <a:pt x="7772" y="7286"/>
                  <a:pt x="7838" y="7367"/>
                </a:cubicBezTo>
                <a:cubicBezTo>
                  <a:pt x="7878" y="7416"/>
                  <a:pt x="7996" y="7377"/>
                  <a:pt x="8037" y="7342"/>
                </a:cubicBezTo>
                <a:cubicBezTo>
                  <a:pt x="8067" y="7316"/>
                  <a:pt x="8120" y="7205"/>
                  <a:pt x="8136" y="7169"/>
                </a:cubicBezTo>
                <a:cubicBezTo>
                  <a:pt x="8169" y="7096"/>
                  <a:pt x="8168" y="6986"/>
                  <a:pt x="8111" y="6921"/>
                </a:cubicBezTo>
                <a:cubicBezTo>
                  <a:pt x="8057" y="6859"/>
                  <a:pt x="8000" y="6864"/>
                  <a:pt x="7938" y="6871"/>
                </a:cubicBezTo>
                <a:cubicBezTo>
                  <a:pt x="7896" y="6871"/>
                  <a:pt x="7888" y="6871"/>
                  <a:pt x="7863" y="6871"/>
                </a:cubicBezTo>
              </a:path>
              <a:path w="6797" h="3003">
                <a:moveTo>
                  <a:pt x="10691" y="9203"/>
                </a:moveTo>
                <a:cubicBezTo>
                  <a:pt x="10757" y="9165"/>
                  <a:pt x="10819" y="9136"/>
                  <a:pt x="10889" y="9103"/>
                </a:cubicBezTo>
                <a:cubicBezTo>
                  <a:pt x="10952" y="9073"/>
                  <a:pt x="11008" y="9032"/>
                  <a:pt x="11063" y="9004"/>
                </a:cubicBezTo>
                <a:cubicBezTo>
                  <a:pt x="11102" y="8985"/>
                  <a:pt x="11155" y="8934"/>
                  <a:pt x="11187" y="8905"/>
                </a:cubicBezTo>
                <a:cubicBezTo>
                  <a:pt x="11233" y="8863"/>
                  <a:pt x="11222" y="8864"/>
                  <a:pt x="11286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795920" y="2741760"/>
            <a:ext cx="1285920" cy="803160"/>
          </a:xfrm>
          <a:custGeom>
            <a:avLst/>
            <a:gdLst/>
            <a:ahLst/>
            <a:rect l="l" t="t" r="r" b="b"/>
            <a:pathLst>
              <a:path w="3573" h="2233">
                <a:moveTo>
                  <a:pt x="13444" y="7640"/>
                </a:moveTo>
                <a:cubicBezTo>
                  <a:pt x="13444" y="7869"/>
                  <a:pt x="13462" y="8123"/>
                  <a:pt x="13419" y="8334"/>
                </a:cubicBezTo>
                <a:cubicBezTo>
                  <a:pt x="13419" y="8384"/>
                  <a:pt x="13419" y="8401"/>
                  <a:pt x="13419" y="8434"/>
                </a:cubicBezTo>
              </a:path>
              <a:path w="3573" h="2233">
                <a:moveTo>
                  <a:pt x="13767" y="7689"/>
                </a:moveTo>
                <a:cubicBezTo>
                  <a:pt x="13802" y="7799"/>
                  <a:pt x="13759" y="7813"/>
                  <a:pt x="13742" y="7913"/>
                </a:cubicBezTo>
                <a:cubicBezTo>
                  <a:pt x="13724" y="8018"/>
                  <a:pt x="13697" y="8130"/>
                  <a:pt x="13692" y="8235"/>
                </a:cubicBezTo>
                <a:cubicBezTo>
                  <a:pt x="13688" y="8318"/>
                  <a:pt x="13724" y="8343"/>
                  <a:pt x="13742" y="8409"/>
                </a:cubicBezTo>
                <a:cubicBezTo>
                  <a:pt x="13752" y="8448"/>
                  <a:pt x="13800" y="8505"/>
                  <a:pt x="13866" y="8483"/>
                </a:cubicBezTo>
                <a:cubicBezTo>
                  <a:pt x="13928" y="8462"/>
                  <a:pt x="13963" y="8437"/>
                  <a:pt x="14015" y="8384"/>
                </a:cubicBezTo>
                <a:cubicBezTo>
                  <a:pt x="14073" y="8325"/>
                  <a:pt x="14071" y="8259"/>
                  <a:pt x="14089" y="8186"/>
                </a:cubicBezTo>
                <a:cubicBezTo>
                  <a:pt x="14116" y="8078"/>
                  <a:pt x="14113" y="8041"/>
                  <a:pt x="14064" y="7938"/>
                </a:cubicBezTo>
                <a:cubicBezTo>
                  <a:pt x="14026" y="7859"/>
                  <a:pt x="14004" y="7817"/>
                  <a:pt x="13940" y="7764"/>
                </a:cubicBezTo>
                <a:cubicBezTo>
                  <a:pt x="13885" y="7718"/>
                  <a:pt x="13791" y="7700"/>
                  <a:pt x="13767" y="7665"/>
                </a:cubicBezTo>
              </a:path>
              <a:path w="3573" h="2233">
                <a:moveTo>
                  <a:pt x="14288" y="7689"/>
                </a:moveTo>
                <a:cubicBezTo>
                  <a:pt x="14387" y="7683"/>
                  <a:pt x="14463" y="7665"/>
                  <a:pt x="14560" y="7665"/>
                </a:cubicBezTo>
                <a:cubicBezTo>
                  <a:pt x="14632" y="7665"/>
                  <a:pt x="14767" y="7662"/>
                  <a:pt x="14833" y="7640"/>
                </a:cubicBezTo>
                <a:cubicBezTo>
                  <a:pt x="14856" y="7617"/>
                  <a:pt x="14860" y="7609"/>
                  <a:pt x="14883" y="7615"/>
                </a:cubicBezTo>
              </a:path>
              <a:path w="3573" h="2233">
                <a:moveTo>
                  <a:pt x="14536" y="7764"/>
                </a:moveTo>
                <a:cubicBezTo>
                  <a:pt x="14529" y="7856"/>
                  <a:pt x="14524" y="7944"/>
                  <a:pt x="14511" y="8037"/>
                </a:cubicBezTo>
                <a:cubicBezTo>
                  <a:pt x="14497" y="8136"/>
                  <a:pt x="14486" y="8212"/>
                  <a:pt x="14486" y="8310"/>
                </a:cubicBezTo>
                <a:cubicBezTo>
                  <a:pt x="14486" y="8329"/>
                  <a:pt x="14471" y="8512"/>
                  <a:pt x="14511" y="8434"/>
                </a:cubicBezTo>
                <a:cubicBezTo>
                  <a:pt x="14511" y="8426"/>
                  <a:pt x="14511" y="8417"/>
                  <a:pt x="14511" y="8409"/>
                </a:cubicBezTo>
              </a:path>
              <a:path w="3573" h="2233">
                <a:moveTo>
                  <a:pt x="14709" y="7714"/>
                </a:moveTo>
                <a:cubicBezTo>
                  <a:pt x="14709" y="7804"/>
                  <a:pt x="14697" y="7879"/>
                  <a:pt x="14684" y="7962"/>
                </a:cubicBezTo>
                <a:cubicBezTo>
                  <a:pt x="14670" y="8050"/>
                  <a:pt x="14670" y="8188"/>
                  <a:pt x="14709" y="8260"/>
                </a:cubicBezTo>
                <a:cubicBezTo>
                  <a:pt x="14737" y="8312"/>
                  <a:pt x="14767" y="8343"/>
                  <a:pt x="14808" y="8384"/>
                </a:cubicBezTo>
                <a:cubicBezTo>
                  <a:pt x="14816" y="8392"/>
                  <a:pt x="14825" y="8401"/>
                  <a:pt x="14833" y="8409"/>
                </a:cubicBezTo>
              </a:path>
              <a:path w="3573" h="2233">
                <a:moveTo>
                  <a:pt x="13320" y="8682"/>
                </a:moveTo>
                <a:cubicBezTo>
                  <a:pt x="13466" y="8700"/>
                  <a:pt x="13596" y="8706"/>
                  <a:pt x="13742" y="8706"/>
                </a:cubicBezTo>
                <a:cubicBezTo>
                  <a:pt x="13925" y="8706"/>
                  <a:pt x="14104" y="8682"/>
                  <a:pt x="14288" y="8682"/>
                </a:cubicBezTo>
                <a:cubicBezTo>
                  <a:pt x="14306" y="8682"/>
                  <a:pt x="14476" y="8682"/>
                  <a:pt x="14412" y="8682"/>
                </a:cubicBezTo>
              </a:path>
              <a:path w="3573" h="2233">
                <a:moveTo>
                  <a:pt x="14213" y="8979"/>
                </a:moveTo>
                <a:cubicBezTo>
                  <a:pt x="14256" y="9022"/>
                  <a:pt x="14194" y="8930"/>
                  <a:pt x="14139" y="8905"/>
                </a:cubicBezTo>
                <a:cubicBezTo>
                  <a:pt x="14104" y="8889"/>
                  <a:pt x="14007" y="8864"/>
                  <a:pt x="13965" y="8880"/>
                </a:cubicBezTo>
                <a:cubicBezTo>
                  <a:pt x="13923" y="8896"/>
                  <a:pt x="13827" y="8915"/>
                  <a:pt x="13791" y="8954"/>
                </a:cubicBezTo>
                <a:cubicBezTo>
                  <a:pt x="13726" y="9024"/>
                  <a:pt x="13685" y="9071"/>
                  <a:pt x="13667" y="9178"/>
                </a:cubicBezTo>
                <a:cubicBezTo>
                  <a:pt x="13657" y="9237"/>
                  <a:pt x="13705" y="9292"/>
                  <a:pt x="13767" y="9277"/>
                </a:cubicBezTo>
                <a:cubicBezTo>
                  <a:pt x="13851" y="9257"/>
                  <a:pt x="13861" y="9238"/>
                  <a:pt x="13915" y="9178"/>
                </a:cubicBezTo>
                <a:cubicBezTo>
                  <a:pt x="13960" y="9128"/>
                  <a:pt x="13985" y="9064"/>
                  <a:pt x="14015" y="9004"/>
                </a:cubicBezTo>
                <a:cubicBezTo>
                  <a:pt x="14015" y="9163"/>
                  <a:pt x="13936" y="9777"/>
                  <a:pt x="14039" y="9847"/>
                </a:cubicBezTo>
              </a:path>
              <a:path w="3573" h="2233">
                <a:moveTo>
                  <a:pt x="15230" y="8781"/>
                </a:moveTo>
                <a:cubicBezTo>
                  <a:pt x="15230" y="8842"/>
                  <a:pt x="15221" y="8858"/>
                  <a:pt x="15255" y="8880"/>
                </a:cubicBezTo>
                <a:cubicBezTo>
                  <a:pt x="15275" y="8811"/>
                  <a:pt x="15255" y="8745"/>
                  <a:pt x="15255" y="8657"/>
                </a:cubicBezTo>
                <a:cubicBezTo>
                  <a:pt x="15255" y="8574"/>
                  <a:pt x="15266" y="8554"/>
                  <a:pt x="15304" y="8483"/>
                </a:cubicBezTo>
                <a:cubicBezTo>
                  <a:pt x="15356" y="8385"/>
                  <a:pt x="15387" y="8376"/>
                  <a:pt x="15478" y="8310"/>
                </a:cubicBezTo>
                <a:cubicBezTo>
                  <a:pt x="15516" y="8283"/>
                  <a:pt x="15559" y="8271"/>
                  <a:pt x="15602" y="8260"/>
                </a:cubicBezTo>
              </a:path>
              <a:path w="3573" h="2233">
                <a:moveTo>
                  <a:pt x="15999" y="8582"/>
                </a:moveTo>
                <a:cubicBezTo>
                  <a:pt x="15973" y="8537"/>
                  <a:pt x="15943" y="8464"/>
                  <a:pt x="15900" y="8434"/>
                </a:cubicBezTo>
                <a:cubicBezTo>
                  <a:pt x="15834" y="8387"/>
                  <a:pt x="15783" y="8416"/>
                  <a:pt x="15726" y="8458"/>
                </a:cubicBezTo>
                <a:cubicBezTo>
                  <a:pt x="15689" y="8485"/>
                  <a:pt x="15645" y="8564"/>
                  <a:pt x="15627" y="8607"/>
                </a:cubicBezTo>
                <a:cubicBezTo>
                  <a:pt x="15591" y="8694"/>
                  <a:pt x="15598" y="8735"/>
                  <a:pt x="15652" y="8806"/>
                </a:cubicBezTo>
                <a:cubicBezTo>
                  <a:pt x="15691" y="8857"/>
                  <a:pt x="15802" y="8830"/>
                  <a:pt x="15850" y="8806"/>
                </a:cubicBezTo>
                <a:cubicBezTo>
                  <a:pt x="15891" y="8786"/>
                  <a:pt x="15929" y="8654"/>
                  <a:pt x="15925" y="8632"/>
                </a:cubicBezTo>
                <a:cubicBezTo>
                  <a:pt x="15908" y="8538"/>
                  <a:pt x="15875" y="8569"/>
                  <a:pt x="15900" y="8657"/>
                </a:cubicBezTo>
                <a:cubicBezTo>
                  <a:pt x="15927" y="8754"/>
                  <a:pt x="15978" y="8777"/>
                  <a:pt x="16073" y="8781"/>
                </a:cubicBezTo>
                <a:cubicBezTo>
                  <a:pt x="16139" y="8781"/>
                  <a:pt x="16156" y="8781"/>
                  <a:pt x="16197" y="8781"/>
                </a:cubicBezTo>
              </a:path>
              <a:path w="3573" h="2233">
                <a:moveTo>
                  <a:pt x="16520" y="8458"/>
                </a:moveTo>
                <a:cubicBezTo>
                  <a:pt x="16457" y="8383"/>
                  <a:pt x="16452" y="8410"/>
                  <a:pt x="16371" y="8458"/>
                </a:cubicBezTo>
                <a:cubicBezTo>
                  <a:pt x="16295" y="8503"/>
                  <a:pt x="16297" y="8536"/>
                  <a:pt x="16272" y="8607"/>
                </a:cubicBezTo>
                <a:cubicBezTo>
                  <a:pt x="16254" y="8656"/>
                  <a:pt x="16247" y="8779"/>
                  <a:pt x="16321" y="8806"/>
                </a:cubicBezTo>
                <a:cubicBezTo>
                  <a:pt x="16367" y="8823"/>
                  <a:pt x="16425" y="8828"/>
                  <a:pt x="16470" y="8806"/>
                </a:cubicBezTo>
                <a:cubicBezTo>
                  <a:pt x="16520" y="8781"/>
                  <a:pt x="16584" y="8688"/>
                  <a:pt x="16594" y="8632"/>
                </a:cubicBezTo>
                <a:cubicBezTo>
                  <a:pt x="16609" y="8541"/>
                  <a:pt x="16619" y="8453"/>
                  <a:pt x="16619" y="8359"/>
                </a:cubicBezTo>
                <a:cubicBezTo>
                  <a:pt x="16619" y="8254"/>
                  <a:pt x="16621" y="8165"/>
                  <a:pt x="16594" y="8062"/>
                </a:cubicBezTo>
                <a:cubicBezTo>
                  <a:pt x="16586" y="8037"/>
                  <a:pt x="16578" y="8012"/>
                  <a:pt x="16570" y="7987"/>
                </a:cubicBezTo>
                <a:cubicBezTo>
                  <a:pt x="16490" y="8014"/>
                  <a:pt x="16511" y="8034"/>
                  <a:pt x="16520" y="8111"/>
                </a:cubicBezTo>
                <a:cubicBezTo>
                  <a:pt x="16531" y="8206"/>
                  <a:pt x="16578" y="8230"/>
                  <a:pt x="16619" y="8310"/>
                </a:cubicBezTo>
                <a:cubicBezTo>
                  <a:pt x="16666" y="8401"/>
                  <a:pt x="16724" y="8477"/>
                  <a:pt x="16793" y="8558"/>
                </a:cubicBezTo>
                <a:cubicBezTo>
                  <a:pt x="16842" y="8607"/>
                  <a:pt x="16859" y="8624"/>
                  <a:pt x="16892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434016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10790" y="12055"/>
                </a:moveTo>
                <a:cubicBezTo>
                  <a:pt x="11000" y="12055"/>
                  <a:pt x="11497" y="11965"/>
                  <a:pt x="11683" y="12080"/>
                </a:cubicBezTo>
                <a:cubicBezTo>
                  <a:pt x="11691" y="12088"/>
                  <a:pt x="11700" y="12097"/>
                  <a:pt x="11708" y="12105"/>
                </a:cubicBezTo>
              </a:path>
              <a:path w="919" h="1068">
                <a:moveTo>
                  <a:pt x="11609" y="12477"/>
                </a:moveTo>
                <a:cubicBezTo>
                  <a:pt x="11609" y="12430"/>
                  <a:pt x="11623" y="12346"/>
                  <a:pt x="11559" y="12328"/>
                </a:cubicBezTo>
                <a:cubicBezTo>
                  <a:pt x="11504" y="12312"/>
                  <a:pt x="11410" y="12336"/>
                  <a:pt x="11361" y="12353"/>
                </a:cubicBezTo>
                <a:cubicBezTo>
                  <a:pt x="11287" y="12378"/>
                  <a:pt x="11240" y="12424"/>
                  <a:pt x="11187" y="12477"/>
                </a:cubicBezTo>
                <a:cubicBezTo>
                  <a:pt x="11152" y="12512"/>
                  <a:pt x="11160" y="12600"/>
                  <a:pt x="11212" y="12626"/>
                </a:cubicBezTo>
                <a:cubicBezTo>
                  <a:pt x="11275" y="12658"/>
                  <a:pt x="11364" y="12618"/>
                  <a:pt x="11410" y="12576"/>
                </a:cubicBezTo>
                <a:cubicBezTo>
                  <a:pt x="11452" y="12538"/>
                  <a:pt x="11472" y="12493"/>
                  <a:pt x="11509" y="12452"/>
                </a:cubicBezTo>
                <a:cubicBezTo>
                  <a:pt x="11551" y="12404"/>
                  <a:pt x="11498" y="12532"/>
                  <a:pt x="11485" y="12576"/>
                </a:cubicBezTo>
                <a:cubicBezTo>
                  <a:pt x="11469" y="12633"/>
                  <a:pt x="11469" y="12731"/>
                  <a:pt x="11485" y="12799"/>
                </a:cubicBezTo>
                <a:cubicBezTo>
                  <a:pt x="11500" y="12866"/>
                  <a:pt x="11548" y="12939"/>
                  <a:pt x="11559" y="12998"/>
                </a:cubicBezTo>
                <a:cubicBezTo>
                  <a:pt x="11570" y="13055"/>
                  <a:pt x="11555" y="13073"/>
                  <a:pt x="11584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429080" y="4125960"/>
            <a:ext cx="492120" cy="295200"/>
          </a:xfrm>
          <a:custGeom>
            <a:avLst/>
            <a:gdLst/>
            <a:ahLst/>
            <a:rect l="l" t="t" r="r" b="b"/>
            <a:pathLst>
              <a:path w="1365" h="819">
                <a:moveTo>
                  <a:pt x="12303" y="11931"/>
                </a:moveTo>
                <a:cubicBezTo>
                  <a:pt x="12303" y="12030"/>
                  <a:pt x="12313" y="12112"/>
                  <a:pt x="12328" y="12204"/>
                </a:cubicBezTo>
                <a:cubicBezTo>
                  <a:pt x="12328" y="12249"/>
                  <a:pt x="12324" y="12262"/>
                  <a:pt x="12353" y="12278"/>
                </a:cubicBezTo>
                <a:cubicBezTo>
                  <a:pt x="12353" y="12173"/>
                  <a:pt x="12345" y="12078"/>
                  <a:pt x="12378" y="11981"/>
                </a:cubicBezTo>
                <a:cubicBezTo>
                  <a:pt x="12412" y="11881"/>
                  <a:pt x="12432" y="11896"/>
                  <a:pt x="12502" y="11832"/>
                </a:cubicBezTo>
                <a:cubicBezTo>
                  <a:pt x="12542" y="11795"/>
                  <a:pt x="12586" y="11772"/>
                  <a:pt x="12626" y="11733"/>
                </a:cubicBezTo>
              </a:path>
              <a:path w="1365" h="819">
                <a:moveTo>
                  <a:pt x="12973" y="11832"/>
                </a:moveTo>
                <a:cubicBezTo>
                  <a:pt x="12989" y="11848"/>
                  <a:pt x="13006" y="11865"/>
                  <a:pt x="13022" y="11881"/>
                </a:cubicBezTo>
                <a:cubicBezTo>
                  <a:pt x="12915" y="11881"/>
                  <a:pt x="12869" y="11904"/>
                  <a:pt x="12774" y="11956"/>
                </a:cubicBezTo>
                <a:cubicBezTo>
                  <a:pt x="12698" y="11998"/>
                  <a:pt x="12669" y="12050"/>
                  <a:pt x="12700" y="12129"/>
                </a:cubicBezTo>
                <a:cubicBezTo>
                  <a:pt x="12734" y="12217"/>
                  <a:pt x="12773" y="12245"/>
                  <a:pt x="12849" y="12204"/>
                </a:cubicBezTo>
                <a:cubicBezTo>
                  <a:pt x="12931" y="12160"/>
                  <a:pt x="12915" y="12121"/>
                  <a:pt x="12948" y="12055"/>
                </a:cubicBezTo>
                <a:cubicBezTo>
                  <a:pt x="12974" y="12003"/>
                  <a:pt x="12980" y="12009"/>
                  <a:pt x="12948" y="11956"/>
                </a:cubicBezTo>
                <a:cubicBezTo>
                  <a:pt x="12948" y="12018"/>
                  <a:pt x="12945" y="12084"/>
                  <a:pt x="12998" y="12129"/>
                </a:cubicBezTo>
                <a:cubicBezTo>
                  <a:pt x="13046" y="12171"/>
                  <a:pt x="13085" y="12179"/>
                  <a:pt x="13146" y="12179"/>
                </a:cubicBezTo>
              </a:path>
              <a:path w="1365" h="819">
                <a:moveTo>
                  <a:pt x="13444" y="11956"/>
                </a:moveTo>
                <a:cubicBezTo>
                  <a:pt x="13402" y="11897"/>
                  <a:pt x="13319" y="11844"/>
                  <a:pt x="13246" y="11906"/>
                </a:cubicBezTo>
                <a:cubicBezTo>
                  <a:pt x="13143" y="11994"/>
                  <a:pt x="13202" y="12090"/>
                  <a:pt x="13271" y="12154"/>
                </a:cubicBezTo>
                <a:cubicBezTo>
                  <a:pt x="13333" y="12211"/>
                  <a:pt x="13374" y="12214"/>
                  <a:pt x="13444" y="12179"/>
                </a:cubicBezTo>
                <a:cubicBezTo>
                  <a:pt x="13512" y="12145"/>
                  <a:pt x="13540" y="12076"/>
                  <a:pt x="13568" y="12005"/>
                </a:cubicBezTo>
                <a:cubicBezTo>
                  <a:pt x="13613" y="11891"/>
                  <a:pt x="13618" y="11804"/>
                  <a:pt x="13618" y="11683"/>
                </a:cubicBezTo>
                <a:cubicBezTo>
                  <a:pt x="13618" y="11626"/>
                  <a:pt x="13631" y="11496"/>
                  <a:pt x="13568" y="11460"/>
                </a:cubicBezTo>
                <a:cubicBezTo>
                  <a:pt x="13552" y="11460"/>
                  <a:pt x="13535" y="11460"/>
                  <a:pt x="13519" y="11460"/>
                </a:cubicBezTo>
                <a:cubicBezTo>
                  <a:pt x="13530" y="11571"/>
                  <a:pt x="13565" y="11673"/>
                  <a:pt x="13593" y="11782"/>
                </a:cubicBezTo>
                <a:cubicBezTo>
                  <a:pt x="13623" y="11899"/>
                  <a:pt x="13657" y="12010"/>
                  <a:pt x="13667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928800" y="5126040"/>
            <a:ext cx="1581120" cy="749160"/>
          </a:xfrm>
          <a:custGeom>
            <a:avLst/>
            <a:gdLst/>
            <a:ahLst/>
            <a:rect l="l" t="t" r="r" b="b"/>
            <a:pathLst>
              <a:path w="4391" h="2084">
                <a:moveTo>
                  <a:pt x="2580" y="15056"/>
                </a:moveTo>
                <a:cubicBezTo>
                  <a:pt x="2580" y="15064"/>
                  <a:pt x="2580" y="15073"/>
                  <a:pt x="2580" y="15081"/>
                </a:cubicBezTo>
              </a:path>
              <a:path w="4391" h="2084">
                <a:moveTo>
                  <a:pt x="2977" y="14288"/>
                </a:moveTo>
                <a:cubicBezTo>
                  <a:pt x="2952" y="14354"/>
                  <a:pt x="2929" y="14396"/>
                  <a:pt x="2902" y="14461"/>
                </a:cubicBezTo>
                <a:cubicBezTo>
                  <a:pt x="2874" y="14530"/>
                  <a:pt x="2840" y="14614"/>
                  <a:pt x="2828" y="14684"/>
                </a:cubicBezTo>
                <a:cubicBezTo>
                  <a:pt x="2816" y="14758"/>
                  <a:pt x="2825" y="14841"/>
                  <a:pt x="2853" y="14908"/>
                </a:cubicBezTo>
                <a:cubicBezTo>
                  <a:pt x="2873" y="14957"/>
                  <a:pt x="2940" y="15035"/>
                  <a:pt x="3001" y="15032"/>
                </a:cubicBezTo>
                <a:cubicBezTo>
                  <a:pt x="3057" y="15029"/>
                  <a:pt x="3137" y="14963"/>
                  <a:pt x="3150" y="14908"/>
                </a:cubicBezTo>
                <a:cubicBezTo>
                  <a:pt x="3163" y="14854"/>
                  <a:pt x="3133" y="14841"/>
                  <a:pt x="3101" y="14808"/>
                </a:cubicBezTo>
                <a:cubicBezTo>
                  <a:pt x="3060" y="14849"/>
                  <a:pt x="3014" y="14898"/>
                  <a:pt x="3001" y="14957"/>
                </a:cubicBezTo>
                <a:cubicBezTo>
                  <a:pt x="2990" y="15008"/>
                  <a:pt x="2996" y="15081"/>
                  <a:pt x="3051" y="15106"/>
                </a:cubicBezTo>
                <a:cubicBezTo>
                  <a:pt x="3059" y="15106"/>
                  <a:pt x="3068" y="15106"/>
                  <a:pt x="3076" y="15106"/>
                </a:cubicBezTo>
              </a:path>
              <a:path w="4391" h="2084">
                <a:moveTo>
                  <a:pt x="3349" y="14436"/>
                </a:moveTo>
                <a:cubicBezTo>
                  <a:pt x="3434" y="14457"/>
                  <a:pt x="3513" y="14475"/>
                  <a:pt x="3597" y="14486"/>
                </a:cubicBezTo>
              </a:path>
              <a:path w="4391" h="2084">
                <a:moveTo>
                  <a:pt x="3349" y="14436"/>
                </a:moveTo>
                <a:cubicBezTo>
                  <a:pt x="3272" y="14488"/>
                  <a:pt x="3198" y="14515"/>
                  <a:pt x="3274" y="14610"/>
                </a:cubicBezTo>
                <a:cubicBezTo>
                  <a:pt x="3320" y="14667"/>
                  <a:pt x="3353" y="14660"/>
                  <a:pt x="3423" y="14660"/>
                </a:cubicBezTo>
                <a:cubicBezTo>
                  <a:pt x="3498" y="14660"/>
                  <a:pt x="3519" y="14657"/>
                  <a:pt x="3572" y="14709"/>
                </a:cubicBezTo>
                <a:cubicBezTo>
                  <a:pt x="3594" y="14731"/>
                  <a:pt x="3638" y="14823"/>
                  <a:pt x="3646" y="14858"/>
                </a:cubicBezTo>
                <a:cubicBezTo>
                  <a:pt x="3659" y="14913"/>
                  <a:pt x="3664" y="15044"/>
                  <a:pt x="3621" y="15081"/>
                </a:cubicBezTo>
                <a:cubicBezTo>
                  <a:pt x="3556" y="15137"/>
                  <a:pt x="3518" y="15133"/>
                  <a:pt x="3448" y="15106"/>
                </a:cubicBezTo>
                <a:cubicBezTo>
                  <a:pt x="3342" y="15066"/>
                  <a:pt x="3359" y="15090"/>
                  <a:pt x="3349" y="14982"/>
                </a:cubicBezTo>
              </a:path>
              <a:path w="4391" h="2084">
                <a:moveTo>
                  <a:pt x="3795" y="14263"/>
                </a:moveTo>
                <a:cubicBezTo>
                  <a:pt x="3761" y="14297"/>
                  <a:pt x="3702" y="14330"/>
                  <a:pt x="3721" y="14387"/>
                </a:cubicBezTo>
                <a:cubicBezTo>
                  <a:pt x="3741" y="14446"/>
                  <a:pt x="3862" y="14407"/>
                  <a:pt x="3894" y="14387"/>
                </a:cubicBezTo>
                <a:cubicBezTo>
                  <a:pt x="3952" y="14351"/>
                  <a:pt x="3912" y="14290"/>
                  <a:pt x="3870" y="14263"/>
                </a:cubicBezTo>
                <a:cubicBezTo>
                  <a:pt x="3853" y="14255"/>
                  <a:pt x="3837" y="14246"/>
                  <a:pt x="3820" y="14238"/>
                </a:cubicBezTo>
              </a:path>
              <a:path w="4391" h="2084">
                <a:moveTo>
                  <a:pt x="4118" y="15156"/>
                </a:moveTo>
                <a:cubicBezTo>
                  <a:pt x="4140" y="15133"/>
                  <a:pt x="4148" y="15128"/>
                  <a:pt x="4142" y="15106"/>
                </a:cubicBezTo>
              </a:path>
              <a:path w="4391" h="2084">
                <a:moveTo>
                  <a:pt x="4440" y="14436"/>
                </a:moveTo>
                <a:cubicBezTo>
                  <a:pt x="4570" y="14436"/>
                  <a:pt x="4687" y="14443"/>
                  <a:pt x="4812" y="14461"/>
                </a:cubicBezTo>
                <a:cubicBezTo>
                  <a:pt x="4863" y="14468"/>
                  <a:pt x="4910" y="14442"/>
                  <a:pt x="4961" y="14436"/>
                </a:cubicBezTo>
              </a:path>
              <a:path w="4391" h="2084">
                <a:moveTo>
                  <a:pt x="4638" y="14486"/>
                </a:moveTo>
                <a:cubicBezTo>
                  <a:pt x="4603" y="14621"/>
                  <a:pt x="4589" y="14681"/>
                  <a:pt x="4589" y="14808"/>
                </a:cubicBezTo>
                <a:cubicBezTo>
                  <a:pt x="4589" y="14833"/>
                  <a:pt x="4569" y="14983"/>
                  <a:pt x="4614" y="14982"/>
                </a:cubicBezTo>
                <a:cubicBezTo>
                  <a:pt x="4614" y="14974"/>
                  <a:pt x="4614" y="14965"/>
                  <a:pt x="4614" y="14957"/>
                </a:cubicBezTo>
              </a:path>
              <a:path w="4391" h="2084">
                <a:moveTo>
                  <a:pt x="4787" y="14412"/>
                </a:moveTo>
                <a:cubicBezTo>
                  <a:pt x="4777" y="14497"/>
                  <a:pt x="4762" y="14572"/>
                  <a:pt x="4762" y="14660"/>
                </a:cubicBezTo>
                <a:cubicBezTo>
                  <a:pt x="4762" y="14759"/>
                  <a:pt x="4775" y="14836"/>
                  <a:pt x="4787" y="14932"/>
                </a:cubicBezTo>
                <a:cubicBezTo>
                  <a:pt x="4795" y="14994"/>
                  <a:pt x="4804" y="15000"/>
                  <a:pt x="4837" y="15056"/>
                </a:cubicBezTo>
              </a:path>
              <a:path w="4391" h="2084">
                <a:moveTo>
                  <a:pt x="5135" y="14808"/>
                </a:moveTo>
                <a:cubicBezTo>
                  <a:pt x="5135" y="14882"/>
                  <a:pt x="5124" y="14947"/>
                  <a:pt x="5159" y="15007"/>
                </a:cubicBezTo>
                <a:cubicBezTo>
                  <a:pt x="5159" y="14909"/>
                  <a:pt x="5171" y="14828"/>
                  <a:pt x="5184" y="14734"/>
                </a:cubicBezTo>
                <a:cubicBezTo>
                  <a:pt x="5189" y="14695"/>
                  <a:pt x="5207" y="14625"/>
                  <a:pt x="5259" y="14610"/>
                </a:cubicBezTo>
                <a:cubicBezTo>
                  <a:pt x="5308" y="14610"/>
                  <a:pt x="5325" y="14610"/>
                  <a:pt x="5358" y="14610"/>
                </a:cubicBezTo>
              </a:path>
              <a:path w="4391" h="2084">
                <a:moveTo>
                  <a:pt x="5730" y="14734"/>
                </a:moveTo>
                <a:cubicBezTo>
                  <a:pt x="5649" y="14734"/>
                  <a:pt x="5580" y="14743"/>
                  <a:pt x="5507" y="14784"/>
                </a:cubicBezTo>
                <a:cubicBezTo>
                  <a:pt x="5468" y="14805"/>
                  <a:pt x="5416" y="14861"/>
                  <a:pt x="5432" y="14908"/>
                </a:cubicBezTo>
                <a:cubicBezTo>
                  <a:pt x="5455" y="14977"/>
                  <a:pt x="5532" y="14976"/>
                  <a:pt x="5581" y="14957"/>
                </a:cubicBezTo>
                <a:cubicBezTo>
                  <a:pt x="5632" y="14937"/>
                  <a:pt x="5691" y="14890"/>
                  <a:pt x="5705" y="14833"/>
                </a:cubicBezTo>
                <a:cubicBezTo>
                  <a:pt x="5729" y="14730"/>
                  <a:pt x="5678" y="14868"/>
                  <a:pt x="5730" y="14908"/>
                </a:cubicBezTo>
                <a:cubicBezTo>
                  <a:pt x="5773" y="14929"/>
                  <a:pt x="5785" y="14933"/>
                  <a:pt x="5804" y="14957"/>
                </a:cubicBezTo>
              </a:path>
              <a:path w="4391" h="2084">
                <a:moveTo>
                  <a:pt x="6152" y="14709"/>
                </a:moveTo>
                <a:cubicBezTo>
                  <a:pt x="6140" y="14618"/>
                  <a:pt x="6125" y="14572"/>
                  <a:pt x="6028" y="14610"/>
                </a:cubicBezTo>
                <a:cubicBezTo>
                  <a:pt x="5944" y="14643"/>
                  <a:pt x="5896" y="14682"/>
                  <a:pt x="5928" y="14784"/>
                </a:cubicBezTo>
                <a:cubicBezTo>
                  <a:pt x="5950" y="14853"/>
                  <a:pt x="6030" y="14852"/>
                  <a:pt x="6077" y="14833"/>
                </a:cubicBezTo>
                <a:cubicBezTo>
                  <a:pt x="6166" y="14798"/>
                  <a:pt x="6150" y="14760"/>
                  <a:pt x="6176" y="14684"/>
                </a:cubicBezTo>
                <a:cubicBezTo>
                  <a:pt x="6204" y="14601"/>
                  <a:pt x="6226" y="14549"/>
                  <a:pt x="6226" y="14461"/>
                </a:cubicBezTo>
                <a:cubicBezTo>
                  <a:pt x="6226" y="14417"/>
                  <a:pt x="6229" y="14403"/>
                  <a:pt x="6201" y="14387"/>
                </a:cubicBezTo>
                <a:cubicBezTo>
                  <a:pt x="6171" y="14476"/>
                  <a:pt x="6141" y="14571"/>
                  <a:pt x="6127" y="14660"/>
                </a:cubicBezTo>
                <a:cubicBezTo>
                  <a:pt x="6127" y="14701"/>
                  <a:pt x="6127" y="14709"/>
                  <a:pt x="6127" y="14734"/>
                </a:cubicBezTo>
              </a:path>
              <a:path w="4391" h="2084">
                <a:moveTo>
                  <a:pt x="6325" y="15180"/>
                </a:moveTo>
                <a:cubicBezTo>
                  <a:pt x="6231" y="15172"/>
                  <a:pt x="6148" y="15156"/>
                  <a:pt x="6052" y="15156"/>
                </a:cubicBezTo>
                <a:cubicBezTo>
                  <a:pt x="5935" y="15156"/>
                  <a:pt x="5824" y="15131"/>
                  <a:pt x="5705" y="15131"/>
                </a:cubicBezTo>
                <a:cubicBezTo>
                  <a:pt x="5397" y="15131"/>
                  <a:pt x="5093" y="15129"/>
                  <a:pt x="4787" y="15156"/>
                </a:cubicBezTo>
                <a:cubicBezTo>
                  <a:pt x="4721" y="15162"/>
                  <a:pt x="4646" y="15152"/>
                  <a:pt x="4589" y="15180"/>
                </a:cubicBezTo>
                <a:cubicBezTo>
                  <a:pt x="4581" y="15188"/>
                  <a:pt x="4572" y="15197"/>
                  <a:pt x="4564" y="15205"/>
                </a:cubicBezTo>
              </a:path>
              <a:path w="4391" h="2084">
                <a:moveTo>
                  <a:pt x="5159" y="15453"/>
                </a:moveTo>
                <a:cubicBezTo>
                  <a:pt x="5142" y="15536"/>
                  <a:pt x="5115" y="15619"/>
                  <a:pt x="5110" y="15701"/>
                </a:cubicBezTo>
                <a:cubicBezTo>
                  <a:pt x="5106" y="15779"/>
                  <a:pt x="5085" y="15845"/>
                  <a:pt x="5085" y="15925"/>
                </a:cubicBezTo>
                <a:cubicBezTo>
                  <a:pt x="5085" y="16015"/>
                  <a:pt x="5065" y="16124"/>
                  <a:pt x="5110" y="16197"/>
                </a:cubicBezTo>
              </a:path>
              <a:path w="4391" h="2084">
                <a:moveTo>
                  <a:pt x="5531" y="15602"/>
                </a:moveTo>
                <a:cubicBezTo>
                  <a:pt x="5478" y="15549"/>
                  <a:pt x="5431" y="15506"/>
                  <a:pt x="5358" y="15553"/>
                </a:cubicBezTo>
                <a:cubicBezTo>
                  <a:pt x="5308" y="15586"/>
                  <a:pt x="5292" y="15643"/>
                  <a:pt x="5308" y="15701"/>
                </a:cubicBezTo>
                <a:cubicBezTo>
                  <a:pt x="5331" y="15785"/>
                  <a:pt x="5364" y="15871"/>
                  <a:pt x="5407" y="15949"/>
                </a:cubicBezTo>
                <a:cubicBezTo>
                  <a:pt x="5471" y="16064"/>
                  <a:pt x="5502" y="16111"/>
                  <a:pt x="5507" y="16247"/>
                </a:cubicBezTo>
                <a:cubicBezTo>
                  <a:pt x="5507" y="16292"/>
                  <a:pt x="5511" y="16305"/>
                  <a:pt x="5482" y="16321"/>
                </a:cubicBezTo>
                <a:cubicBezTo>
                  <a:pt x="5437" y="16296"/>
                  <a:pt x="5388" y="16268"/>
                  <a:pt x="5358" y="16222"/>
                </a:cubicBezTo>
                <a:cubicBezTo>
                  <a:pt x="5327" y="16175"/>
                  <a:pt x="5281" y="16110"/>
                  <a:pt x="5308" y="16049"/>
                </a:cubicBezTo>
                <a:cubicBezTo>
                  <a:pt x="5338" y="15981"/>
                  <a:pt x="5406" y="15926"/>
                  <a:pt x="5457" y="15875"/>
                </a:cubicBezTo>
                <a:cubicBezTo>
                  <a:pt x="5512" y="15820"/>
                  <a:pt x="5536" y="15792"/>
                  <a:pt x="5581" y="15726"/>
                </a:cubicBezTo>
                <a:cubicBezTo>
                  <a:pt x="5589" y="15718"/>
                  <a:pt x="5598" y="15709"/>
                  <a:pt x="5606" y="15701"/>
                </a:cubicBezTo>
              </a:path>
              <a:path w="4391" h="2084">
                <a:moveTo>
                  <a:pt x="5655" y="15652"/>
                </a:moveTo>
                <a:cubicBezTo>
                  <a:pt x="5663" y="15635"/>
                  <a:pt x="5672" y="15619"/>
                  <a:pt x="5680" y="15602"/>
                </a:cubicBezTo>
                <a:cubicBezTo>
                  <a:pt x="5636" y="15658"/>
                  <a:pt x="5627" y="15692"/>
                  <a:pt x="5606" y="15751"/>
                </a:cubicBezTo>
                <a:cubicBezTo>
                  <a:pt x="5585" y="15809"/>
                  <a:pt x="5563" y="15884"/>
                  <a:pt x="5581" y="15949"/>
                </a:cubicBezTo>
                <a:cubicBezTo>
                  <a:pt x="5600" y="16016"/>
                  <a:pt x="5620" y="16064"/>
                  <a:pt x="5655" y="16123"/>
                </a:cubicBezTo>
                <a:cubicBezTo>
                  <a:pt x="5666" y="16141"/>
                  <a:pt x="5724" y="16249"/>
                  <a:pt x="5755" y="16247"/>
                </a:cubicBezTo>
                <a:cubicBezTo>
                  <a:pt x="5862" y="16241"/>
                  <a:pt x="5881" y="16181"/>
                  <a:pt x="5904" y="16098"/>
                </a:cubicBezTo>
                <a:cubicBezTo>
                  <a:pt x="5937" y="15980"/>
                  <a:pt x="5920" y="15938"/>
                  <a:pt x="5904" y="15825"/>
                </a:cubicBezTo>
                <a:cubicBezTo>
                  <a:pt x="5894" y="15755"/>
                  <a:pt x="5878" y="15706"/>
                  <a:pt x="5829" y="15652"/>
                </a:cubicBezTo>
                <a:cubicBezTo>
                  <a:pt x="5802" y="15622"/>
                  <a:pt x="5700" y="15560"/>
                  <a:pt x="5755" y="15528"/>
                </a:cubicBezTo>
                <a:cubicBezTo>
                  <a:pt x="5763" y="15528"/>
                  <a:pt x="5771" y="15528"/>
                  <a:pt x="5779" y="15528"/>
                </a:cubicBezTo>
              </a:path>
              <a:path w="4391" h="2084">
                <a:moveTo>
                  <a:pt x="6003" y="15453"/>
                </a:moveTo>
                <a:cubicBezTo>
                  <a:pt x="5986" y="15514"/>
                  <a:pt x="5993" y="15558"/>
                  <a:pt x="6077" y="15577"/>
                </a:cubicBezTo>
                <a:cubicBezTo>
                  <a:pt x="6152" y="15594"/>
                  <a:pt x="6185" y="15535"/>
                  <a:pt x="6152" y="15478"/>
                </a:cubicBezTo>
                <a:cubicBezTo>
                  <a:pt x="6137" y="15452"/>
                  <a:pt x="6099" y="15425"/>
                  <a:pt x="6077" y="15404"/>
                </a:cubicBezTo>
              </a:path>
              <a:path w="4391" h="2084">
                <a:moveTo>
                  <a:pt x="6697" y="15156"/>
                </a:moveTo>
                <a:cubicBezTo>
                  <a:pt x="6767" y="15163"/>
                  <a:pt x="6802" y="15180"/>
                  <a:pt x="6871" y="15180"/>
                </a:cubicBezTo>
              </a:path>
              <a:path w="4391" h="2084">
                <a:moveTo>
                  <a:pt x="6747" y="15404"/>
                </a:moveTo>
                <a:cubicBezTo>
                  <a:pt x="6831" y="15417"/>
                  <a:pt x="6905" y="15415"/>
                  <a:pt x="6970" y="154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894040" y="5143680"/>
            <a:ext cx="1643040" cy="938160"/>
          </a:xfrm>
          <a:custGeom>
            <a:avLst/>
            <a:gdLst/>
            <a:ahLst/>
            <a:rect l="l" t="t" r="r" b="b"/>
            <a:pathLst>
              <a:path w="4565" h="2605">
                <a:moveTo>
                  <a:pt x="8409" y="14337"/>
                </a:moveTo>
                <a:cubicBezTo>
                  <a:pt x="8409" y="14450"/>
                  <a:pt x="8372" y="14528"/>
                  <a:pt x="8359" y="14635"/>
                </a:cubicBezTo>
                <a:cubicBezTo>
                  <a:pt x="8345" y="14749"/>
                  <a:pt x="8334" y="14870"/>
                  <a:pt x="8310" y="14982"/>
                </a:cubicBezTo>
                <a:cubicBezTo>
                  <a:pt x="8286" y="15092"/>
                  <a:pt x="8249" y="15191"/>
                  <a:pt x="8235" y="15304"/>
                </a:cubicBezTo>
                <a:cubicBezTo>
                  <a:pt x="8235" y="15363"/>
                  <a:pt x="8238" y="15371"/>
                  <a:pt x="8260" y="15280"/>
                </a:cubicBezTo>
              </a:path>
              <a:path w="4565" h="2605">
                <a:moveTo>
                  <a:pt x="8607" y="14436"/>
                </a:moveTo>
                <a:cubicBezTo>
                  <a:pt x="8677" y="14349"/>
                  <a:pt x="8697" y="14313"/>
                  <a:pt x="8806" y="14362"/>
                </a:cubicBezTo>
                <a:cubicBezTo>
                  <a:pt x="8876" y="14393"/>
                  <a:pt x="8978" y="14427"/>
                  <a:pt x="9004" y="14511"/>
                </a:cubicBezTo>
                <a:cubicBezTo>
                  <a:pt x="9028" y="14588"/>
                  <a:pt x="8938" y="14668"/>
                  <a:pt x="8880" y="14709"/>
                </a:cubicBezTo>
                <a:cubicBezTo>
                  <a:pt x="8833" y="14742"/>
                  <a:pt x="8643" y="14759"/>
                  <a:pt x="8756" y="14759"/>
                </a:cubicBezTo>
                <a:cubicBezTo>
                  <a:pt x="8860" y="14759"/>
                  <a:pt x="8917" y="14735"/>
                  <a:pt x="9029" y="14784"/>
                </a:cubicBezTo>
                <a:cubicBezTo>
                  <a:pt x="9088" y="14810"/>
                  <a:pt x="9121" y="14900"/>
                  <a:pt x="9128" y="14957"/>
                </a:cubicBezTo>
                <a:cubicBezTo>
                  <a:pt x="9139" y="15040"/>
                  <a:pt x="9096" y="15129"/>
                  <a:pt x="9029" y="15180"/>
                </a:cubicBezTo>
                <a:cubicBezTo>
                  <a:pt x="8971" y="15224"/>
                  <a:pt x="8875" y="15245"/>
                  <a:pt x="8806" y="15255"/>
                </a:cubicBezTo>
                <a:cubicBezTo>
                  <a:pt x="8743" y="15264"/>
                  <a:pt x="8658" y="15215"/>
                  <a:pt x="8607" y="15180"/>
                </a:cubicBezTo>
                <a:cubicBezTo>
                  <a:pt x="8599" y="15172"/>
                  <a:pt x="8590" y="15164"/>
                  <a:pt x="8582" y="15156"/>
                </a:cubicBezTo>
              </a:path>
              <a:path w="4565" h="2605">
                <a:moveTo>
                  <a:pt x="9327" y="14362"/>
                </a:moveTo>
                <a:cubicBezTo>
                  <a:pt x="9456" y="14340"/>
                  <a:pt x="9568" y="14337"/>
                  <a:pt x="9699" y="14337"/>
                </a:cubicBezTo>
                <a:cubicBezTo>
                  <a:pt x="9769" y="14337"/>
                  <a:pt x="9890" y="14362"/>
                  <a:pt x="9947" y="14312"/>
                </a:cubicBezTo>
                <a:cubicBezTo>
                  <a:pt x="9947" y="14304"/>
                  <a:pt x="9947" y="14296"/>
                  <a:pt x="9947" y="14288"/>
                </a:cubicBezTo>
              </a:path>
              <a:path w="4565" h="2605">
                <a:moveTo>
                  <a:pt x="9575" y="14461"/>
                </a:moveTo>
                <a:cubicBezTo>
                  <a:pt x="9537" y="14590"/>
                  <a:pt x="9490" y="14726"/>
                  <a:pt x="9475" y="14858"/>
                </a:cubicBezTo>
                <a:cubicBezTo>
                  <a:pt x="9467" y="14928"/>
                  <a:pt x="9460" y="15001"/>
                  <a:pt x="9475" y="15056"/>
                </a:cubicBezTo>
              </a:path>
              <a:path w="4565" h="2605">
                <a:moveTo>
                  <a:pt x="9748" y="14288"/>
                </a:moveTo>
                <a:cubicBezTo>
                  <a:pt x="9718" y="14406"/>
                  <a:pt x="9703" y="14538"/>
                  <a:pt x="9699" y="14660"/>
                </a:cubicBezTo>
                <a:cubicBezTo>
                  <a:pt x="9695" y="14789"/>
                  <a:pt x="9733" y="14884"/>
                  <a:pt x="9748" y="15007"/>
                </a:cubicBezTo>
                <a:cubicBezTo>
                  <a:pt x="9763" y="15131"/>
                  <a:pt x="9791" y="15185"/>
                  <a:pt x="9872" y="15280"/>
                </a:cubicBezTo>
              </a:path>
              <a:path w="4565" h="2605">
                <a:moveTo>
                  <a:pt x="8037" y="15528"/>
                </a:moveTo>
                <a:cubicBezTo>
                  <a:pt x="8168" y="15515"/>
                  <a:pt x="8304" y="15495"/>
                  <a:pt x="8434" y="15478"/>
                </a:cubicBezTo>
                <a:cubicBezTo>
                  <a:pt x="8633" y="15451"/>
                  <a:pt x="8828" y="15415"/>
                  <a:pt x="9029" y="15404"/>
                </a:cubicBezTo>
                <a:cubicBezTo>
                  <a:pt x="9243" y="15393"/>
                  <a:pt x="9463" y="15396"/>
                  <a:pt x="9674" y="15429"/>
                </a:cubicBezTo>
                <a:cubicBezTo>
                  <a:pt x="9797" y="15448"/>
                  <a:pt x="9923" y="15472"/>
                  <a:pt x="10046" y="15478"/>
                </a:cubicBezTo>
                <a:cubicBezTo>
                  <a:pt x="10063" y="15478"/>
                  <a:pt x="10079" y="15478"/>
                  <a:pt x="10096" y="15478"/>
                </a:cubicBezTo>
              </a:path>
              <a:path w="4565" h="2605">
                <a:moveTo>
                  <a:pt x="8607" y="15825"/>
                </a:moveTo>
                <a:cubicBezTo>
                  <a:pt x="8673" y="15787"/>
                  <a:pt x="8806" y="15789"/>
                  <a:pt x="8880" y="15801"/>
                </a:cubicBezTo>
                <a:cubicBezTo>
                  <a:pt x="8933" y="15810"/>
                  <a:pt x="9061" y="15895"/>
                  <a:pt x="9079" y="15949"/>
                </a:cubicBezTo>
                <a:cubicBezTo>
                  <a:pt x="9108" y="16035"/>
                  <a:pt x="9043" y="16102"/>
                  <a:pt x="8979" y="16148"/>
                </a:cubicBezTo>
                <a:cubicBezTo>
                  <a:pt x="8893" y="16211"/>
                  <a:pt x="8771" y="16210"/>
                  <a:pt x="8682" y="16272"/>
                </a:cubicBezTo>
                <a:cubicBezTo>
                  <a:pt x="8674" y="16280"/>
                  <a:pt x="8665" y="16289"/>
                  <a:pt x="8657" y="16297"/>
                </a:cubicBezTo>
                <a:cubicBezTo>
                  <a:pt x="8715" y="16343"/>
                  <a:pt x="8775" y="16369"/>
                  <a:pt x="8830" y="16421"/>
                </a:cubicBezTo>
                <a:cubicBezTo>
                  <a:pt x="8897" y="16484"/>
                  <a:pt x="8927" y="16576"/>
                  <a:pt x="8905" y="16669"/>
                </a:cubicBezTo>
                <a:cubicBezTo>
                  <a:pt x="8886" y="16746"/>
                  <a:pt x="8772" y="16834"/>
                  <a:pt x="8706" y="16867"/>
                </a:cubicBezTo>
                <a:cubicBezTo>
                  <a:pt x="8612" y="16914"/>
                  <a:pt x="8504" y="16895"/>
                  <a:pt x="8409" y="16867"/>
                </a:cubicBezTo>
                <a:cubicBezTo>
                  <a:pt x="8290" y="16832"/>
                  <a:pt x="8294" y="16756"/>
                  <a:pt x="8285" y="16644"/>
                </a:cubicBezTo>
              </a:path>
              <a:path w="4565" h="2605">
                <a:moveTo>
                  <a:pt x="9376" y="15900"/>
                </a:moveTo>
                <a:cubicBezTo>
                  <a:pt x="9301" y="16108"/>
                  <a:pt x="9216" y="16207"/>
                  <a:pt x="9128" y="16396"/>
                </a:cubicBezTo>
                <a:cubicBezTo>
                  <a:pt x="9087" y="16483"/>
                  <a:pt x="9049" y="16603"/>
                  <a:pt x="9103" y="16694"/>
                </a:cubicBezTo>
                <a:cubicBezTo>
                  <a:pt x="9156" y="16784"/>
                  <a:pt x="9304" y="16812"/>
                  <a:pt x="9401" y="16793"/>
                </a:cubicBezTo>
                <a:cubicBezTo>
                  <a:pt x="9513" y="16771"/>
                  <a:pt x="9553" y="16712"/>
                  <a:pt x="9599" y="16619"/>
                </a:cubicBezTo>
                <a:cubicBezTo>
                  <a:pt x="9617" y="16583"/>
                  <a:pt x="9622" y="16443"/>
                  <a:pt x="9550" y="16446"/>
                </a:cubicBezTo>
                <a:cubicBezTo>
                  <a:pt x="9465" y="16450"/>
                  <a:pt x="9406" y="16493"/>
                  <a:pt x="9401" y="16570"/>
                </a:cubicBezTo>
                <a:cubicBezTo>
                  <a:pt x="9401" y="16586"/>
                  <a:pt x="9401" y="16603"/>
                  <a:pt x="9401" y="16619"/>
                </a:cubicBezTo>
              </a:path>
              <a:path w="4565" h="2605">
                <a:moveTo>
                  <a:pt x="9847" y="16073"/>
                </a:moveTo>
                <a:cubicBezTo>
                  <a:pt x="9694" y="16233"/>
                  <a:pt x="9587" y="16293"/>
                  <a:pt x="9624" y="16520"/>
                </a:cubicBezTo>
                <a:cubicBezTo>
                  <a:pt x="9646" y="16654"/>
                  <a:pt x="9721" y="16756"/>
                  <a:pt x="9847" y="16768"/>
                </a:cubicBezTo>
                <a:cubicBezTo>
                  <a:pt x="9927" y="16776"/>
                  <a:pt x="9988" y="16685"/>
                  <a:pt x="10021" y="16619"/>
                </a:cubicBezTo>
                <a:cubicBezTo>
                  <a:pt x="10073" y="16516"/>
                  <a:pt x="10098" y="16405"/>
                  <a:pt x="10071" y="16297"/>
                </a:cubicBezTo>
                <a:cubicBezTo>
                  <a:pt x="10050" y="16212"/>
                  <a:pt x="9990" y="16080"/>
                  <a:pt x="9922" y="16024"/>
                </a:cubicBezTo>
                <a:cubicBezTo>
                  <a:pt x="9874" y="15985"/>
                  <a:pt x="9861" y="16006"/>
                  <a:pt x="9847" y="15949"/>
                </a:cubicBezTo>
              </a:path>
              <a:path w="4565" h="2605">
                <a:moveTo>
                  <a:pt x="10344" y="16173"/>
                </a:moveTo>
                <a:cubicBezTo>
                  <a:pt x="10234" y="16282"/>
                  <a:pt x="10119" y="16360"/>
                  <a:pt x="10096" y="16520"/>
                </a:cubicBezTo>
                <a:cubicBezTo>
                  <a:pt x="10079" y="16634"/>
                  <a:pt x="10157" y="16710"/>
                  <a:pt x="10244" y="16768"/>
                </a:cubicBezTo>
                <a:cubicBezTo>
                  <a:pt x="10308" y="16811"/>
                  <a:pt x="10434" y="16795"/>
                  <a:pt x="10492" y="16743"/>
                </a:cubicBezTo>
                <a:cubicBezTo>
                  <a:pt x="10561" y="16681"/>
                  <a:pt x="10625" y="16534"/>
                  <a:pt x="10616" y="16446"/>
                </a:cubicBezTo>
                <a:cubicBezTo>
                  <a:pt x="10604" y="16327"/>
                  <a:pt x="10538" y="16227"/>
                  <a:pt x="10492" y="16123"/>
                </a:cubicBezTo>
                <a:cubicBezTo>
                  <a:pt x="10454" y="16037"/>
                  <a:pt x="10449" y="15967"/>
                  <a:pt x="10443" y="15875"/>
                </a:cubicBezTo>
              </a:path>
              <a:path w="4565" h="2605">
                <a:moveTo>
                  <a:pt x="10914" y="15255"/>
                </a:moveTo>
                <a:cubicBezTo>
                  <a:pt x="10874" y="15364"/>
                  <a:pt x="10858" y="15391"/>
                  <a:pt x="10889" y="15503"/>
                </a:cubicBezTo>
                <a:cubicBezTo>
                  <a:pt x="10915" y="15435"/>
                  <a:pt x="10929" y="15353"/>
                  <a:pt x="10939" y="15280"/>
                </a:cubicBezTo>
                <a:cubicBezTo>
                  <a:pt x="10946" y="15228"/>
                  <a:pt x="10963" y="15167"/>
                  <a:pt x="11013" y="15131"/>
                </a:cubicBezTo>
                <a:cubicBezTo>
                  <a:pt x="11064" y="15095"/>
                  <a:pt x="11153" y="15064"/>
                  <a:pt x="11212" y="15056"/>
                </a:cubicBezTo>
                <a:cubicBezTo>
                  <a:pt x="11237" y="15056"/>
                  <a:pt x="11261" y="15056"/>
                  <a:pt x="11286" y="15056"/>
                </a:cubicBezTo>
              </a:path>
              <a:path w="4565" h="2605">
                <a:moveTo>
                  <a:pt x="11534" y="15106"/>
                </a:moveTo>
                <a:cubicBezTo>
                  <a:pt x="11451" y="15143"/>
                  <a:pt x="11315" y="15173"/>
                  <a:pt x="11261" y="15255"/>
                </a:cubicBezTo>
                <a:cubicBezTo>
                  <a:pt x="11211" y="15331"/>
                  <a:pt x="11247" y="15365"/>
                  <a:pt x="11286" y="15429"/>
                </a:cubicBezTo>
                <a:cubicBezTo>
                  <a:pt x="11321" y="15488"/>
                  <a:pt x="11383" y="15533"/>
                  <a:pt x="11460" y="15503"/>
                </a:cubicBezTo>
                <a:cubicBezTo>
                  <a:pt x="11525" y="15478"/>
                  <a:pt x="11531" y="15384"/>
                  <a:pt x="11534" y="15329"/>
                </a:cubicBezTo>
                <a:cubicBezTo>
                  <a:pt x="11534" y="15313"/>
                  <a:pt x="11534" y="15296"/>
                  <a:pt x="11534" y="15280"/>
                </a:cubicBezTo>
                <a:cubicBezTo>
                  <a:pt x="11502" y="15328"/>
                  <a:pt x="11566" y="15405"/>
                  <a:pt x="11633" y="15453"/>
                </a:cubicBezTo>
                <a:cubicBezTo>
                  <a:pt x="11698" y="15500"/>
                  <a:pt x="11785" y="15521"/>
                  <a:pt x="11857" y="15553"/>
                </a:cubicBezTo>
              </a:path>
              <a:path w="4565" h="2605">
                <a:moveTo>
                  <a:pt x="12129" y="15354"/>
                </a:moveTo>
                <a:cubicBezTo>
                  <a:pt x="12073" y="15273"/>
                  <a:pt x="12057" y="15236"/>
                  <a:pt x="11956" y="15230"/>
                </a:cubicBezTo>
                <a:cubicBezTo>
                  <a:pt x="11882" y="15226"/>
                  <a:pt x="11861" y="15262"/>
                  <a:pt x="11857" y="15329"/>
                </a:cubicBezTo>
                <a:cubicBezTo>
                  <a:pt x="11851" y="15427"/>
                  <a:pt x="11904" y="15439"/>
                  <a:pt x="11981" y="15478"/>
                </a:cubicBezTo>
                <a:cubicBezTo>
                  <a:pt x="12083" y="15529"/>
                  <a:pt x="12117" y="15549"/>
                  <a:pt x="12204" y="15478"/>
                </a:cubicBezTo>
                <a:cubicBezTo>
                  <a:pt x="12275" y="15420"/>
                  <a:pt x="12326" y="15292"/>
                  <a:pt x="12353" y="15205"/>
                </a:cubicBezTo>
                <a:cubicBezTo>
                  <a:pt x="12391" y="15084"/>
                  <a:pt x="12378" y="14958"/>
                  <a:pt x="12378" y="14833"/>
                </a:cubicBezTo>
                <a:cubicBezTo>
                  <a:pt x="12378" y="14738"/>
                  <a:pt x="12354" y="14619"/>
                  <a:pt x="12254" y="14660"/>
                </a:cubicBezTo>
                <a:cubicBezTo>
                  <a:pt x="12254" y="14788"/>
                  <a:pt x="12279" y="14888"/>
                  <a:pt x="12328" y="15007"/>
                </a:cubicBezTo>
                <a:cubicBezTo>
                  <a:pt x="12420" y="15231"/>
                  <a:pt x="12519" y="15449"/>
                  <a:pt x="12601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018040" y="4357800"/>
            <a:ext cx="4064040" cy="1465200"/>
          </a:xfrm>
          <a:custGeom>
            <a:avLst/>
            <a:gdLst/>
            <a:ahLst/>
            <a:rect l="l" t="t" r="r" b="b"/>
            <a:pathLst>
              <a:path w="11287" h="4069">
                <a:moveTo>
                  <a:pt x="20067" y="13494"/>
                </a:moveTo>
                <a:cubicBezTo>
                  <a:pt x="20067" y="13679"/>
                  <a:pt x="20061" y="13859"/>
                  <a:pt x="20042" y="14039"/>
                </a:cubicBezTo>
                <a:cubicBezTo>
                  <a:pt x="20033" y="14119"/>
                  <a:pt x="20034" y="14209"/>
                  <a:pt x="20017" y="14288"/>
                </a:cubicBezTo>
                <a:cubicBezTo>
                  <a:pt x="20003" y="14354"/>
                  <a:pt x="20000" y="14433"/>
                  <a:pt x="19968" y="14486"/>
                </a:cubicBezTo>
              </a:path>
              <a:path w="11287" h="4069">
                <a:moveTo>
                  <a:pt x="20191" y="14039"/>
                </a:moveTo>
                <a:cubicBezTo>
                  <a:pt x="20198" y="14106"/>
                  <a:pt x="20200" y="14161"/>
                  <a:pt x="20241" y="14213"/>
                </a:cubicBezTo>
                <a:cubicBezTo>
                  <a:pt x="20262" y="14240"/>
                  <a:pt x="20309" y="14299"/>
                  <a:pt x="20340" y="14312"/>
                </a:cubicBezTo>
                <a:cubicBezTo>
                  <a:pt x="20348" y="14312"/>
                  <a:pt x="20357" y="14312"/>
                  <a:pt x="20365" y="14312"/>
                </a:cubicBezTo>
              </a:path>
              <a:path w="11287" h="4069">
                <a:moveTo>
                  <a:pt x="20464" y="13866"/>
                </a:moveTo>
                <a:cubicBezTo>
                  <a:pt x="20464" y="13948"/>
                  <a:pt x="20448" y="14011"/>
                  <a:pt x="20439" y="14089"/>
                </a:cubicBezTo>
                <a:cubicBezTo>
                  <a:pt x="20428" y="14181"/>
                  <a:pt x="20417" y="14272"/>
                  <a:pt x="20414" y="14362"/>
                </a:cubicBezTo>
                <a:cubicBezTo>
                  <a:pt x="20411" y="14446"/>
                  <a:pt x="20411" y="14531"/>
                  <a:pt x="20389" y="14610"/>
                </a:cubicBezTo>
                <a:cubicBezTo>
                  <a:pt x="20367" y="14687"/>
                  <a:pt x="20365" y="14749"/>
                  <a:pt x="20365" y="14833"/>
                </a:cubicBezTo>
              </a:path>
              <a:path w="11287" h="4069">
                <a:moveTo>
                  <a:pt x="20737" y="14015"/>
                </a:moveTo>
                <a:cubicBezTo>
                  <a:pt x="20659" y="13968"/>
                  <a:pt x="20667" y="14005"/>
                  <a:pt x="20613" y="14064"/>
                </a:cubicBezTo>
                <a:cubicBezTo>
                  <a:pt x="20561" y="14122"/>
                  <a:pt x="20563" y="14163"/>
                  <a:pt x="20563" y="14238"/>
                </a:cubicBezTo>
                <a:cubicBezTo>
                  <a:pt x="20563" y="14255"/>
                  <a:pt x="20563" y="14271"/>
                  <a:pt x="20563" y="14288"/>
                </a:cubicBezTo>
                <a:cubicBezTo>
                  <a:pt x="20626" y="14303"/>
                  <a:pt x="20689" y="14305"/>
                  <a:pt x="20737" y="14238"/>
                </a:cubicBezTo>
                <a:cubicBezTo>
                  <a:pt x="20778" y="14181"/>
                  <a:pt x="20762" y="14105"/>
                  <a:pt x="20762" y="14039"/>
                </a:cubicBezTo>
                <a:cubicBezTo>
                  <a:pt x="20762" y="13933"/>
                  <a:pt x="20755" y="13833"/>
                  <a:pt x="20737" y="13742"/>
                </a:cubicBezTo>
                <a:cubicBezTo>
                  <a:pt x="20737" y="13725"/>
                  <a:pt x="20737" y="13709"/>
                  <a:pt x="20737" y="13692"/>
                </a:cubicBezTo>
                <a:cubicBezTo>
                  <a:pt x="20737" y="13796"/>
                  <a:pt x="20732" y="13892"/>
                  <a:pt x="20762" y="13990"/>
                </a:cubicBezTo>
                <a:cubicBezTo>
                  <a:pt x="20786" y="14069"/>
                  <a:pt x="20824" y="14118"/>
                  <a:pt x="20861" y="14188"/>
                </a:cubicBezTo>
                <a:cubicBezTo>
                  <a:pt x="20881" y="14229"/>
                  <a:pt x="20890" y="14235"/>
                  <a:pt x="20886" y="14263"/>
                </a:cubicBezTo>
              </a:path>
              <a:path w="11287" h="4069">
                <a:moveTo>
                  <a:pt x="21357" y="13246"/>
                </a:moveTo>
                <a:cubicBezTo>
                  <a:pt x="21312" y="13320"/>
                  <a:pt x="21362" y="13340"/>
                  <a:pt x="21382" y="13271"/>
                </a:cubicBezTo>
                <a:cubicBezTo>
                  <a:pt x="21382" y="13254"/>
                  <a:pt x="21382" y="13238"/>
                  <a:pt x="21382" y="13221"/>
                </a:cubicBezTo>
                <a:cubicBezTo>
                  <a:pt x="21348" y="13264"/>
                  <a:pt x="21321" y="13306"/>
                  <a:pt x="21282" y="13345"/>
                </a:cubicBezTo>
              </a:path>
              <a:path w="11287" h="4069">
                <a:moveTo>
                  <a:pt x="21853" y="12105"/>
                </a:moveTo>
                <a:cubicBezTo>
                  <a:pt x="21816" y="12178"/>
                  <a:pt x="21828" y="12265"/>
                  <a:pt x="21828" y="12353"/>
                </a:cubicBezTo>
                <a:cubicBezTo>
                  <a:pt x="21828" y="12465"/>
                  <a:pt x="21809" y="12565"/>
                  <a:pt x="21803" y="12675"/>
                </a:cubicBezTo>
                <a:cubicBezTo>
                  <a:pt x="21800" y="12738"/>
                  <a:pt x="21800" y="12765"/>
                  <a:pt x="21779" y="12824"/>
                </a:cubicBezTo>
              </a:path>
              <a:path w="11287" h="4069">
                <a:moveTo>
                  <a:pt x="21878" y="12626"/>
                </a:moveTo>
                <a:cubicBezTo>
                  <a:pt x="21907" y="12713"/>
                  <a:pt x="21924" y="12828"/>
                  <a:pt x="21977" y="12898"/>
                </a:cubicBezTo>
                <a:cubicBezTo>
                  <a:pt x="22033" y="12972"/>
                  <a:pt x="22067" y="12891"/>
                  <a:pt x="22101" y="12849"/>
                </a:cubicBezTo>
              </a:path>
              <a:path w="11287" h="4069">
                <a:moveTo>
                  <a:pt x="22101" y="12551"/>
                </a:moveTo>
                <a:cubicBezTo>
                  <a:pt x="22101" y="12642"/>
                  <a:pt x="22096" y="12737"/>
                  <a:pt x="22076" y="12824"/>
                </a:cubicBezTo>
                <a:cubicBezTo>
                  <a:pt x="22056" y="12914"/>
                  <a:pt x="22049" y="13009"/>
                  <a:pt x="22027" y="13097"/>
                </a:cubicBezTo>
                <a:cubicBezTo>
                  <a:pt x="22008" y="13174"/>
                  <a:pt x="21965" y="13244"/>
                  <a:pt x="21952" y="13320"/>
                </a:cubicBezTo>
                <a:cubicBezTo>
                  <a:pt x="21952" y="13383"/>
                  <a:pt x="21959" y="13389"/>
                  <a:pt x="22002" y="13295"/>
                </a:cubicBezTo>
              </a:path>
              <a:path w="11287" h="4069">
                <a:moveTo>
                  <a:pt x="22423" y="12551"/>
                </a:moveTo>
                <a:cubicBezTo>
                  <a:pt x="22416" y="12549"/>
                  <a:pt x="22349" y="12590"/>
                  <a:pt x="22324" y="12650"/>
                </a:cubicBezTo>
                <a:cubicBezTo>
                  <a:pt x="22296" y="12719"/>
                  <a:pt x="22298" y="12781"/>
                  <a:pt x="22324" y="12849"/>
                </a:cubicBezTo>
                <a:cubicBezTo>
                  <a:pt x="22374" y="12820"/>
                  <a:pt x="22433" y="12789"/>
                  <a:pt x="22448" y="12725"/>
                </a:cubicBezTo>
                <a:cubicBezTo>
                  <a:pt x="22465" y="12651"/>
                  <a:pt x="22473" y="12581"/>
                  <a:pt x="22473" y="12502"/>
                </a:cubicBezTo>
                <a:cubicBezTo>
                  <a:pt x="22473" y="12451"/>
                  <a:pt x="22473" y="12163"/>
                  <a:pt x="22473" y="12278"/>
                </a:cubicBezTo>
                <a:cubicBezTo>
                  <a:pt x="22473" y="12354"/>
                  <a:pt x="22427" y="12422"/>
                  <a:pt x="22448" y="12502"/>
                </a:cubicBezTo>
                <a:cubicBezTo>
                  <a:pt x="22461" y="12552"/>
                  <a:pt x="22495" y="12639"/>
                  <a:pt x="22523" y="12675"/>
                </a:cubicBezTo>
                <a:cubicBezTo>
                  <a:pt x="22551" y="12711"/>
                  <a:pt x="22581" y="12740"/>
                  <a:pt x="22622" y="12750"/>
                </a:cubicBezTo>
              </a:path>
              <a:path w="11287" h="4069">
                <a:moveTo>
                  <a:pt x="22051" y="12303"/>
                </a:moveTo>
                <a:cubicBezTo>
                  <a:pt x="21963" y="12232"/>
                  <a:pt x="21955" y="12284"/>
                  <a:pt x="21853" y="12303"/>
                </a:cubicBezTo>
                <a:cubicBezTo>
                  <a:pt x="21836" y="12303"/>
                  <a:pt x="21820" y="12303"/>
                  <a:pt x="21803" y="12303"/>
                </a:cubicBezTo>
              </a:path>
              <a:path w="11287" h="4069">
                <a:moveTo>
                  <a:pt x="21803" y="12452"/>
                </a:moveTo>
                <a:cubicBezTo>
                  <a:pt x="21897" y="12435"/>
                  <a:pt x="21968" y="12414"/>
                  <a:pt x="22051" y="12402"/>
                </a:cubicBezTo>
                <a:cubicBezTo>
                  <a:pt x="22010" y="12487"/>
                  <a:pt x="21965" y="12577"/>
                  <a:pt x="21903" y="12650"/>
                </a:cubicBezTo>
                <a:cubicBezTo>
                  <a:pt x="21860" y="12700"/>
                  <a:pt x="21724" y="12825"/>
                  <a:pt x="21729" y="12898"/>
                </a:cubicBezTo>
                <a:cubicBezTo>
                  <a:pt x="21737" y="12915"/>
                  <a:pt x="21746" y="12931"/>
                  <a:pt x="21754" y="12948"/>
                </a:cubicBezTo>
                <a:cubicBezTo>
                  <a:pt x="21834" y="13002"/>
                  <a:pt x="21908" y="13002"/>
                  <a:pt x="22002" y="12973"/>
                </a:cubicBezTo>
                <a:cubicBezTo>
                  <a:pt x="22050" y="12958"/>
                  <a:pt x="22114" y="12907"/>
                  <a:pt x="22151" y="12874"/>
                </a:cubicBezTo>
                <a:cubicBezTo>
                  <a:pt x="22220" y="12812"/>
                  <a:pt x="22090" y="12820"/>
                  <a:pt x="22051" y="12849"/>
                </a:cubicBezTo>
                <a:cubicBezTo>
                  <a:pt x="22043" y="12857"/>
                  <a:pt x="22035" y="12866"/>
                  <a:pt x="22027" y="12874"/>
                </a:cubicBezTo>
                <a:cubicBezTo>
                  <a:pt x="22064" y="12826"/>
                  <a:pt x="22150" y="12767"/>
                  <a:pt x="22175" y="12725"/>
                </a:cubicBezTo>
                <a:cubicBezTo>
                  <a:pt x="22236" y="12623"/>
                  <a:pt x="22250" y="12539"/>
                  <a:pt x="22250" y="12427"/>
                </a:cubicBezTo>
                <a:cubicBezTo>
                  <a:pt x="22250" y="12353"/>
                  <a:pt x="22264" y="12280"/>
                  <a:pt x="22175" y="12254"/>
                </a:cubicBezTo>
                <a:cubicBezTo>
                  <a:pt x="22105" y="12234"/>
                  <a:pt x="22047" y="12236"/>
                  <a:pt x="21977" y="12254"/>
                </a:cubicBezTo>
                <a:cubicBezTo>
                  <a:pt x="21905" y="12272"/>
                  <a:pt x="21833" y="12304"/>
                  <a:pt x="21779" y="12353"/>
                </a:cubicBezTo>
                <a:cubicBezTo>
                  <a:pt x="21771" y="12361"/>
                  <a:pt x="21762" y="12370"/>
                  <a:pt x="21754" y="12378"/>
                </a:cubicBezTo>
                <a:cubicBezTo>
                  <a:pt x="21824" y="12378"/>
                  <a:pt x="21887" y="12370"/>
                  <a:pt x="21952" y="12353"/>
                </a:cubicBezTo>
                <a:cubicBezTo>
                  <a:pt x="22029" y="12333"/>
                  <a:pt x="22103" y="12305"/>
                  <a:pt x="22175" y="12278"/>
                </a:cubicBezTo>
                <a:cubicBezTo>
                  <a:pt x="22251" y="12339"/>
                  <a:pt x="22263" y="12374"/>
                  <a:pt x="22225" y="12477"/>
                </a:cubicBezTo>
                <a:cubicBezTo>
                  <a:pt x="22190" y="12572"/>
                  <a:pt x="22122" y="12674"/>
                  <a:pt x="22101" y="12774"/>
                </a:cubicBezTo>
                <a:cubicBezTo>
                  <a:pt x="22075" y="12899"/>
                  <a:pt x="22180" y="12876"/>
                  <a:pt x="22250" y="12824"/>
                </a:cubicBezTo>
                <a:cubicBezTo>
                  <a:pt x="22295" y="12791"/>
                  <a:pt x="22334" y="12740"/>
                  <a:pt x="22374" y="12700"/>
                </a:cubicBezTo>
                <a:cubicBezTo>
                  <a:pt x="22264" y="12672"/>
                  <a:pt x="22233" y="12740"/>
                  <a:pt x="22126" y="12774"/>
                </a:cubicBezTo>
                <a:cubicBezTo>
                  <a:pt x="22074" y="12790"/>
                  <a:pt x="22062" y="12792"/>
                  <a:pt x="22027" y="12774"/>
                </a:cubicBezTo>
              </a:path>
              <a:path w="11287" h="4069">
                <a:moveTo>
                  <a:pt x="22771" y="12105"/>
                </a:moveTo>
                <a:cubicBezTo>
                  <a:pt x="22746" y="12192"/>
                  <a:pt x="22705" y="12289"/>
                  <a:pt x="22696" y="12378"/>
                </a:cubicBezTo>
                <a:cubicBezTo>
                  <a:pt x="22686" y="12479"/>
                  <a:pt x="22688" y="12934"/>
                  <a:pt x="22721" y="12923"/>
                </a:cubicBezTo>
              </a:path>
              <a:path w="11287" h="4069">
                <a:moveTo>
                  <a:pt x="22870" y="12278"/>
                </a:moveTo>
                <a:cubicBezTo>
                  <a:pt x="22906" y="12216"/>
                  <a:pt x="22926" y="12174"/>
                  <a:pt x="22994" y="12229"/>
                </a:cubicBezTo>
                <a:cubicBezTo>
                  <a:pt x="23063" y="12284"/>
                  <a:pt x="23050" y="12304"/>
                  <a:pt x="23044" y="12378"/>
                </a:cubicBezTo>
                <a:cubicBezTo>
                  <a:pt x="23036" y="12473"/>
                  <a:pt x="23001" y="12535"/>
                  <a:pt x="22969" y="12626"/>
                </a:cubicBezTo>
                <a:cubicBezTo>
                  <a:pt x="22936" y="12720"/>
                  <a:pt x="22889" y="12804"/>
                  <a:pt x="22870" y="12898"/>
                </a:cubicBezTo>
                <a:cubicBezTo>
                  <a:pt x="22971" y="12921"/>
                  <a:pt x="23025" y="12903"/>
                  <a:pt x="23093" y="12824"/>
                </a:cubicBezTo>
              </a:path>
              <a:path w="11287" h="4069">
                <a:moveTo>
                  <a:pt x="23217" y="12700"/>
                </a:moveTo>
                <a:cubicBezTo>
                  <a:pt x="23217" y="12798"/>
                  <a:pt x="23233" y="12916"/>
                  <a:pt x="23192" y="12998"/>
                </a:cubicBezTo>
              </a:path>
              <a:path w="11287" h="4069">
                <a:moveTo>
                  <a:pt x="23267" y="12303"/>
                </a:moveTo>
                <a:cubicBezTo>
                  <a:pt x="23267" y="12295"/>
                  <a:pt x="23267" y="12286"/>
                  <a:pt x="23267" y="12278"/>
                </a:cubicBezTo>
              </a:path>
              <a:path w="11287" h="4069">
                <a:moveTo>
                  <a:pt x="23366" y="12824"/>
                </a:moveTo>
                <a:cubicBezTo>
                  <a:pt x="23366" y="12841"/>
                  <a:pt x="23366" y="12857"/>
                  <a:pt x="23366" y="12874"/>
                </a:cubicBezTo>
                <a:cubicBezTo>
                  <a:pt x="23375" y="12790"/>
                  <a:pt x="23402" y="12747"/>
                  <a:pt x="23440" y="12675"/>
                </a:cubicBezTo>
                <a:cubicBezTo>
                  <a:pt x="23462" y="12633"/>
                  <a:pt x="23497" y="12522"/>
                  <a:pt x="23564" y="12526"/>
                </a:cubicBezTo>
                <a:cubicBezTo>
                  <a:pt x="23651" y="12531"/>
                  <a:pt x="23669" y="12621"/>
                  <a:pt x="23688" y="12675"/>
                </a:cubicBezTo>
                <a:cubicBezTo>
                  <a:pt x="23713" y="12744"/>
                  <a:pt x="23753" y="12780"/>
                  <a:pt x="23763" y="12849"/>
                </a:cubicBezTo>
              </a:path>
              <a:path w="11287" h="4069">
                <a:moveTo>
                  <a:pt x="22175" y="13196"/>
                </a:moveTo>
                <a:cubicBezTo>
                  <a:pt x="22303" y="13218"/>
                  <a:pt x="22417" y="13221"/>
                  <a:pt x="22547" y="13221"/>
                </a:cubicBezTo>
                <a:cubicBezTo>
                  <a:pt x="22692" y="13221"/>
                  <a:pt x="22828" y="13208"/>
                  <a:pt x="22969" y="13196"/>
                </a:cubicBezTo>
                <a:cubicBezTo>
                  <a:pt x="23082" y="13186"/>
                  <a:pt x="23204" y="13189"/>
                  <a:pt x="23316" y="13171"/>
                </a:cubicBezTo>
                <a:cubicBezTo>
                  <a:pt x="23405" y="13157"/>
                  <a:pt x="23451" y="13146"/>
                  <a:pt x="23540" y="13146"/>
                </a:cubicBezTo>
              </a:path>
              <a:path w="11287" h="4069">
                <a:moveTo>
                  <a:pt x="22547" y="13568"/>
                </a:moveTo>
                <a:cubicBezTo>
                  <a:pt x="22585" y="13720"/>
                  <a:pt x="22597" y="13813"/>
                  <a:pt x="22597" y="13965"/>
                </a:cubicBezTo>
                <a:cubicBezTo>
                  <a:pt x="22597" y="14071"/>
                  <a:pt x="22586" y="14161"/>
                  <a:pt x="22572" y="14263"/>
                </a:cubicBezTo>
                <a:cubicBezTo>
                  <a:pt x="22563" y="14327"/>
                  <a:pt x="22573" y="14403"/>
                  <a:pt x="22547" y="14461"/>
                </a:cubicBezTo>
                <a:cubicBezTo>
                  <a:pt x="22525" y="14484"/>
                  <a:pt x="22517" y="14489"/>
                  <a:pt x="22523" y="14511"/>
                </a:cubicBezTo>
              </a:path>
              <a:path w="11287" h="4069">
                <a:moveTo>
                  <a:pt x="22994" y="13667"/>
                </a:moveTo>
                <a:cubicBezTo>
                  <a:pt x="23060" y="13733"/>
                  <a:pt x="22952" y="13603"/>
                  <a:pt x="22944" y="13593"/>
                </a:cubicBezTo>
                <a:cubicBezTo>
                  <a:pt x="22920" y="13568"/>
                  <a:pt x="22912" y="13559"/>
                  <a:pt x="22895" y="13543"/>
                </a:cubicBezTo>
                <a:cubicBezTo>
                  <a:pt x="22887" y="13620"/>
                  <a:pt x="22870" y="13662"/>
                  <a:pt x="22870" y="13742"/>
                </a:cubicBezTo>
                <a:cubicBezTo>
                  <a:pt x="22870" y="13872"/>
                  <a:pt x="22881" y="13986"/>
                  <a:pt x="22895" y="14114"/>
                </a:cubicBezTo>
                <a:cubicBezTo>
                  <a:pt x="22904" y="14198"/>
                  <a:pt x="22853" y="14230"/>
                  <a:pt x="22895" y="14312"/>
                </a:cubicBezTo>
              </a:path>
              <a:path w="11287" h="4069">
                <a:moveTo>
                  <a:pt x="22796" y="14089"/>
                </a:moveTo>
                <a:cubicBezTo>
                  <a:pt x="22868" y="14089"/>
                  <a:pt x="22932" y="14086"/>
                  <a:pt x="22994" y="14064"/>
                </a:cubicBezTo>
                <a:cubicBezTo>
                  <a:pt x="23011" y="14056"/>
                  <a:pt x="23027" y="14047"/>
                  <a:pt x="23044" y="14039"/>
                </a:cubicBezTo>
              </a:path>
              <a:path w="11287" h="4069">
                <a:moveTo>
                  <a:pt x="23267" y="13643"/>
                </a:moveTo>
                <a:cubicBezTo>
                  <a:pt x="23267" y="13810"/>
                  <a:pt x="23208" y="14123"/>
                  <a:pt x="23292" y="14263"/>
                </a:cubicBezTo>
              </a:path>
              <a:path w="11287" h="4069">
                <a:moveTo>
                  <a:pt x="23168" y="14039"/>
                </a:moveTo>
                <a:cubicBezTo>
                  <a:pt x="23245" y="14001"/>
                  <a:pt x="23311" y="13969"/>
                  <a:pt x="23391" y="13940"/>
                </a:cubicBezTo>
              </a:path>
              <a:path w="11287" h="4069">
                <a:moveTo>
                  <a:pt x="18355" y="13717"/>
                </a:moveTo>
                <a:cubicBezTo>
                  <a:pt x="18411" y="13661"/>
                  <a:pt x="18455" y="13601"/>
                  <a:pt x="18504" y="13543"/>
                </a:cubicBezTo>
                <a:cubicBezTo>
                  <a:pt x="18555" y="13483"/>
                  <a:pt x="18597" y="13426"/>
                  <a:pt x="18653" y="13370"/>
                </a:cubicBezTo>
                <a:cubicBezTo>
                  <a:pt x="18731" y="13292"/>
                  <a:pt x="18816" y="13170"/>
                  <a:pt x="18876" y="13072"/>
                </a:cubicBezTo>
                <a:cubicBezTo>
                  <a:pt x="18908" y="13020"/>
                  <a:pt x="18936" y="12969"/>
                  <a:pt x="18976" y="12923"/>
                </a:cubicBezTo>
                <a:cubicBezTo>
                  <a:pt x="19022" y="12870"/>
                  <a:pt x="19056" y="12830"/>
                  <a:pt x="19124" y="12824"/>
                </a:cubicBezTo>
                <a:cubicBezTo>
                  <a:pt x="19132" y="12824"/>
                  <a:pt x="19141" y="12824"/>
                  <a:pt x="19149" y="12824"/>
                </a:cubicBezTo>
              </a:path>
              <a:path w="11287" h="4069">
                <a:moveTo>
                  <a:pt x="20241" y="14511"/>
                </a:moveTo>
                <a:cubicBezTo>
                  <a:pt x="20292" y="14446"/>
                  <a:pt x="20334" y="14396"/>
                  <a:pt x="20389" y="14337"/>
                </a:cubicBezTo>
                <a:cubicBezTo>
                  <a:pt x="20444" y="14278"/>
                  <a:pt x="20505" y="14242"/>
                  <a:pt x="20563" y="14188"/>
                </a:cubicBezTo>
                <a:cubicBezTo>
                  <a:pt x="20614" y="14141"/>
                  <a:pt x="20660" y="14107"/>
                  <a:pt x="20712" y="14064"/>
                </a:cubicBezTo>
                <a:cubicBezTo>
                  <a:pt x="20750" y="14032"/>
                  <a:pt x="20794" y="13992"/>
                  <a:pt x="20836" y="13965"/>
                </a:cubicBezTo>
                <a:cubicBezTo>
                  <a:pt x="20890" y="13930"/>
                  <a:pt x="20901" y="13923"/>
                  <a:pt x="20960" y="13915"/>
                </a:cubicBezTo>
              </a:path>
              <a:path w="11287" h="4069">
                <a:moveTo>
                  <a:pt x="20340" y="12874"/>
                </a:moveTo>
                <a:cubicBezTo>
                  <a:pt x="20396" y="12817"/>
                  <a:pt x="20454" y="12774"/>
                  <a:pt x="20513" y="12725"/>
                </a:cubicBezTo>
                <a:cubicBezTo>
                  <a:pt x="20597" y="12655"/>
                  <a:pt x="20628" y="12541"/>
                  <a:pt x="20712" y="12477"/>
                </a:cubicBezTo>
                <a:cubicBezTo>
                  <a:pt x="20770" y="12433"/>
                  <a:pt x="20844" y="12382"/>
                  <a:pt x="20886" y="12328"/>
                </a:cubicBezTo>
                <a:cubicBezTo>
                  <a:pt x="20937" y="12263"/>
                  <a:pt x="20981" y="12243"/>
                  <a:pt x="21059" y="12204"/>
                </a:cubicBezTo>
                <a:cubicBezTo>
                  <a:pt x="21102" y="12182"/>
                  <a:pt x="21138" y="12163"/>
                  <a:pt x="21183" y="12154"/>
                </a:cubicBezTo>
              </a:path>
              <a:path w="11287" h="4069">
                <a:moveTo>
                  <a:pt x="22721" y="14362"/>
                </a:moveTo>
                <a:cubicBezTo>
                  <a:pt x="22780" y="14315"/>
                  <a:pt x="22818" y="14270"/>
                  <a:pt x="22870" y="14213"/>
                </a:cubicBezTo>
                <a:cubicBezTo>
                  <a:pt x="22917" y="14162"/>
                  <a:pt x="22971" y="14081"/>
                  <a:pt x="23019" y="14039"/>
                </a:cubicBezTo>
                <a:cubicBezTo>
                  <a:pt x="23092" y="13976"/>
                  <a:pt x="23201" y="13939"/>
                  <a:pt x="23267" y="13866"/>
                </a:cubicBezTo>
                <a:cubicBezTo>
                  <a:pt x="23334" y="13792"/>
                  <a:pt x="23403" y="13726"/>
                  <a:pt x="23490" y="13667"/>
                </a:cubicBezTo>
                <a:cubicBezTo>
                  <a:pt x="23540" y="13633"/>
                  <a:pt x="23593" y="13609"/>
                  <a:pt x="23639" y="13568"/>
                </a:cubicBezTo>
                <a:cubicBezTo>
                  <a:pt x="23647" y="13560"/>
                  <a:pt x="23656" y="13551"/>
                  <a:pt x="23664" y="13543"/>
                </a:cubicBezTo>
              </a:path>
              <a:path w="11287" h="4069">
                <a:moveTo>
                  <a:pt x="23589" y="13097"/>
                </a:moveTo>
                <a:cubicBezTo>
                  <a:pt x="23684" y="13071"/>
                  <a:pt x="23727" y="13064"/>
                  <a:pt x="23812" y="13122"/>
                </a:cubicBezTo>
                <a:cubicBezTo>
                  <a:pt x="23820" y="13130"/>
                  <a:pt x="23829" y="13138"/>
                  <a:pt x="23837" y="13146"/>
                </a:cubicBezTo>
              </a:path>
              <a:path w="11287" h="4069">
                <a:moveTo>
                  <a:pt x="23664" y="13295"/>
                </a:moveTo>
                <a:cubicBezTo>
                  <a:pt x="23748" y="13312"/>
                  <a:pt x="23773" y="13295"/>
                  <a:pt x="23862" y="13295"/>
                </a:cubicBezTo>
                <a:cubicBezTo>
                  <a:pt x="23904" y="13295"/>
                  <a:pt x="23912" y="13295"/>
                  <a:pt x="23937" y="13295"/>
                </a:cubicBezTo>
              </a:path>
              <a:path w="11287" h="4069">
                <a:moveTo>
                  <a:pt x="23912" y="12551"/>
                </a:moveTo>
                <a:cubicBezTo>
                  <a:pt x="23919" y="12480"/>
                  <a:pt x="23924" y="12422"/>
                  <a:pt x="24011" y="12402"/>
                </a:cubicBezTo>
                <a:cubicBezTo>
                  <a:pt x="24086" y="12384"/>
                  <a:pt x="24174" y="12340"/>
                  <a:pt x="24259" y="12353"/>
                </a:cubicBezTo>
                <a:cubicBezTo>
                  <a:pt x="24389" y="12373"/>
                  <a:pt x="24348" y="12415"/>
                  <a:pt x="24333" y="12502"/>
                </a:cubicBezTo>
                <a:cubicBezTo>
                  <a:pt x="24322" y="12569"/>
                  <a:pt x="24295" y="12634"/>
                  <a:pt x="24284" y="12700"/>
                </a:cubicBezTo>
                <a:cubicBezTo>
                  <a:pt x="24272" y="12773"/>
                  <a:pt x="24257" y="12855"/>
                  <a:pt x="24234" y="12923"/>
                </a:cubicBezTo>
                <a:cubicBezTo>
                  <a:pt x="24210" y="12994"/>
                  <a:pt x="24188" y="13070"/>
                  <a:pt x="24185" y="13146"/>
                </a:cubicBezTo>
                <a:cubicBezTo>
                  <a:pt x="24180" y="13271"/>
                  <a:pt x="24151" y="13270"/>
                  <a:pt x="24259" y="13221"/>
                </a:cubicBezTo>
              </a:path>
              <a:path w="11287" h="4069">
                <a:moveTo>
                  <a:pt x="24457" y="12551"/>
                </a:moveTo>
                <a:cubicBezTo>
                  <a:pt x="24475" y="12452"/>
                  <a:pt x="24505" y="12382"/>
                  <a:pt x="24631" y="12402"/>
                </a:cubicBezTo>
                <a:cubicBezTo>
                  <a:pt x="24700" y="12413"/>
                  <a:pt x="24717" y="12424"/>
                  <a:pt x="24730" y="12477"/>
                </a:cubicBezTo>
              </a:path>
              <a:path w="11287" h="4069">
                <a:moveTo>
                  <a:pt x="24557" y="12923"/>
                </a:moveTo>
                <a:cubicBezTo>
                  <a:pt x="24513" y="12991"/>
                  <a:pt x="24457" y="13058"/>
                  <a:pt x="24482" y="13146"/>
                </a:cubicBezTo>
                <a:cubicBezTo>
                  <a:pt x="24504" y="13226"/>
                  <a:pt x="24577" y="13190"/>
                  <a:pt x="24631" y="13171"/>
                </a:cubicBezTo>
                <a:cubicBezTo>
                  <a:pt x="24674" y="13149"/>
                  <a:pt x="24686" y="13146"/>
                  <a:pt x="24705" y="13122"/>
                </a:cubicBezTo>
              </a:path>
              <a:path w="11287" h="4069">
                <a:moveTo>
                  <a:pt x="24780" y="12998"/>
                </a:moveTo>
                <a:cubicBezTo>
                  <a:pt x="24780" y="13084"/>
                  <a:pt x="24761" y="13161"/>
                  <a:pt x="24755" y="13246"/>
                </a:cubicBezTo>
                <a:cubicBezTo>
                  <a:pt x="24755" y="13254"/>
                  <a:pt x="24755" y="13263"/>
                  <a:pt x="24755" y="13271"/>
                </a:cubicBezTo>
              </a:path>
              <a:path w="11287" h="4069">
                <a:moveTo>
                  <a:pt x="24755" y="12675"/>
                </a:moveTo>
                <a:cubicBezTo>
                  <a:pt x="24685" y="12605"/>
                  <a:pt x="24815" y="12670"/>
                  <a:pt x="24829" y="12675"/>
                </a:cubicBezTo>
              </a:path>
              <a:path w="11287" h="4069">
                <a:moveTo>
                  <a:pt x="24854" y="13122"/>
                </a:moveTo>
                <a:cubicBezTo>
                  <a:pt x="24861" y="13051"/>
                  <a:pt x="24874" y="12957"/>
                  <a:pt x="24904" y="12898"/>
                </a:cubicBezTo>
                <a:cubicBezTo>
                  <a:pt x="24927" y="12853"/>
                  <a:pt x="25003" y="12809"/>
                  <a:pt x="25053" y="12824"/>
                </a:cubicBezTo>
                <a:cubicBezTo>
                  <a:pt x="25100" y="12838"/>
                  <a:pt x="25121" y="12937"/>
                  <a:pt x="25127" y="12973"/>
                </a:cubicBezTo>
                <a:cubicBezTo>
                  <a:pt x="25140" y="13050"/>
                  <a:pt x="25102" y="13133"/>
                  <a:pt x="25152" y="13196"/>
                </a:cubicBezTo>
                <a:cubicBezTo>
                  <a:pt x="25180" y="13224"/>
                  <a:pt x="25193" y="13233"/>
                  <a:pt x="25226" y="13221"/>
                </a:cubicBezTo>
              </a:path>
              <a:path w="11287" h="4069">
                <a:moveTo>
                  <a:pt x="18405" y="12179"/>
                </a:moveTo>
                <a:cubicBezTo>
                  <a:pt x="18335" y="12287"/>
                  <a:pt x="18268" y="12355"/>
                  <a:pt x="18231" y="12502"/>
                </a:cubicBezTo>
                <a:cubicBezTo>
                  <a:pt x="18172" y="12733"/>
                  <a:pt x="18165" y="12960"/>
                  <a:pt x="18157" y="13196"/>
                </a:cubicBezTo>
                <a:cubicBezTo>
                  <a:pt x="18178" y="13100"/>
                  <a:pt x="18188" y="12996"/>
                  <a:pt x="18207" y="12898"/>
                </a:cubicBezTo>
                <a:cubicBezTo>
                  <a:pt x="18245" y="12696"/>
                  <a:pt x="18266" y="12370"/>
                  <a:pt x="18430" y="12229"/>
                </a:cubicBezTo>
                <a:cubicBezTo>
                  <a:pt x="18478" y="12205"/>
                  <a:pt x="18492" y="12196"/>
                  <a:pt x="18529" y="12204"/>
                </a:cubicBezTo>
                <a:cubicBezTo>
                  <a:pt x="18611" y="12308"/>
                  <a:pt x="18653" y="12340"/>
                  <a:pt x="18703" y="12477"/>
                </a:cubicBezTo>
                <a:cubicBezTo>
                  <a:pt x="18760" y="12635"/>
                  <a:pt x="18750" y="12810"/>
                  <a:pt x="18777" y="12973"/>
                </a:cubicBezTo>
                <a:cubicBezTo>
                  <a:pt x="18805" y="13141"/>
                  <a:pt x="18840" y="13291"/>
                  <a:pt x="18901" y="13444"/>
                </a:cubicBezTo>
                <a:cubicBezTo>
                  <a:pt x="18957" y="13583"/>
                  <a:pt x="18947" y="13472"/>
                  <a:pt x="19000" y="13543"/>
                </a:cubicBezTo>
                <a:cubicBezTo>
                  <a:pt x="19103" y="13457"/>
                  <a:pt x="19154" y="13423"/>
                  <a:pt x="19224" y="13295"/>
                </a:cubicBezTo>
                <a:cubicBezTo>
                  <a:pt x="19358" y="13049"/>
                  <a:pt x="19377" y="12766"/>
                  <a:pt x="19571" y="12551"/>
                </a:cubicBezTo>
                <a:cubicBezTo>
                  <a:pt x="19588" y="12543"/>
                  <a:pt x="19604" y="12534"/>
                  <a:pt x="19621" y="12526"/>
                </a:cubicBezTo>
                <a:cubicBezTo>
                  <a:pt x="19743" y="12714"/>
                  <a:pt x="19840" y="12879"/>
                  <a:pt x="19893" y="13122"/>
                </a:cubicBezTo>
                <a:cubicBezTo>
                  <a:pt x="19950" y="13381"/>
                  <a:pt x="19980" y="13621"/>
                  <a:pt x="20092" y="13866"/>
                </a:cubicBezTo>
                <a:cubicBezTo>
                  <a:pt x="20151" y="13995"/>
                  <a:pt x="20146" y="13945"/>
                  <a:pt x="20216" y="14015"/>
                </a:cubicBezTo>
                <a:cubicBezTo>
                  <a:pt x="20288" y="13932"/>
                  <a:pt x="20345" y="13888"/>
                  <a:pt x="20389" y="13742"/>
                </a:cubicBezTo>
                <a:cubicBezTo>
                  <a:pt x="20451" y="13538"/>
                  <a:pt x="20504" y="13328"/>
                  <a:pt x="20563" y="13122"/>
                </a:cubicBezTo>
                <a:cubicBezTo>
                  <a:pt x="20618" y="12932"/>
                  <a:pt x="20683" y="12750"/>
                  <a:pt x="20811" y="12601"/>
                </a:cubicBezTo>
                <a:cubicBezTo>
                  <a:pt x="20891" y="12508"/>
                  <a:pt x="20930" y="12501"/>
                  <a:pt x="21034" y="12526"/>
                </a:cubicBezTo>
                <a:cubicBezTo>
                  <a:pt x="21160" y="12556"/>
                  <a:pt x="21225" y="12748"/>
                  <a:pt x="21258" y="12849"/>
                </a:cubicBezTo>
                <a:cubicBezTo>
                  <a:pt x="21336" y="13091"/>
                  <a:pt x="21344" y="13347"/>
                  <a:pt x="21406" y="13593"/>
                </a:cubicBezTo>
                <a:cubicBezTo>
                  <a:pt x="21435" y="13709"/>
                  <a:pt x="21468" y="13692"/>
                  <a:pt x="21506" y="13767"/>
                </a:cubicBezTo>
                <a:cubicBezTo>
                  <a:pt x="21593" y="13701"/>
                  <a:pt x="21625" y="13670"/>
                  <a:pt x="21704" y="13568"/>
                </a:cubicBezTo>
                <a:cubicBezTo>
                  <a:pt x="21836" y="13398"/>
                  <a:pt x="21886" y="13169"/>
                  <a:pt x="21977" y="12973"/>
                </a:cubicBezTo>
                <a:cubicBezTo>
                  <a:pt x="22052" y="12811"/>
                  <a:pt x="22129" y="12655"/>
                  <a:pt x="22275" y="12551"/>
                </a:cubicBezTo>
                <a:cubicBezTo>
                  <a:pt x="22340" y="12505"/>
                  <a:pt x="22424" y="12471"/>
                  <a:pt x="22498" y="12526"/>
                </a:cubicBezTo>
                <a:cubicBezTo>
                  <a:pt x="22584" y="12590"/>
                  <a:pt x="22634" y="12797"/>
                  <a:pt x="22647" y="12898"/>
                </a:cubicBezTo>
                <a:cubicBezTo>
                  <a:pt x="22667" y="13056"/>
                  <a:pt x="22666" y="13216"/>
                  <a:pt x="22721" y="13370"/>
                </a:cubicBezTo>
                <a:cubicBezTo>
                  <a:pt x="22743" y="13459"/>
                  <a:pt x="22744" y="13484"/>
                  <a:pt x="22796" y="13519"/>
                </a:cubicBezTo>
                <a:cubicBezTo>
                  <a:pt x="22877" y="13463"/>
                  <a:pt x="22982" y="13458"/>
                  <a:pt x="23068" y="13345"/>
                </a:cubicBezTo>
                <a:cubicBezTo>
                  <a:pt x="23194" y="13179"/>
                  <a:pt x="23232" y="12934"/>
                  <a:pt x="23440" y="12824"/>
                </a:cubicBezTo>
                <a:cubicBezTo>
                  <a:pt x="23506" y="12824"/>
                  <a:pt x="23523" y="12824"/>
                  <a:pt x="23564" y="12824"/>
                </a:cubicBezTo>
                <a:cubicBezTo>
                  <a:pt x="23613" y="12902"/>
                  <a:pt x="23660" y="12925"/>
                  <a:pt x="23688" y="13022"/>
                </a:cubicBezTo>
                <a:cubicBezTo>
                  <a:pt x="23716" y="13118"/>
                  <a:pt x="23715" y="13224"/>
                  <a:pt x="23763" y="13320"/>
                </a:cubicBezTo>
                <a:cubicBezTo>
                  <a:pt x="23790" y="13374"/>
                  <a:pt x="23801" y="13394"/>
                  <a:pt x="23837" y="13419"/>
                </a:cubicBezTo>
              </a:path>
              <a:path w="11287" h="4069">
                <a:moveTo>
                  <a:pt x="14163" y="14263"/>
                </a:moveTo>
                <a:cubicBezTo>
                  <a:pt x="14223" y="14203"/>
                  <a:pt x="14197" y="14279"/>
                  <a:pt x="14163" y="14312"/>
                </a:cubicBezTo>
              </a:path>
              <a:path w="11287" h="4069">
                <a:moveTo>
                  <a:pt x="14833" y="13246"/>
                </a:moveTo>
                <a:cubicBezTo>
                  <a:pt x="14799" y="13340"/>
                  <a:pt x="14743" y="13428"/>
                  <a:pt x="14709" y="13519"/>
                </a:cubicBezTo>
                <a:cubicBezTo>
                  <a:pt x="14656" y="13659"/>
                  <a:pt x="14558" y="13815"/>
                  <a:pt x="14536" y="13965"/>
                </a:cubicBezTo>
                <a:cubicBezTo>
                  <a:pt x="14525" y="14044"/>
                  <a:pt x="14533" y="14105"/>
                  <a:pt x="14585" y="14163"/>
                </a:cubicBezTo>
                <a:cubicBezTo>
                  <a:pt x="14629" y="14211"/>
                  <a:pt x="14732" y="14198"/>
                  <a:pt x="14784" y="14163"/>
                </a:cubicBezTo>
                <a:cubicBezTo>
                  <a:pt x="14875" y="14101"/>
                  <a:pt x="14923" y="14059"/>
                  <a:pt x="14982" y="13965"/>
                </a:cubicBezTo>
                <a:cubicBezTo>
                  <a:pt x="15038" y="13877"/>
                  <a:pt x="15038" y="13825"/>
                  <a:pt x="14982" y="13742"/>
                </a:cubicBezTo>
                <a:cubicBezTo>
                  <a:pt x="14897" y="13791"/>
                  <a:pt x="14835" y="13854"/>
                  <a:pt x="14784" y="13940"/>
                </a:cubicBezTo>
                <a:cubicBezTo>
                  <a:pt x="14747" y="14002"/>
                  <a:pt x="14738" y="14117"/>
                  <a:pt x="14808" y="14163"/>
                </a:cubicBezTo>
                <a:cubicBezTo>
                  <a:pt x="14816" y="14163"/>
                  <a:pt x="14825" y="14163"/>
                  <a:pt x="14833" y="14163"/>
                </a:cubicBezTo>
              </a:path>
              <a:path w="11287" h="4069">
                <a:moveTo>
                  <a:pt x="15354" y="13295"/>
                </a:moveTo>
                <a:cubicBezTo>
                  <a:pt x="15482" y="13252"/>
                  <a:pt x="15642" y="13188"/>
                  <a:pt x="15776" y="13171"/>
                </a:cubicBezTo>
                <a:cubicBezTo>
                  <a:pt x="15844" y="13171"/>
                  <a:pt x="15863" y="13174"/>
                  <a:pt x="15900" y="13146"/>
                </a:cubicBezTo>
              </a:path>
              <a:path w="11287" h="4069">
                <a:moveTo>
                  <a:pt x="15503" y="13246"/>
                </a:moveTo>
                <a:cubicBezTo>
                  <a:pt x="15412" y="13323"/>
                  <a:pt x="15373" y="13378"/>
                  <a:pt x="15304" y="13469"/>
                </a:cubicBezTo>
                <a:cubicBezTo>
                  <a:pt x="15270" y="13513"/>
                  <a:pt x="15203" y="13565"/>
                  <a:pt x="15255" y="13618"/>
                </a:cubicBezTo>
                <a:cubicBezTo>
                  <a:pt x="15318" y="13682"/>
                  <a:pt x="15426" y="13620"/>
                  <a:pt x="15503" y="13667"/>
                </a:cubicBezTo>
                <a:cubicBezTo>
                  <a:pt x="15580" y="13714"/>
                  <a:pt x="15597" y="13755"/>
                  <a:pt x="15627" y="13841"/>
                </a:cubicBezTo>
                <a:cubicBezTo>
                  <a:pt x="15664" y="13946"/>
                  <a:pt x="15658" y="14034"/>
                  <a:pt x="15627" y="14139"/>
                </a:cubicBezTo>
                <a:cubicBezTo>
                  <a:pt x="15592" y="14257"/>
                  <a:pt x="15566" y="14288"/>
                  <a:pt x="15478" y="14362"/>
                </a:cubicBezTo>
                <a:cubicBezTo>
                  <a:pt x="15398" y="14430"/>
                  <a:pt x="15356" y="14433"/>
                  <a:pt x="15255" y="14461"/>
                </a:cubicBezTo>
              </a:path>
              <a:path w="11287" h="4069">
                <a:moveTo>
                  <a:pt x="13990" y="14585"/>
                </a:moveTo>
                <a:cubicBezTo>
                  <a:pt x="14101" y="14623"/>
                  <a:pt x="14217" y="14610"/>
                  <a:pt x="14337" y="14610"/>
                </a:cubicBezTo>
                <a:cubicBezTo>
                  <a:pt x="14569" y="14610"/>
                  <a:pt x="14798" y="14635"/>
                  <a:pt x="15032" y="14635"/>
                </a:cubicBezTo>
                <a:cubicBezTo>
                  <a:pt x="15342" y="14635"/>
                  <a:pt x="15668" y="14665"/>
                  <a:pt x="15974" y="14709"/>
                </a:cubicBezTo>
                <a:cubicBezTo>
                  <a:pt x="16072" y="14723"/>
                  <a:pt x="16311" y="14695"/>
                  <a:pt x="16396" y="14734"/>
                </a:cubicBezTo>
                <a:cubicBezTo>
                  <a:pt x="16419" y="14757"/>
                  <a:pt x="16430" y="14765"/>
                  <a:pt x="16396" y="14759"/>
                </a:cubicBezTo>
              </a:path>
              <a:path w="11287" h="4069">
                <a:moveTo>
                  <a:pt x="14263" y="15081"/>
                </a:moveTo>
                <a:cubicBezTo>
                  <a:pt x="14295" y="15198"/>
                  <a:pt x="14271" y="15237"/>
                  <a:pt x="14238" y="15354"/>
                </a:cubicBezTo>
                <a:cubicBezTo>
                  <a:pt x="14205" y="15469"/>
                  <a:pt x="14182" y="15590"/>
                  <a:pt x="14139" y="15701"/>
                </a:cubicBezTo>
                <a:cubicBezTo>
                  <a:pt x="14109" y="15779"/>
                  <a:pt x="14060" y="15879"/>
                  <a:pt x="14015" y="15949"/>
                </a:cubicBezTo>
                <a:cubicBezTo>
                  <a:pt x="13989" y="15989"/>
                  <a:pt x="13960" y="16064"/>
                  <a:pt x="13940" y="16024"/>
                </a:cubicBezTo>
              </a:path>
              <a:path w="11287" h="4069">
                <a:moveTo>
                  <a:pt x="14908" y="15131"/>
                </a:moveTo>
                <a:cubicBezTo>
                  <a:pt x="14847" y="15064"/>
                  <a:pt x="14841" y="15003"/>
                  <a:pt x="14734" y="15032"/>
                </a:cubicBezTo>
                <a:cubicBezTo>
                  <a:pt x="14690" y="15044"/>
                  <a:pt x="14604" y="15156"/>
                  <a:pt x="14610" y="15205"/>
                </a:cubicBezTo>
                <a:cubicBezTo>
                  <a:pt x="14634" y="15396"/>
                  <a:pt x="14717" y="15583"/>
                  <a:pt x="14734" y="15776"/>
                </a:cubicBezTo>
                <a:cubicBezTo>
                  <a:pt x="14744" y="15893"/>
                  <a:pt x="14759" y="16041"/>
                  <a:pt x="14660" y="16123"/>
                </a:cubicBezTo>
                <a:cubicBezTo>
                  <a:pt x="14594" y="16178"/>
                  <a:pt x="14527" y="16178"/>
                  <a:pt x="14461" y="16123"/>
                </a:cubicBezTo>
                <a:cubicBezTo>
                  <a:pt x="14390" y="16065"/>
                  <a:pt x="14387" y="16036"/>
                  <a:pt x="14387" y="15949"/>
                </a:cubicBezTo>
                <a:cubicBezTo>
                  <a:pt x="14387" y="15849"/>
                  <a:pt x="14434" y="15765"/>
                  <a:pt x="14511" y="15701"/>
                </a:cubicBezTo>
                <a:cubicBezTo>
                  <a:pt x="14608" y="15621"/>
                  <a:pt x="14732" y="15579"/>
                  <a:pt x="14833" y="15503"/>
                </a:cubicBezTo>
                <a:cubicBezTo>
                  <a:pt x="14948" y="15416"/>
                  <a:pt x="15012" y="15368"/>
                  <a:pt x="15131" y="15304"/>
                </a:cubicBezTo>
                <a:cubicBezTo>
                  <a:pt x="15181" y="15277"/>
                  <a:pt x="15199" y="15285"/>
                  <a:pt x="15230" y="15280"/>
                </a:cubicBezTo>
                <a:cubicBezTo>
                  <a:pt x="15219" y="15368"/>
                  <a:pt x="15169" y="15422"/>
                  <a:pt x="15131" y="15503"/>
                </a:cubicBezTo>
                <a:cubicBezTo>
                  <a:pt x="15092" y="15585"/>
                  <a:pt x="15042" y="15683"/>
                  <a:pt x="15056" y="15776"/>
                </a:cubicBezTo>
                <a:cubicBezTo>
                  <a:pt x="15071" y="15879"/>
                  <a:pt x="15135" y="16019"/>
                  <a:pt x="15230" y="16073"/>
                </a:cubicBezTo>
                <a:cubicBezTo>
                  <a:pt x="15306" y="16116"/>
                  <a:pt x="15427" y="16109"/>
                  <a:pt x="15503" y="16073"/>
                </a:cubicBezTo>
                <a:cubicBezTo>
                  <a:pt x="15610" y="16021"/>
                  <a:pt x="15732" y="15873"/>
                  <a:pt x="15751" y="15751"/>
                </a:cubicBezTo>
                <a:cubicBezTo>
                  <a:pt x="15768" y="15643"/>
                  <a:pt x="15800" y="15508"/>
                  <a:pt x="15751" y="15404"/>
                </a:cubicBezTo>
                <a:cubicBezTo>
                  <a:pt x="15698" y="15291"/>
                  <a:pt x="15602" y="15263"/>
                  <a:pt x="15503" y="15205"/>
                </a:cubicBezTo>
              </a:path>
              <a:path w="11287" h="4069">
                <a:moveTo>
                  <a:pt x="14039" y="14089"/>
                </a:moveTo>
                <a:cubicBezTo>
                  <a:pt x="14067" y="14144"/>
                  <a:pt x="14066" y="14207"/>
                  <a:pt x="14089" y="14263"/>
                </a:cubicBezTo>
                <a:cubicBezTo>
                  <a:pt x="14118" y="14334"/>
                  <a:pt x="14136" y="14403"/>
                  <a:pt x="14188" y="14461"/>
                </a:cubicBezTo>
                <a:cubicBezTo>
                  <a:pt x="14222" y="14499"/>
                  <a:pt x="14296" y="14528"/>
                  <a:pt x="14337" y="14536"/>
                </a:cubicBezTo>
                <a:cubicBezTo>
                  <a:pt x="14403" y="14549"/>
                  <a:pt x="14484" y="14538"/>
                  <a:pt x="14536" y="14511"/>
                </a:cubicBezTo>
                <a:cubicBezTo>
                  <a:pt x="14610" y="14473"/>
                  <a:pt x="14697" y="14442"/>
                  <a:pt x="14759" y="14387"/>
                </a:cubicBezTo>
                <a:cubicBezTo>
                  <a:pt x="14800" y="14351"/>
                  <a:pt x="14759" y="14261"/>
                  <a:pt x="14784" y="14387"/>
                </a:cubicBezTo>
              </a:path>
              <a:path w="11287" h="4069">
                <a:moveTo>
                  <a:pt x="14536" y="14238"/>
                </a:moveTo>
                <a:cubicBezTo>
                  <a:pt x="14584" y="14238"/>
                  <a:pt x="14727" y="14211"/>
                  <a:pt x="14759" y="14263"/>
                </a:cubicBezTo>
                <a:cubicBezTo>
                  <a:pt x="14787" y="14308"/>
                  <a:pt x="14786" y="14340"/>
                  <a:pt x="14833" y="14387"/>
                </a:cubicBezTo>
              </a:path>
              <a:path w="11287" h="4069">
                <a:moveTo>
                  <a:pt x="14734" y="14312"/>
                </a:moveTo>
                <a:cubicBezTo>
                  <a:pt x="14745" y="14386"/>
                  <a:pt x="14777" y="14405"/>
                  <a:pt x="14833" y="14461"/>
                </a:cubicBezTo>
                <a:cubicBezTo>
                  <a:pt x="14883" y="14511"/>
                  <a:pt x="14989" y="14486"/>
                  <a:pt x="15056" y="14486"/>
                </a:cubicBezTo>
                <a:cubicBezTo>
                  <a:pt x="15161" y="14486"/>
                  <a:pt x="15256" y="14498"/>
                  <a:pt x="15354" y="14511"/>
                </a:cubicBezTo>
                <a:cubicBezTo>
                  <a:pt x="15422" y="14520"/>
                  <a:pt x="15486" y="14529"/>
                  <a:pt x="15503" y="14461"/>
                </a:cubicBezTo>
              </a:path>
              <a:path w="11287" h="4069">
                <a:moveTo>
                  <a:pt x="15379" y="14387"/>
                </a:moveTo>
                <a:cubicBezTo>
                  <a:pt x="15445" y="14452"/>
                  <a:pt x="15499" y="14436"/>
                  <a:pt x="15602" y="14436"/>
                </a:cubicBezTo>
                <a:cubicBezTo>
                  <a:pt x="15699" y="14436"/>
                  <a:pt x="15654" y="14478"/>
                  <a:pt x="15701" y="14536"/>
                </a:cubicBezTo>
                <a:cubicBezTo>
                  <a:pt x="15726" y="14560"/>
                  <a:pt x="15735" y="14568"/>
                  <a:pt x="15751" y="14585"/>
                </a:cubicBezTo>
              </a:path>
              <a:path w="11287" h="4069">
                <a:moveTo>
                  <a:pt x="16545" y="14585"/>
                </a:moveTo>
                <a:cubicBezTo>
                  <a:pt x="16639" y="14623"/>
                  <a:pt x="16657" y="14616"/>
                  <a:pt x="16694" y="14660"/>
                </a:cubicBezTo>
              </a:path>
              <a:path w="11287" h="4069">
                <a:moveTo>
                  <a:pt x="16520" y="14883"/>
                </a:moveTo>
                <a:cubicBezTo>
                  <a:pt x="16622" y="14930"/>
                  <a:pt x="16683" y="14957"/>
                  <a:pt x="16793" y="14957"/>
                </a:cubicBezTo>
              </a:path>
              <a:path w="11287" h="4069">
                <a:moveTo>
                  <a:pt x="17289" y="13891"/>
                </a:moveTo>
                <a:cubicBezTo>
                  <a:pt x="17251" y="13994"/>
                  <a:pt x="17201" y="14072"/>
                  <a:pt x="17140" y="14163"/>
                </a:cubicBezTo>
                <a:cubicBezTo>
                  <a:pt x="17084" y="14247"/>
                  <a:pt x="17045" y="14334"/>
                  <a:pt x="17041" y="14436"/>
                </a:cubicBezTo>
                <a:cubicBezTo>
                  <a:pt x="17038" y="14504"/>
                  <a:pt x="17033" y="14607"/>
                  <a:pt x="17090" y="14660"/>
                </a:cubicBezTo>
                <a:cubicBezTo>
                  <a:pt x="17153" y="14718"/>
                  <a:pt x="17256" y="14724"/>
                  <a:pt x="17338" y="14709"/>
                </a:cubicBezTo>
                <a:cubicBezTo>
                  <a:pt x="17394" y="14699"/>
                  <a:pt x="17470" y="14623"/>
                  <a:pt x="17512" y="14585"/>
                </a:cubicBezTo>
                <a:cubicBezTo>
                  <a:pt x="17520" y="14577"/>
                  <a:pt x="17529" y="14568"/>
                  <a:pt x="17537" y="14560"/>
                </a:cubicBezTo>
                <a:cubicBezTo>
                  <a:pt x="17474" y="14483"/>
                  <a:pt x="17502" y="14475"/>
                  <a:pt x="17413" y="14486"/>
                </a:cubicBezTo>
                <a:cubicBezTo>
                  <a:pt x="17323" y="14497"/>
                  <a:pt x="17314" y="14544"/>
                  <a:pt x="17264" y="14610"/>
                </a:cubicBezTo>
                <a:cubicBezTo>
                  <a:pt x="17212" y="14679"/>
                  <a:pt x="17286" y="14706"/>
                  <a:pt x="17338" y="14684"/>
                </a:cubicBezTo>
              </a:path>
              <a:path w="11287" h="4069">
                <a:moveTo>
                  <a:pt x="17735" y="14139"/>
                </a:moveTo>
                <a:cubicBezTo>
                  <a:pt x="17823" y="14115"/>
                  <a:pt x="17891" y="14114"/>
                  <a:pt x="17983" y="14114"/>
                </a:cubicBezTo>
                <a:cubicBezTo>
                  <a:pt x="18041" y="14114"/>
                  <a:pt x="18066" y="14114"/>
                  <a:pt x="18107" y="14114"/>
                </a:cubicBezTo>
              </a:path>
              <a:path w="11287" h="4069">
                <a:moveTo>
                  <a:pt x="17636" y="14213"/>
                </a:moveTo>
                <a:cubicBezTo>
                  <a:pt x="17643" y="14269"/>
                  <a:pt x="17665" y="14347"/>
                  <a:pt x="17711" y="14387"/>
                </a:cubicBezTo>
                <a:cubicBezTo>
                  <a:pt x="17779" y="14446"/>
                  <a:pt x="17884" y="14458"/>
                  <a:pt x="17959" y="14511"/>
                </a:cubicBezTo>
                <a:cubicBezTo>
                  <a:pt x="17999" y="14540"/>
                  <a:pt x="18048" y="14634"/>
                  <a:pt x="18033" y="14684"/>
                </a:cubicBezTo>
                <a:cubicBezTo>
                  <a:pt x="18002" y="14782"/>
                  <a:pt x="17922" y="14780"/>
                  <a:pt x="17835" y="14784"/>
                </a:cubicBezTo>
                <a:cubicBezTo>
                  <a:pt x="17769" y="14787"/>
                  <a:pt x="17702" y="14784"/>
                  <a:pt x="17636" y="14784"/>
                </a:cubicBezTo>
              </a:path>
              <a:path w="11287" h="4069">
                <a:moveTo>
                  <a:pt x="17016" y="14883"/>
                </a:moveTo>
                <a:cubicBezTo>
                  <a:pt x="17103" y="14916"/>
                  <a:pt x="17200" y="14921"/>
                  <a:pt x="17289" y="14957"/>
                </a:cubicBezTo>
                <a:cubicBezTo>
                  <a:pt x="17449" y="15021"/>
                  <a:pt x="17638" y="15073"/>
                  <a:pt x="17810" y="15106"/>
                </a:cubicBezTo>
                <a:cubicBezTo>
                  <a:pt x="18050" y="15152"/>
                  <a:pt x="18286" y="15156"/>
                  <a:pt x="18529" y="15156"/>
                </a:cubicBezTo>
                <a:cubicBezTo>
                  <a:pt x="18805" y="15156"/>
                  <a:pt x="19074" y="15150"/>
                  <a:pt x="19348" y="15131"/>
                </a:cubicBezTo>
                <a:cubicBezTo>
                  <a:pt x="19417" y="15126"/>
                  <a:pt x="19490" y="15114"/>
                  <a:pt x="19546" y="15106"/>
                </a:cubicBezTo>
                <a:cubicBezTo>
                  <a:pt x="19596" y="15106"/>
                  <a:pt x="19613" y="15106"/>
                  <a:pt x="19546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483240" y="4402080"/>
            <a:ext cx="1054080" cy="5461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18083" y="12601"/>
                </a:moveTo>
                <a:cubicBezTo>
                  <a:pt x="18061" y="12557"/>
                  <a:pt x="18079" y="12530"/>
                  <a:pt x="18107" y="12477"/>
                </a:cubicBezTo>
                <a:cubicBezTo>
                  <a:pt x="18133" y="12427"/>
                  <a:pt x="18169" y="12345"/>
                  <a:pt x="18231" y="12353"/>
                </a:cubicBezTo>
                <a:cubicBezTo>
                  <a:pt x="18320" y="12365"/>
                  <a:pt x="18365" y="12446"/>
                  <a:pt x="18380" y="12526"/>
                </a:cubicBezTo>
                <a:cubicBezTo>
                  <a:pt x="18407" y="12668"/>
                  <a:pt x="18376" y="12839"/>
                  <a:pt x="18355" y="12973"/>
                </a:cubicBezTo>
                <a:cubicBezTo>
                  <a:pt x="18343" y="13050"/>
                  <a:pt x="18315" y="13131"/>
                  <a:pt x="18281" y="13196"/>
                </a:cubicBezTo>
                <a:cubicBezTo>
                  <a:pt x="18256" y="13243"/>
                  <a:pt x="18211" y="13306"/>
                  <a:pt x="18157" y="13320"/>
                </a:cubicBezTo>
                <a:cubicBezTo>
                  <a:pt x="18114" y="13331"/>
                  <a:pt x="18024" y="13326"/>
                  <a:pt x="18008" y="13271"/>
                </a:cubicBezTo>
                <a:cubicBezTo>
                  <a:pt x="17990" y="13210"/>
                  <a:pt x="18014" y="13092"/>
                  <a:pt x="18058" y="13047"/>
                </a:cubicBezTo>
                <a:cubicBezTo>
                  <a:pt x="18116" y="12988"/>
                  <a:pt x="18165" y="13029"/>
                  <a:pt x="18207" y="13072"/>
                </a:cubicBezTo>
                <a:cubicBezTo>
                  <a:pt x="18243" y="13109"/>
                  <a:pt x="18272" y="13178"/>
                  <a:pt x="18281" y="13221"/>
                </a:cubicBezTo>
                <a:cubicBezTo>
                  <a:pt x="18290" y="13266"/>
                  <a:pt x="18281" y="13324"/>
                  <a:pt x="18281" y="13370"/>
                </a:cubicBezTo>
              </a:path>
              <a:path w="2928" h="1514">
                <a:moveTo>
                  <a:pt x="18554" y="12998"/>
                </a:moveTo>
                <a:cubicBezTo>
                  <a:pt x="18563" y="13068"/>
                  <a:pt x="18612" y="13111"/>
                  <a:pt x="18628" y="13171"/>
                </a:cubicBezTo>
                <a:cubicBezTo>
                  <a:pt x="18646" y="13241"/>
                  <a:pt x="18649" y="13267"/>
                  <a:pt x="18703" y="13320"/>
                </a:cubicBezTo>
              </a:path>
              <a:path w="2928" h="1514">
                <a:moveTo>
                  <a:pt x="18752" y="12923"/>
                </a:moveTo>
                <a:cubicBezTo>
                  <a:pt x="18752" y="13045"/>
                  <a:pt x="18741" y="13154"/>
                  <a:pt x="18728" y="13271"/>
                </a:cubicBezTo>
                <a:cubicBezTo>
                  <a:pt x="18719" y="13348"/>
                  <a:pt x="18727" y="13422"/>
                  <a:pt x="18703" y="13494"/>
                </a:cubicBezTo>
                <a:cubicBezTo>
                  <a:pt x="18682" y="13557"/>
                  <a:pt x="18643" y="13627"/>
                  <a:pt x="18628" y="13692"/>
                </a:cubicBezTo>
                <a:cubicBezTo>
                  <a:pt x="18628" y="13709"/>
                  <a:pt x="18628" y="13725"/>
                  <a:pt x="18628" y="13742"/>
                </a:cubicBezTo>
              </a:path>
              <a:path w="2928" h="1514">
                <a:moveTo>
                  <a:pt x="18976" y="12874"/>
                </a:moveTo>
                <a:cubicBezTo>
                  <a:pt x="18938" y="12930"/>
                  <a:pt x="18921" y="12933"/>
                  <a:pt x="18926" y="12973"/>
                </a:cubicBezTo>
              </a:path>
              <a:path w="2928" h="1514">
                <a:moveTo>
                  <a:pt x="18926" y="13395"/>
                </a:moveTo>
                <a:cubicBezTo>
                  <a:pt x="18979" y="13351"/>
                  <a:pt x="18996" y="13321"/>
                  <a:pt x="19000" y="13246"/>
                </a:cubicBezTo>
                <a:cubicBezTo>
                  <a:pt x="19005" y="13157"/>
                  <a:pt x="19014" y="13111"/>
                  <a:pt x="19000" y="13022"/>
                </a:cubicBezTo>
                <a:cubicBezTo>
                  <a:pt x="18988" y="12947"/>
                  <a:pt x="18993" y="12873"/>
                  <a:pt x="18976" y="12799"/>
                </a:cubicBezTo>
                <a:cubicBezTo>
                  <a:pt x="18963" y="12742"/>
                  <a:pt x="18953" y="12695"/>
                  <a:pt x="18926" y="12650"/>
                </a:cubicBezTo>
                <a:cubicBezTo>
                  <a:pt x="18952" y="12718"/>
                  <a:pt x="18965" y="12801"/>
                  <a:pt x="18976" y="12874"/>
                </a:cubicBezTo>
                <a:cubicBezTo>
                  <a:pt x="18988" y="12956"/>
                  <a:pt x="18986" y="12973"/>
                  <a:pt x="19025" y="13047"/>
                </a:cubicBezTo>
                <a:cubicBezTo>
                  <a:pt x="19057" y="13107"/>
                  <a:pt x="19065" y="13140"/>
                  <a:pt x="19100" y="13196"/>
                </a:cubicBezTo>
                <a:cubicBezTo>
                  <a:pt x="19132" y="13247"/>
                  <a:pt x="19121" y="13258"/>
                  <a:pt x="19174" y="13271"/>
                </a:cubicBezTo>
              </a:path>
              <a:path w="2928" h="1514">
                <a:moveTo>
                  <a:pt x="19472" y="13196"/>
                </a:moveTo>
                <a:cubicBezTo>
                  <a:pt x="19354" y="13167"/>
                  <a:pt x="19479" y="13272"/>
                  <a:pt x="19472" y="13221"/>
                </a:cubicBezTo>
                <a:cubicBezTo>
                  <a:pt x="19453" y="13085"/>
                  <a:pt x="19403" y="13407"/>
                  <a:pt x="19496" y="13246"/>
                </a:cubicBezTo>
                <a:cubicBezTo>
                  <a:pt x="19496" y="13196"/>
                  <a:pt x="19496" y="13180"/>
                  <a:pt x="19447" y="13196"/>
                </a:cubicBezTo>
                <a:cubicBezTo>
                  <a:pt x="19417" y="13249"/>
                  <a:pt x="19532" y="13209"/>
                  <a:pt x="19472" y="13221"/>
                </a:cubicBezTo>
                <a:cubicBezTo>
                  <a:pt x="19428" y="13243"/>
                  <a:pt x="19416" y="13246"/>
                  <a:pt x="19397" y="13271"/>
                </a:cubicBezTo>
              </a:path>
              <a:path w="2928" h="1514">
                <a:moveTo>
                  <a:pt x="19769" y="12353"/>
                </a:moveTo>
                <a:cubicBezTo>
                  <a:pt x="19769" y="12361"/>
                  <a:pt x="19769" y="12370"/>
                  <a:pt x="19769" y="12378"/>
                </a:cubicBezTo>
              </a:path>
              <a:path w="2928" h="1514">
                <a:moveTo>
                  <a:pt x="19769" y="12353"/>
                </a:moveTo>
                <a:cubicBezTo>
                  <a:pt x="19820" y="12302"/>
                  <a:pt x="19868" y="12268"/>
                  <a:pt x="19943" y="12254"/>
                </a:cubicBezTo>
                <a:cubicBezTo>
                  <a:pt x="20027" y="12238"/>
                  <a:pt x="20133" y="12248"/>
                  <a:pt x="20141" y="12353"/>
                </a:cubicBezTo>
                <a:cubicBezTo>
                  <a:pt x="20143" y="12387"/>
                  <a:pt x="20095" y="12472"/>
                  <a:pt x="20067" y="12502"/>
                </a:cubicBezTo>
                <a:cubicBezTo>
                  <a:pt x="20017" y="12555"/>
                  <a:pt x="19975" y="12585"/>
                  <a:pt x="19918" y="12626"/>
                </a:cubicBezTo>
                <a:cubicBezTo>
                  <a:pt x="19910" y="12634"/>
                  <a:pt x="19901" y="12642"/>
                  <a:pt x="19893" y="12650"/>
                </a:cubicBezTo>
                <a:cubicBezTo>
                  <a:pt x="19944" y="12701"/>
                  <a:pt x="19977" y="12696"/>
                  <a:pt x="20042" y="12725"/>
                </a:cubicBezTo>
                <a:cubicBezTo>
                  <a:pt x="20099" y="12751"/>
                  <a:pt x="20163" y="12799"/>
                  <a:pt x="20141" y="12874"/>
                </a:cubicBezTo>
                <a:cubicBezTo>
                  <a:pt x="20123" y="12935"/>
                  <a:pt x="20063" y="12964"/>
                  <a:pt x="20017" y="12998"/>
                </a:cubicBezTo>
                <a:cubicBezTo>
                  <a:pt x="20007" y="13006"/>
                  <a:pt x="19880" y="13068"/>
                  <a:pt x="19869" y="13047"/>
                </a:cubicBezTo>
                <a:cubicBezTo>
                  <a:pt x="19869" y="13022"/>
                  <a:pt x="19869" y="12998"/>
                  <a:pt x="19869" y="12973"/>
                </a:cubicBezTo>
              </a:path>
              <a:path w="2928" h="1514">
                <a:moveTo>
                  <a:pt x="20489" y="12303"/>
                </a:moveTo>
                <a:cubicBezTo>
                  <a:pt x="20455" y="12270"/>
                  <a:pt x="20421" y="12210"/>
                  <a:pt x="20365" y="12229"/>
                </a:cubicBezTo>
                <a:cubicBezTo>
                  <a:pt x="20307" y="12248"/>
                  <a:pt x="20293" y="12330"/>
                  <a:pt x="20290" y="12378"/>
                </a:cubicBezTo>
                <a:cubicBezTo>
                  <a:pt x="20284" y="12482"/>
                  <a:pt x="20300" y="12578"/>
                  <a:pt x="20315" y="12675"/>
                </a:cubicBezTo>
                <a:cubicBezTo>
                  <a:pt x="20328" y="12755"/>
                  <a:pt x="20348" y="12835"/>
                  <a:pt x="20340" y="12898"/>
                </a:cubicBezTo>
                <a:cubicBezTo>
                  <a:pt x="20332" y="12958"/>
                  <a:pt x="20345" y="12959"/>
                  <a:pt x="20290" y="12973"/>
                </a:cubicBezTo>
              </a:path>
              <a:path w="2928" h="1514">
                <a:moveTo>
                  <a:pt x="20216" y="12774"/>
                </a:moveTo>
                <a:cubicBezTo>
                  <a:pt x="20298" y="12774"/>
                  <a:pt x="20362" y="12772"/>
                  <a:pt x="20439" y="12750"/>
                </a:cubicBezTo>
              </a:path>
              <a:path w="2928" h="1514">
                <a:moveTo>
                  <a:pt x="20737" y="12278"/>
                </a:moveTo>
                <a:cubicBezTo>
                  <a:pt x="20737" y="12423"/>
                  <a:pt x="20739" y="12562"/>
                  <a:pt x="20762" y="12700"/>
                </a:cubicBezTo>
                <a:cubicBezTo>
                  <a:pt x="20771" y="12756"/>
                  <a:pt x="20775" y="12842"/>
                  <a:pt x="20762" y="12849"/>
                </a:cubicBezTo>
              </a:path>
              <a:path w="2928" h="1514">
                <a:moveTo>
                  <a:pt x="20588" y="12626"/>
                </a:moveTo>
                <a:cubicBezTo>
                  <a:pt x="20665" y="12616"/>
                  <a:pt x="20729" y="12601"/>
                  <a:pt x="20811" y="12601"/>
                </a:cubicBezTo>
                <a:cubicBezTo>
                  <a:pt x="20852" y="12601"/>
                  <a:pt x="20894" y="12601"/>
                  <a:pt x="20935" y="12601"/>
                </a:cubicBezTo>
              </a:path>
              <a:path w="2928" h="1514">
                <a:moveTo>
                  <a:pt x="19869" y="13221"/>
                </a:moveTo>
                <a:cubicBezTo>
                  <a:pt x="19939" y="13248"/>
                  <a:pt x="19991" y="13246"/>
                  <a:pt x="20067" y="13246"/>
                </a:cubicBezTo>
                <a:cubicBezTo>
                  <a:pt x="20155" y="13246"/>
                  <a:pt x="20224" y="13221"/>
                  <a:pt x="20315" y="13221"/>
                </a:cubicBezTo>
                <a:cubicBezTo>
                  <a:pt x="20421" y="13221"/>
                  <a:pt x="20511" y="13210"/>
                  <a:pt x="20613" y="13196"/>
                </a:cubicBezTo>
                <a:cubicBezTo>
                  <a:pt x="20708" y="13183"/>
                  <a:pt x="20814" y="13196"/>
                  <a:pt x="20910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000840" y="5446800"/>
            <a:ext cx="1071360" cy="420480"/>
          </a:xfrm>
          <a:custGeom>
            <a:avLst/>
            <a:gdLst/>
            <a:ahLst/>
            <a:rect l="l" t="t" r="r" b="b"/>
            <a:pathLst>
              <a:path w="2977" h="1167">
                <a:moveTo>
                  <a:pt x="17090" y="15131"/>
                </a:moveTo>
                <a:cubicBezTo>
                  <a:pt x="17134" y="15203"/>
                  <a:pt x="17113" y="15268"/>
                  <a:pt x="17090" y="15354"/>
                </a:cubicBezTo>
                <a:cubicBezTo>
                  <a:pt x="17058" y="15474"/>
                  <a:pt x="17027" y="15592"/>
                  <a:pt x="16966" y="15701"/>
                </a:cubicBezTo>
                <a:cubicBezTo>
                  <a:pt x="16917" y="15788"/>
                  <a:pt x="16880" y="15895"/>
                  <a:pt x="16818" y="15974"/>
                </a:cubicBezTo>
                <a:cubicBezTo>
                  <a:pt x="16815" y="15978"/>
                  <a:pt x="16707" y="16099"/>
                  <a:pt x="16694" y="16098"/>
                </a:cubicBezTo>
                <a:cubicBezTo>
                  <a:pt x="16669" y="16073"/>
                  <a:pt x="16661" y="16065"/>
                  <a:pt x="16694" y="16049"/>
                </a:cubicBezTo>
              </a:path>
              <a:path w="2977" h="1167">
                <a:moveTo>
                  <a:pt x="17562" y="15429"/>
                </a:moveTo>
                <a:cubicBezTo>
                  <a:pt x="17537" y="15354"/>
                  <a:pt x="17495" y="15367"/>
                  <a:pt x="17413" y="15404"/>
                </a:cubicBezTo>
                <a:cubicBezTo>
                  <a:pt x="17317" y="15447"/>
                  <a:pt x="17274" y="15486"/>
                  <a:pt x="17289" y="15602"/>
                </a:cubicBezTo>
                <a:cubicBezTo>
                  <a:pt x="17312" y="15785"/>
                  <a:pt x="17413" y="15933"/>
                  <a:pt x="17413" y="16123"/>
                </a:cubicBezTo>
                <a:cubicBezTo>
                  <a:pt x="17413" y="16211"/>
                  <a:pt x="17365" y="16315"/>
                  <a:pt x="17264" y="16297"/>
                </a:cubicBezTo>
                <a:cubicBezTo>
                  <a:pt x="17174" y="16281"/>
                  <a:pt x="17102" y="16232"/>
                  <a:pt x="17066" y="16148"/>
                </a:cubicBezTo>
                <a:cubicBezTo>
                  <a:pt x="17030" y="16064"/>
                  <a:pt x="16988" y="15962"/>
                  <a:pt x="17041" y="15875"/>
                </a:cubicBezTo>
                <a:cubicBezTo>
                  <a:pt x="17111" y="15761"/>
                  <a:pt x="17204" y="15718"/>
                  <a:pt x="17314" y="15652"/>
                </a:cubicBezTo>
                <a:cubicBezTo>
                  <a:pt x="17428" y="15584"/>
                  <a:pt x="17527" y="15494"/>
                  <a:pt x="17636" y="15429"/>
                </a:cubicBezTo>
                <a:cubicBezTo>
                  <a:pt x="17701" y="15407"/>
                  <a:pt x="17716" y="15399"/>
                  <a:pt x="17760" y="15404"/>
                </a:cubicBezTo>
                <a:cubicBezTo>
                  <a:pt x="17729" y="15455"/>
                  <a:pt x="17716" y="15517"/>
                  <a:pt x="17686" y="15577"/>
                </a:cubicBezTo>
                <a:cubicBezTo>
                  <a:pt x="17638" y="15673"/>
                  <a:pt x="17599" y="15742"/>
                  <a:pt x="17587" y="15850"/>
                </a:cubicBezTo>
                <a:cubicBezTo>
                  <a:pt x="17574" y="15967"/>
                  <a:pt x="17586" y="16048"/>
                  <a:pt x="17636" y="16148"/>
                </a:cubicBezTo>
                <a:cubicBezTo>
                  <a:pt x="17666" y="16209"/>
                  <a:pt x="17762" y="16260"/>
                  <a:pt x="17835" y="16247"/>
                </a:cubicBezTo>
                <a:cubicBezTo>
                  <a:pt x="17980" y="16222"/>
                  <a:pt x="18046" y="16074"/>
                  <a:pt x="18083" y="15949"/>
                </a:cubicBezTo>
                <a:cubicBezTo>
                  <a:pt x="18120" y="15826"/>
                  <a:pt x="18118" y="15699"/>
                  <a:pt x="18083" y="15577"/>
                </a:cubicBezTo>
                <a:cubicBezTo>
                  <a:pt x="18060" y="15495"/>
                  <a:pt x="18017" y="15438"/>
                  <a:pt x="17959" y="15379"/>
                </a:cubicBezTo>
                <a:cubicBezTo>
                  <a:pt x="17934" y="15354"/>
                  <a:pt x="17926" y="15346"/>
                  <a:pt x="17909" y="15379"/>
                </a:cubicBezTo>
              </a:path>
              <a:path w="2977" h="1167">
                <a:moveTo>
                  <a:pt x="18455" y="15577"/>
                </a:moveTo>
                <a:cubicBezTo>
                  <a:pt x="18336" y="15641"/>
                  <a:pt x="18254" y="15684"/>
                  <a:pt x="18182" y="15801"/>
                </a:cubicBezTo>
                <a:cubicBezTo>
                  <a:pt x="18135" y="15877"/>
                  <a:pt x="18155" y="15978"/>
                  <a:pt x="18207" y="16049"/>
                </a:cubicBezTo>
                <a:cubicBezTo>
                  <a:pt x="18253" y="16111"/>
                  <a:pt x="18378" y="16165"/>
                  <a:pt x="18455" y="16148"/>
                </a:cubicBezTo>
                <a:cubicBezTo>
                  <a:pt x="18636" y="16108"/>
                  <a:pt x="18732" y="15955"/>
                  <a:pt x="18777" y="15776"/>
                </a:cubicBezTo>
                <a:cubicBezTo>
                  <a:pt x="18803" y="15671"/>
                  <a:pt x="18761" y="15538"/>
                  <a:pt x="18703" y="15453"/>
                </a:cubicBezTo>
                <a:cubicBezTo>
                  <a:pt x="18681" y="15421"/>
                  <a:pt x="18520" y="15321"/>
                  <a:pt x="18628" y="15404"/>
                </a:cubicBezTo>
              </a:path>
              <a:path w="2977" h="1167">
                <a:moveTo>
                  <a:pt x="19224" y="15652"/>
                </a:moveTo>
                <a:cubicBezTo>
                  <a:pt x="19130" y="15720"/>
                  <a:pt x="18999" y="15776"/>
                  <a:pt x="18976" y="15900"/>
                </a:cubicBezTo>
                <a:cubicBezTo>
                  <a:pt x="18962" y="15975"/>
                  <a:pt x="18985" y="16102"/>
                  <a:pt x="19050" y="16148"/>
                </a:cubicBezTo>
                <a:cubicBezTo>
                  <a:pt x="19131" y="16205"/>
                  <a:pt x="19248" y="16241"/>
                  <a:pt x="19348" y="16222"/>
                </a:cubicBezTo>
                <a:cubicBezTo>
                  <a:pt x="19489" y="16196"/>
                  <a:pt x="19563" y="16068"/>
                  <a:pt x="19621" y="15949"/>
                </a:cubicBezTo>
                <a:cubicBezTo>
                  <a:pt x="19682" y="15823"/>
                  <a:pt x="19588" y="15720"/>
                  <a:pt x="19521" y="15627"/>
                </a:cubicBezTo>
                <a:cubicBezTo>
                  <a:pt x="19441" y="15515"/>
                  <a:pt x="19352" y="15478"/>
                  <a:pt x="19224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357800" y="2044800"/>
            <a:ext cx="482400" cy="223560"/>
          </a:xfrm>
          <a:custGeom>
            <a:avLst/>
            <a:gdLst/>
            <a:ahLst/>
            <a:rect l="l" t="t" r="r" b="b"/>
            <a:pathLst>
              <a:path w="1340" h="621">
                <a:moveTo>
                  <a:pt x="12105" y="6300"/>
                </a:moveTo>
                <a:cubicBezTo>
                  <a:pt x="12158" y="6247"/>
                  <a:pt x="12195" y="6242"/>
                  <a:pt x="12254" y="6201"/>
                </a:cubicBezTo>
                <a:cubicBezTo>
                  <a:pt x="12333" y="6146"/>
                  <a:pt x="12411" y="6090"/>
                  <a:pt x="12502" y="6052"/>
                </a:cubicBezTo>
                <a:cubicBezTo>
                  <a:pt x="12658" y="5986"/>
                  <a:pt x="12813" y="5908"/>
                  <a:pt x="12973" y="5854"/>
                </a:cubicBezTo>
                <a:cubicBezTo>
                  <a:pt x="13083" y="5817"/>
                  <a:pt x="13187" y="5774"/>
                  <a:pt x="13295" y="5730"/>
                </a:cubicBezTo>
                <a:cubicBezTo>
                  <a:pt x="13352" y="5707"/>
                  <a:pt x="13358" y="5692"/>
                  <a:pt x="13419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2286000"/>
            <a:ext cx="189000" cy="285840"/>
          </a:xfrm>
          <a:custGeom>
            <a:avLst/>
            <a:gdLst/>
            <a:ahLst/>
            <a:rect l="l" t="t" r="r" b="b"/>
            <a:pathLst>
              <a:path w="522" h="795">
                <a:moveTo>
                  <a:pt x="13196" y="6474"/>
                </a:moveTo>
                <a:cubicBezTo>
                  <a:pt x="13242" y="6394"/>
                  <a:pt x="13259" y="6424"/>
                  <a:pt x="13320" y="6375"/>
                </a:cubicBezTo>
                <a:cubicBezTo>
                  <a:pt x="13367" y="6338"/>
                  <a:pt x="13484" y="6338"/>
                  <a:pt x="13543" y="6350"/>
                </a:cubicBezTo>
                <a:cubicBezTo>
                  <a:pt x="13643" y="6371"/>
                  <a:pt x="13616" y="6445"/>
                  <a:pt x="13568" y="6499"/>
                </a:cubicBezTo>
                <a:cubicBezTo>
                  <a:pt x="13533" y="6538"/>
                  <a:pt x="13515" y="6593"/>
                  <a:pt x="13469" y="6623"/>
                </a:cubicBezTo>
                <a:cubicBezTo>
                  <a:pt x="13439" y="6643"/>
                  <a:pt x="13358" y="6716"/>
                  <a:pt x="13395" y="6648"/>
                </a:cubicBezTo>
                <a:cubicBezTo>
                  <a:pt x="13495" y="6648"/>
                  <a:pt x="13495" y="6650"/>
                  <a:pt x="13568" y="6697"/>
                </a:cubicBezTo>
                <a:cubicBezTo>
                  <a:pt x="13626" y="6734"/>
                  <a:pt x="13655" y="6783"/>
                  <a:pt x="13667" y="6846"/>
                </a:cubicBezTo>
                <a:cubicBezTo>
                  <a:pt x="13682" y="6923"/>
                  <a:pt x="13654" y="6961"/>
                  <a:pt x="13618" y="7020"/>
                </a:cubicBezTo>
                <a:cubicBezTo>
                  <a:pt x="13571" y="7097"/>
                  <a:pt x="13570" y="7092"/>
                  <a:pt x="13494" y="7119"/>
                </a:cubicBezTo>
                <a:cubicBezTo>
                  <a:pt x="13436" y="7140"/>
                  <a:pt x="13360" y="7162"/>
                  <a:pt x="13295" y="7144"/>
                </a:cubicBezTo>
                <a:cubicBezTo>
                  <a:pt x="13241" y="7129"/>
                  <a:pt x="13196" y="7106"/>
                  <a:pt x="13146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500280" y="3295800"/>
            <a:ext cx="374760" cy="1872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9723" y="9674"/>
                </a:moveTo>
                <a:cubicBezTo>
                  <a:pt x="9791" y="9664"/>
                  <a:pt x="9881" y="9634"/>
                  <a:pt x="9947" y="9599"/>
                </a:cubicBezTo>
                <a:cubicBezTo>
                  <a:pt x="10003" y="9569"/>
                  <a:pt x="10093" y="9534"/>
                  <a:pt x="10145" y="9500"/>
                </a:cubicBezTo>
                <a:cubicBezTo>
                  <a:pt x="10237" y="9439"/>
                  <a:pt x="10345" y="9376"/>
                  <a:pt x="10443" y="9327"/>
                </a:cubicBezTo>
                <a:cubicBezTo>
                  <a:pt x="10515" y="9291"/>
                  <a:pt x="10598" y="9273"/>
                  <a:pt x="10666" y="9227"/>
                </a:cubicBezTo>
                <a:cubicBezTo>
                  <a:pt x="10694" y="9208"/>
                  <a:pt x="10795" y="9161"/>
                  <a:pt x="10740" y="9153"/>
                </a:cubicBezTo>
                <a:cubicBezTo>
                  <a:pt x="10732" y="9153"/>
                  <a:pt x="10724" y="9153"/>
                  <a:pt x="10716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724200" y="358128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0393" y="9947"/>
                </a:moveTo>
                <a:cubicBezTo>
                  <a:pt x="10393" y="10021"/>
                  <a:pt x="10372" y="10075"/>
                  <a:pt x="10368" y="10145"/>
                </a:cubicBezTo>
                <a:cubicBezTo>
                  <a:pt x="10363" y="10232"/>
                  <a:pt x="10353" y="10309"/>
                  <a:pt x="10344" y="10393"/>
                </a:cubicBezTo>
                <a:cubicBezTo>
                  <a:pt x="10338" y="10448"/>
                  <a:pt x="10344" y="10511"/>
                  <a:pt x="10344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786120" y="3527280"/>
            <a:ext cx="125640" cy="303480"/>
          </a:xfrm>
          <a:custGeom>
            <a:avLst/>
            <a:gdLst/>
            <a:ahLst/>
            <a:rect l="l" t="t" r="r" b="b"/>
            <a:pathLst>
              <a:path w="348" h="844">
                <a:moveTo>
                  <a:pt x="10765" y="9971"/>
                </a:moveTo>
                <a:cubicBezTo>
                  <a:pt x="10697" y="9971"/>
                  <a:pt x="10619" y="9954"/>
                  <a:pt x="10567" y="9996"/>
                </a:cubicBezTo>
                <a:cubicBezTo>
                  <a:pt x="10502" y="10048"/>
                  <a:pt x="10526" y="10098"/>
                  <a:pt x="10567" y="10170"/>
                </a:cubicBezTo>
                <a:cubicBezTo>
                  <a:pt x="10603" y="10233"/>
                  <a:pt x="10676" y="10283"/>
                  <a:pt x="10716" y="10344"/>
                </a:cubicBezTo>
                <a:cubicBezTo>
                  <a:pt x="10755" y="10403"/>
                  <a:pt x="10801" y="10499"/>
                  <a:pt x="10815" y="10567"/>
                </a:cubicBezTo>
                <a:cubicBezTo>
                  <a:pt x="10815" y="10583"/>
                  <a:pt x="10815" y="10600"/>
                  <a:pt x="10815" y="10616"/>
                </a:cubicBezTo>
                <a:cubicBezTo>
                  <a:pt x="10753" y="10653"/>
                  <a:pt x="10705" y="10636"/>
                  <a:pt x="10641" y="10592"/>
                </a:cubicBezTo>
                <a:cubicBezTo>
                  <a:pt x="10576" y="10547"/>
                  <a:pt x="10582" y="10486"/>
                  <a:pt x="10616" y="10418"/>
                </a:cubicBezTo>
                <a:cubicBezTo>
                  <a:pt x="10648" y="10353"/>
                  <a:pt x="10726" y="10295"/>
                  <a:pt x="10765" y="10244"/>
                </a:cubicBezTo>
                <a:cubicBezTo>
                  <a:pt x="10809" y="10186"/>
                  <a:pt x="10814" y="10130"/>
                  <a:pt x="10840" y="10071"/>
                </a:cubicBezTo>
                <a:cubicBezTo>
                  <a:pt x="10892" y="9956"/>
                  <a:pt x="10850" y="9918"/>
                  <a:pt x="10790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643120" y="2482920"/>
            <a:ext cx="349200" cy="249120"/>
          </a:xfrm>
          <a:custGeom>
            <a:avLst/>
            <a:gdLst/>
            <a:ahLst/>
            <a:rect l="l" t="t" r="r" b="b"/>
            <a:pathLst>
              <a:path w="969" h="695">
                <a:moveTo>
                  <a:pt x="7342" y="7590"/>
                </a:moveTo>
                <a:cubicBezTo>
                  <a:pt x="7391" y="7542"/>
                  <a:pt x="7440" y="7507"/>
                  <a:pt x="7491" y="7466"/>
                </a:cubicBezTo>
                <a:cubicBezTo>
                  <a:pt x="7569" y="7403"/>
                  <a:pt x="7634" y="7350"/>
                  <a:pt x="7714" y="7293"/>
                </a:cubicBezTo>
                <a:cubicBezTo>
                  <a:pt x="7805" y="7229"/>
                  <a:pt x="7907" y="7191"/>
                  <a:pt x="7987" y="7119"/>
                </a:cubicBezTo>
                <a:cubicBezTo>
                  <a:pt x="8063" y="7051"/>
                  <a:pt x="8151" y="7027"/>
                  <a:pt x="8235" y="6970"/>
                </a:cubicBezTo>
                <a:cubicBezTo>
                  <a:pt x="8292" y="6932"/>
                  <a:pt x="8331" y="6910"/>
                  <a:pt x="8260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14760" y="2152800"/>
            <a:ext cx="36360" cy="268200"/>
          </a:xfrm>
          <a:custGeom>
            <a:avLst/>
            <a:gdLst/>
            <a:ahLst/>
            <a:rect l="l" t="t" r="r" b="b"/>
            <a:pathLst>
              <a:path w="100" h="745">
                <a:moveTo>
                  <a:pt x="7565" y="5978"/>
                </a:moveTo>
                <a:cubicBezTo>
                  <a:pt x="7541" y="6091"/>
                  <a:pt x="7559" y="6122"/>
                  <a:pt x="7565" y="6226"/>
                </a:cubicBezTo>
                <a:cubicBezTo>
                  <a:pt x="7571" y="6346"/>
                  <a:pt x="7575" y="6460"/>
                  <a:pt x="7590" y="6573"/>
                </a:cubicBezTo>
                <a:cubicBezTo>
                  <a:pt x="7600" y="6649"/>
                  <a:pt x="7566" y="6794"/>
                  <a:pt x="7640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830680" y="2178000"/>
            <a:ext cx="9828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7913" y="6127"/>
                </a:moveTo>
                <a:cubicBezTo>
                  <a:pt x="7892" y="6210"/>
                  <a:pt x="7868" y="6292"/>
                  <a:pt x="7863" y="6375"/>
                </a:cubicBezTo>
                <a:cubicBezTo>
                  <a:pt x="7860" y="6427"/>
                  <a:pt x="7843" y="6528"/>
                  <a:pt x="7913" y="6548"/>
                </a:cubicBezTo>
                <a:cubicBezTo>
                  <a:pt x="7965" y="6563"/>
                  <a:pt x="8027" y="6507"/>
                  <a:pt x="8062" y="6474"/>
                </a:cubicBezTo>
                <a:cubicBezTo>
                  <a:pt x="8118" y="6423"/>
                  <a:pt x="8132" y="6348"/>
                  <a:pt x="8136" y="6276"/>
                </a:cubicBezTo>
                <a:cubicBezTo>
                  <a:pt x="8140" y="6194"/>
                  <a:pt x="8142" y="6159"/>
                  <a:pt x="8086" y="6102"/>
                </a:cubicBezTo>
                <a:cubicBezTo>
                  <a:pt x="8040" y="6055"/>
                  <a:pt x="8028" y="6037"/>
                  <a:pt x="7987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616200" y="3537000"/>
            <a:ext cx="339840" cy="187200"/>
          </a:xfrm>
          <a:custGeom>
            <a:avLst/>
            <a:gdLst/>
            <a:ahLst/>
            <a:rect l="l" t="t" r="r" b="b"/>
            <a:pathLst>
              <a:path w="943" h="522">
                <a:moveTo>
                  <a:pt x="10046" y="10344"/>
                </a:moveTo>
                <a:cubicBezTo>
                  <a:pt x="10090" y="10315"/>
                  <a:pt x="10165" y="10257"/>
                  <a:pt x="10220" y="10244"/>
                </a:cubicBezTo>
                <a:cubicBezTo>
                  <a:pt x="10330" y="10218"/>
                  <a:pt x="10363" y="10174"/>
                  <a:pt x="10468" y="10120"/>
                </a:cubicBezTo>
                <a:cubicBezTo>
                  <a:pt x="10553" y="10076"/>
                  <a:pt x="10654" y="10034"/>
                  <a:pt x="10740" y="9996"/>
                </a:cubicBezTo>
                <a:cubicBezTo>
                  <a:pt x="10785" y="9976"/>
                  <a:pt x="10933" y="9948"/>
                  <a:pt x="10964" y="9922"/>
                </a:cubicBezTo>
                <a:cubicBezTo>
                  <a:pt x="11011" y="9882"/>
                  <a:pt x="10989" y="9840"/>
                  <a:pt x="10964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973680" y="3625920"/>
            <a:ext cx="107640" cy="295200"/>
          </a:xfrm>
          <a:custGeom>
            <a:avLst/>
            <a:gdLst/>
            <a:ahLst/>
            <a:rect l="l" t="t" r="r" b="b"/>
            <a:pathLst>
              <a:path w="299" h="819">
                <a:moveTo>
                  <a:pt x="11261" y="10269"/>
                </a:moveTo>
                <a:cubicBezTo>
                  <a:pt x="11304" y="10255"/>
                  <a:pt x="11353" y="10216"/>
                  <a:pt x="11336" y="10145"/>
                </a:cubicBezTo>
                <a:cubicBezTo>
                  <a:pt x="11314" y="10051"/>
                  <a:pt x="11221" y="10061"/>
                  <a:pt x="11162" y="10120"/>
                </a:cubicBezTo>
                <a:cubicBezTo>
                  <a:pt x="11118" y="10164"/>
                  <a:pt x="11053" y="10235"/>
                  <a:pt x="11038" y="10294"/>
                </a:cubicBezTo>
                <a:cubicBezTo>
                  <a:pt x="11017" y="10376"/>
                  <a:pt x="11096" y="10394"/>
                  <a:pt x="11137" y="10418"/>
                </a:cubicBezTo>
                <a:cubicBezTo>
                  <a:pt x="11175" y="10440"/>
                  <a:pt x="11225" y="10418"/>
                  <a:pt x="11261" y="10368"/>
                </a:cubicBezTo>
                <a:cubicBezTo>
                  <a:pt x="11286" y="10319"/>
                  <a:pt x="11295" y="10302"/>
                  <a:pt x="11311" y="10269"/>
                </a:cubicBezTo>
                <a:cubicBezTo>
                  <a:pt x="11311" y="10343"/>
                  <a:pt x="11289" y="10397"/>
                  <a:pt x="11286" y="10468"/>
                </a:cubicBezTo>
                <a:cubicBezTo>
                  <a:pt x="11282" y="10548"/>
                  <a:pt x="11311" y="10610"/>
                  <a:pt x="11311" y="10691"/>
                </a:cubicBezTo>
                <a:cubicBezTo>
                  <a:pt x="11311" y="10769"/>
                  <a:pt x="11322" y="10818"/>
                  <a:pt x="11336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2670120"/>
            <a:ext cx="223920" cy="18756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8483" y="7938"/>
                </a:moveTo>
                <a:cubicBezTo>
                  <a:pt x="8493" y="7871"/>
                  <a:pt x="8509" y="7862"/>
                  <a:pt x="8558" y="7813"/>
                </a:cubicBezTo>
                <a:cubicBezTo>
                  <a:pt x="8615" y="7756"/>
                  <a:pt x="8673" y="7719"/>
                  <a:pt x="8731" y="7665"/>
                </a:cubicBezTo>
                <a:cubicBezTo>
                  <a:pt x="8783" y="7617"/>
                  <a:pt x="8843" y="7549"/>
                  <a:pt x="8905" y="7516"/>
                </a:cubicBezTo>
                <a:cubicBezTo>
                  <a:pt x="8955" y="7490"/>
                  <a:pt x="9028" y="7437"/>
                  <a:pt x="9079" y="7417"/>
                </a:cubicBezTo>
                <a:cubicBezTo>
                  <a:pt x="9087" y="7417"/>
                  <a:pt x="9095" y="7417"/>
                  <a:pt x="9103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2000" y="3705120"/>
            <a:ext cx="152280" cy="31284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6623" y="10468"/>
                </a:moveTo>
                <a:cubicBezTo>
                  <a:pt x="6623" y="10377"/>
                  <a:pt x="6630" y="10363"/>
                  <a:pt x="6548" y="10319"/>
                </a:cubicBezTo>
                <a:cubicBezTo>
                  <a:pt x="6445" y="10264"/>
                  <a:pt x="6398" y="10323"/>
                  <a:pt x="6300" y="10344"/>
                </a:cubicBezTo>
                <a:cubicBezTo>
                  <a:pt x="6219" y="10361"/>
                  <a:pt x="6183" y="10431"/>
                  <a:pt x="6226" y="10517"/>
                </a:cubicBezTo>
                <a:cubicBezTo>
                  <a:pt x="6251" y="10566"/>
                  <a:pt x="6290" y="10647"/>
                  <a:pt x="6325" y="10691"/>
                </a:cubicBezTo>
                <a:cubicBezTo>
                  <a:pt x="6379" y="10760"/>
                  <a:pt x="6436" y="10838"/>
                  <a:pt x="6474" y="10914"/>
                </a:cubicBezTo>
                <a:cubicBezTo>
                  <a:pt x="6508" y="10982"/>
                  <a:pt x="6515" y="11072"/>
                  <a:pt x="6474" y="11137"/>
                </a:cubicBezTo>
                <a:cubicBezTo>
                  <a:pt x="6439" y="11194"/>
                  <a:pt x="6363" y="11158"/>
                  <a:pt x="6325" y="11137"/>
                </a:cubicBezTo>
                <a:cubicBezTo>
                  <a:pt x="6275" y="11110"/>
                  <a:pt x="6210" y="11082"/>
                  <a:pt x="6226" y="11013"/>
                </a:cubicBezTo>
                <a:cubicBezTo>
                  <a:pt x="6246" y="10930"/>
                  <a:pt x="6326" y="10827"/>
                  <a:pt x="6375" y="10765"/>
                </a:cubicBezTo>
                <a:cubicBezTo>
                  <a:pt x="6415" y="10714"/>
                  <a:pt x="6478" y="10632"/>
                  <a:pt x="6524" y="10592"/>
                </a:cubicBezTo>
                <a:cubicBezTo>
                  <a:pt x="6565" y="10556"/>
                  <a:pt x="6588" y="10536"/>
                  <a:pt x="6623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741840"/>
            <a:ext cx="106560" cy="25056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6846" y="10418"/>
                </a:moveTo>
                <a:cubicBezTo>
                  <a:pt x="6836" y="10516"/>
                  <a:pt x="6771" y="10569"/>
                  <a:pt x="6747" y="10666"/>
                </a:cubicBezTo>
                <a:cubicBezTo>
                  <a:pt x="6726" y="10751"/>
                  <a:pt x="6697" y="10822"/>
                  <a:pt x="6697" y="10914"/>
                </a:cubicBezTo>
                <a:cubicBezTo>
                  <a:pt x="6697" y="10950"/>
                  <a:pt x="6710" y="11073"/>
                  <a:pt x="6747" y="11088"/>
                </a:cubicBezTo>
                <a:cubicBezTo>
                  <a:pt x="6842" y="11125"/>
                  <a:pt x="6876" y="11075"/>
                  <a:pt x="6921" y="11013"/>
                </a:cubicBezTo>
                <a:cubicBezTo>
                  <a:pt x="6957" y="10963"/>
                  <a:pt x="6987" y="10901"/>
                  <a:pt x="6995" y="10840"/>
                </a:cubicBezTo>
                <a:cubicBezTo>
                  <a:pt x="7005" y="10762"/>
                  <a:pt x="6983" y="10703"/>
                  <a:pt x="6970" y="10641"/>
                </a:cubicBezTo>
                <a:cubicBezTo>
                  <a:pt x="6959" y="10587"/>
                  <a:pt x="6956" y="10536"/>
                  <a:pt x="6921" y="10492"/>
                </a:cubicBezTo>
                <a:cubicBezTo>
                  <a:pt x="6892" y="10456"/>
                  <a:pt x="6896" y="10440"/>
                  <a:pt x="689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517840" y="3633840"/>
            <a:ext cx="63360" cy="6336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7069" y="10096"/>
                </a:moveTo>
                <a:cubicBezTo>
                  <a:pt x="7012" y="10185"/>
                  <a:pt x="6997" y="10179"/>
                  <a:pt x="7020" y="10269"/>
                </a:cubicBezTo>
                <a:cubicBezTo>
                  <a:pt x="7110" y="10256"/>
                  <a:pt x="7106" y="10234"/>
                  <a:pt x="7144" y="10170"/>
                </a:cubicBezTo>
                <a:cubicBezTo>
                  <a:pt x="7172" y="10122"/>
                  <a:pt x="7166" y="10119"/>
                  <a:pt x="7119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70120" y="4000680"/>
            <a:ext cx="97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7417" y="11112"/>
                </a:moveTo>
                <a:cubicBezTo>
                  <a:pt x="7439" y="11135"/>
                  <a:pt x="7447" y="11146"/>
                  <a:pt x="7441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759040" y="3741840"/>
            <a:ext cx="189000" cy="3636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7665" y="10492"/>
                </a:moveTo>
                <a:cubicBezTo>
                  <a:pt x="7769" y="10448"/>
                  <a:pt x="7805" y="10443"/>
                  <a:pt x="7913" y="10443"/>
                </a:cubicBezTo>
                <a:cubicBezTo>
                  <a:pt x="7980" y="10443"/>
                  <a:pt x="8133" y="10471"/>
                  <a:pt x="8186" y="10418"/>
                </a:cubicBezTo>
                <a:cubicBezTo>
                  <a:pt x="8186" y="10410"/>
                  <a:pt x="8186" y="10401"/>
                  <a:pt x="818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820960" y="3795840"/>
            <a:ext cx="28440" cy="204840"/>
          </a:xfrm>
          <a:custGeom>
            <a:avLst/>
            <a:gdLst/>
            <a:ahLst/>
            <a:rect l="l" t="t" r="r" b="b"/>
            <a:pathLst>
              <a:path w="76" h="571">
                <a:moveTo>
                  <a:pt x="7913" y="10542"/>
                </a:moveTo>
                <a:cubicBezTo>
                  <a:pt x="7892" y="10677"/>
                  <a:pt x="7863" y="10783"/>
                  <a:pt x="7863" y="10914"/>
                </a:cubicBezTo>
                <a:cubicBezTo>
                  <a:pt x="7863" y="10966"/>
                  <a:pt x="7806" y="11062"/>
                  <a:pt x="7838" y="11112"/>
                </a:cubicBezTo>
                <a:cubicBezTo>
                  <a:pt x="7846" y="11112"/>
                  <a:pt x="7855" y="11112"/>
                  <a:pt x="7863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901960" y="3759120"/>
            <a:ext cx="19080" cy="2779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8086" y="10443"/>
                </a:moveTo>
                <a:cubicBezTo>
                  <a:pt x="8086" y="10525"/>
                  <a:pt x="8073" y="10587"/>
                  <a:pt x="8062" y="10666"/>
                </a:cubicBezTo>
                <a:cubicBezTo>
                  <a:pt x="8042" y="10809"/>
                  <a:pt x="8061" y="10985"/>
                  <a:pt x="8086" y="11112"/>
                </a:cubicBezTo>
                <a:cubicBezTo>
                  <a:pt x="8095" y="11157"/>
                  <a:pt x="8101" y="11172"/>
                  <a:pt x="8111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990880" y="3867120"/>
            <a:ext cx="73080" cy="13356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8310" y="11013"/>
                </a:moveTo>
                <a:cubicBezTo>
                  <a:pt x="8310" y="11046"/>
                  <a:pt x="8310" y="11079"/>
                  <a:pt x="8310" y="11112"/>
                </a:cubicBezTo>
                <a:cubicBezTo>
                  <a:pt x="8331" y="11054"/>
                  <a:pt x="8343" y="10991"/>
                  <a:pt x="8359" y="10939"/>
                </a:cubicBezTo>
                <a:cubicBezTo>
                  <a:pt x="8370" y="10902"/>
                  <a:pt x="8359" y="10818"/>
                  <a:pt x="8384" y="10790"/>
                </a:cubicBezTo>
                <a:cubicBezTo>
                  <a:pt x="8441" y="10762"/>
                  <a:pt x="8464" y="10751"/>
                  <a:pt x="8508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089160" y="3875040"/>
            <a:ext cx="1526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8756" y="10765"/>
                </a:moveTo>
                <a:cubicBezTo>
                  <a:pt x="8718" y="10840"/>
                  <a:pt x="8672" y="10872"/>
                  <a:pt x="8632" y="10939"/>
                </a:cubicBezTo>
                <a:cubicBezTo>
                  <a:pt x="8602" y="10990"/>
                  <a:pt x="8536" y="11078"/>
                  <a:pt x="8607" y="11137"/>
                </a:cubicBezTo>
                <a:cubicBezTo>
                  <a:pt x="8648" y="11171"/>
                  <a:pt x="8733" y="11124"/>
                  <a:pt x="8756" y="11088"/>
                </a:cubicBezTo>
                <a:cubicBezTo>
                  <a:pt x="8783" y="11046"/>
                  <a:pt x="8803" y="10963"/>
                  <a:pt x="8806" y="10914"/>
                </a:cubicBezTo>
                <a:cubicBezTo>
                  <a:pt x="8814" y="10801"/>
                  <a:pt x="8804" y="10971"/>
                  <a:pt x="8830" y="11013"/>
                </a:cubicBezTo>
                <a:cubicBezTo>
                  <a:pt x="8872" y="11082"/>
                  <a:pt x="8934" y="11082"/>
                  <a:pt x="9004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3786120"/>
            <a:ext cx="108000" cy="25092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9277" y="10889"/>
                </a:moveTo>
                <a:cubicBezTo>
                  <a:pt x="9169" y="10933"/>
                  <a:pt x="9190" y="10948"/>
                  <a:pt x="9128" y="11038"/>
                </a:cubicBezTo>
                <a:cubicBezTo>
                  <a:pt x="9086" y="11098"/>
                  <a:pt x="9104" y="11133"/>
                  <a:pt x="9153" y="11187"/>
                </a:cubicBezTo>
                <a:cubicBezTo>
                  <a:pt x="9203" y="11242"/>
                  <a:pt x="9257" y="11202"/>
                  <a:pt x="9302" y="11162"/>
                </a:cubicBezTo>
                <a:cubicBezTo>
                  <a:pt x="9363" y="11107"/>
                  <a:pt x="9358" y="11035"/>
                  <a:pt x="9376" y="10964"/>
                </a:cubicBezTo>
                <a:cubicBezTo>
                  <a:pt x="9395" y="10889"/>
                  <a:pt x="9420" y="10796"/>
                  <a:pt x="9401" y="10716"/>
                </a:cubicBezTo>
                <a:cubicBezTo>
                  <a:pt x="9384" y="10645"/>
                  <a:pt x="9376" y="10594"/>
                  <a:pt x="9376" y="10517"/>
                </a:cubicBezTo>
                <a:cubicBezTo>
                  <a:pt x="9348" y="10590"/>
                  <a:pt x="9346" y="10665"/>
                  <a:pt x="9327" y="10740"/>
                </a:cubicBezTo>
                <a:cubicBezTo>
                  <a:pt x="9306" y="10826"/>
                  <a:pt x="9302" y="10899"/>
                  <a:pt x="9302" y="109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847960" y="4098960"/>
            <a:ext cx="438120" cy="17280"/>
          </a:xfrm>
          <a:custGeom>
            <a:avLst/>
            <a:gdLst/>
            <a:ahLst/>
            <a:rect l="l" t="t" r="r" b="b"/>
            <a:pathLst>
              <a:path w="1216" h="51">
                <a:moveTo>
                  <a:pt x="7913" y="11410"/>
                </a:moveTo>
                <a:cubicBezTo>
                  <a:pt x="8173" y="11424"/>
                  <a:pt x="8423" y="11435"/>
                  <a:pt x="8682" y="11435"/>
                </a:cubicBezTo>
                <a:cubicBezTo>
                  <a:pt x="8804" y="11435"/>
                  <a:pt x="8912" y="11425"/>
                  <a:pt x="9029" y="11410"/>
                </a:cubicBezTo>
                <a:cubicBezTo>
                  <a:pt x="9100" y="11401"/>
                  <a:pt x="9175" y="11403"/>
                  <a:pt x="9054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938320" y="4197240"/>
            <a:ext cx="9720" cy="241560"/>
          </a:xfrm>
          <a:custGeom>
            <a:avLst/>
            <a:gdLst/>
            <a:ahLst/>
            <a:rect l="l" t="t" r="r" b="b"/>
            <a:pathLst>
              <a:path w="26" h="671">
                <a:moveTo>
                  <a:pt x="8186" y="11658"/>
                </a:moveTo>
                <a:cubicBezTo>
                  <a:pt x="8175" y="11795"/>
                  <a:pt x="8186" y="11877"/>
                  <a:pt x="8186" y="12005"/>
                </a:cubicBezTo>
                <a:cubicBezTo>
                  <a:pt x="8186" y="12101"/>
                  <a:pt x="8175" y="12188"/>
                  <a:pt x="8161" y="12278"/>
                </a:cubicBezTo>
                <a:cubicBezTo>
                  <a:pt x="8161" y="12320"/>
                  <a:pt x="8161" y="12345"/>
                  <a:pt x="8161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54240" y="422424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8706" y="11757"/>
                </a:moveTo>
                <a:cubicBezTo>
                  <a:pt x="8660" y="11745"/>
                  <a:pt x="8526" y="11696"/>
                  <a:pt x="8533" y="11807"/>
                </a:cubicBezTo>
                <a:cubicBezTo>
                  <a:pt x="8537" y="11877"/>
                  <a:pt x="8582" y="11963"/>
                  <a:pt x="8607" y="12030"/>
                </a:cubicBezTo>
                <a:cubicBezTo>
                  <a:pt x="8627" y="12083"/>
                  <a:pt x="8690" y="12224"/>
                  <a:pt x="8682" y="12278"/>
                </a:cubicBezTo>
                <a:cubicBezTo>
                  <a:pt x="8654" y="12306"/>
                  <a:pt x="8645" y="12320"/>
                  <a:pt x="8657" y="12353"/>
                </a:cubicBezTo>
                <a:cubicBezTo>
                  <a:pt x="8611" y="12347"/>
                  <a:pt x="8503" y="12334"/>
                  <a:pt x="8483" y="12278"/>
                </a:cubicBezTo>
                <a:cubicBezTo>
                  <a:pt x="8464" y="12226"/>
                  <a:pt x="8546" y="12154"/>
                  <a:pt x="8582" y="12129"/>
                </a:cubicBezTo>
                <a:cubicBezTo>
                  <a:pt x="8658" y="12076"/>
                  <a:pt x="8692" y="12053"/>
                  <a:pt x="8756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170160" y="4232160"/>
            <a:ext cx="115920" cy="216000"/>
          </a:xfrm>
          <a:custGeom>
            <a:avLst/>
            <a:gdLst/>
            <a:ahLst/>
            <a:rect l="l" t="t" r="r" b="b"/>
            <a:pathLst>
              <a:path w="323" h="597">
                <a:moveTo>
                  <a:pt x="8905" y="11757"/>
                </a:moveTo>
                <a:cubicBezTo>
                  <a:pt x="8888" y="11850"/>
                  <a:pt x="8825" y="11921"/>
                  <a:pt x="8806" y="12005"/>
                </a:cubicBezTo>
                <a:cubicBezTo>
                  <a:pt x="8789" y="12078"/>
                  <a:pt x="8795" y="12216"/>
                  <a:pt x="8830" y="12278"/>
                </a:cubicBezTo>
                <a:cubicBezTo>
                  <a:pt x="8850" y="12313"/>
                  <a:pt x="8939" y="12367"/>
                  <a:pt x="8979" y="12353"/>
                </a:cubicBezTo>
                <a:cubicBezTo>
                  <a:pt x="9029" y="12336"/>
                  <a:pt x="9088" y="12321"/>
                  <a:pt x="9103" y="12254"/>
                </a:cubicBezTo>
                <a:cubicBezTo>
                  <a:pt x="9116" y="12198"/>
                  <a:pt x="9145" y="12115"/>
                  <a:pt x="9128" y="12055"/>
                </a:cubicBezTo>
                <a:cubicBezTo>
                  <a:pt x="9113" y="12000"/>
                  <a:pt x="9076" y="11904"/>
                  <a:pt x="9054" y="11857"/>
                </a:cubicBezTo>
                <a:cubicBezTo>
                  <a:pt x="9038" y="11822"/>
                  <a:pt x="9014" y="11820"/>
                  <a:pt x="9004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95800" y="4179960"/>
            <a:ext cx="712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9203" y="11609"/>
                </a:moveTo>
                <a:cubicBezTo>
                  <a:pt x="9195" y="11666"/>
                  <a:pt x="9115" y="11733"/>
                  <a:pt x="9178" y="11782"/>
                </a:cubicBezTo>
                <a:cubicBezTo>
                  <a:pt x="9233" y="11825"/>
                  <a:pt x="9328" y="11830"/>
                  <a:pt x="9351" y="11757"/>
                </a:cubicBezTo>
                <a:cubicBezTo>
                  <a:pt x="9368" y="11701"/>
                  <a:pt x="9338" y="11655"/>
                  <a:pt x="9327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544920" y="4133880"/>
            <a:ext cx="7128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9847" y="11485"/>
                </a:moveTo>
                <a:cubicBezTo>
                  <a:pt x="9921" y="11505"/>
                  <a:pt x="9977" y="11524"/>
                  <a:pt x="10046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554280" y="4197240"/>
            <a:ext cx="54000" cy="270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9872" y="11658"/>
                </a:moveTo>
                <a:cubicBezTo>
                  <a:pt x="9946" y="11710"/>
                  <a:pt x="9946" y="11722"/>
                  <a:pt x="10021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509920" y="3571920"/>
            <a:ext cx="1062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7268" y="9922"/>
                </a:moveTo>
                <a:cubicBezTo>
                  <a:pt x="7215" y="9964"/>
                  <a:pt x="7189" y="9996"/>
                  <a:pt x="7144" y="10046"/>
                </a:cubicBezTo>
                <a:cubicBezTo>
                  <a:pt x="7106" y="10089"/>
                  <a:pt x="7078" y="10125"/>
                  <a:pt x="7045" y="10170"/>
                </a:cubicBezTo>
                <a:cubicBezTo>
                  <a:pt x="7020" y="10204"/>
                  <a:pt x="6996" y="10236"/>
                  <a:pt x="6970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268800" y="413388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9252" y="11485"/>
                </a:moveTo>
                <a:cubicBezTo>
                  <a:pt x="9214" y="11532"/>
                  <a:pt x="9189" y="11585"/>
                  <a:pt x="9153" y="11633"/>
                </a:cubicBezTo>
                <a:cubicBezTo>
                  <a:pt x="9128" y="11666"/>
                  <a:pt x="9105" y="11700"/>
                  <a:pt x="9079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197080" y="378612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7045" y="10517"/>
                </a:moveTo>
                <a:cubicBezTo>
                  <a:pt x="6952" y="10610"/>
                  <a:pt x="6897" y="10650"/>
                  <a:pt x="6772" y="10716"/>
                </a:cubicBezTo>
                <a:cubicBezTo>
                  <a:pt x="6671" y="10769"/>
                  <a:pt x="6592" y="10825"/>
                  <a:pt x="6499" y="10889"/>
                </a:cubicBezTo>
                <a:cubicBezTo>
                  <a:pt x="6407" y="10952"/>
                  <a:pt x="6330" y="11009"/>
                  <a:pt x="6251" y="11088"/>
                </a:cubicBezTo>
                <a:cubicBezTo>
                  <a:pt x="6201" y="11138"/>
                  <a:pt x="6157" y="11214"/>
                  <a:pt x="610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232000" y="338472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6350" y="9401"/>
                </a:moveTo>
                <a:cubicBezTo>
                  <a:pt x="6341" y="9476"/>
                  <a:pt x="6314" y="9512"/>
                  <a:pt x="6276" y="9575"/>
                </a:cubicBezTo>
                <a:cubicBezTo>
                  <a:pt x="6240" y="9635"/>
                  <a:pt x="6211" y="9657"/>
                  <a:pt x="6201" y="9723"/>
                </a:cubicBezTo>
                <a:cubicBezTo>
                  <a:pt x="6294" y="9723"/>
                  <a:pt x="6416" y="9746"/>
                  <a:pt x="6499" y="9699"/>
                </a:cubicBezTo>
                <a:cubicBezTo>
                  <a:pt x="6524" y="9674"/>
                  <a:pt x="6532" y="9666"/>
                  <a:pt x="6548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313000" y="3286080"/>
            <a:ext cx="54000" cy="339840"/>
          </a:xfrm>
          <a:custGeom>
            <a:avLst/>
            <a:gdLst/>
            <a:ahLst/>
            <a:rect l="l" t="t" r="r" b="b"/>
            <a:pathLst>
              <a:path w="150" h="944">
                <a:moveTo>
                  <a:pt x="6573" y="9128"/>
                </a:moveTo>
                <a:cubicBezTo>
                  <a:pt x="6548" y="9221"/>
                  <a:pt x="6551" y="9308"/>
                  <a:pt x="6524" y="9401"/>
                </a:cubicBezTo>
                <a:cubicBezTo>
                  <a:pt x="6499" y="9486"/>
                  <a:pt x="6462" y="9565"/>
                  <a:pt x="6449" y="9649"/>
                </a:cubicBezTo>
                <a:cubicBezTo>
                  <a:pt x="6430" y="9771"/>
                  <a:pt x="6444" y="9902"/>
                  <a:pt x="6424" y="10021"/>
                </a:cubicBezTo>
                <a:cubicBezTo>
                  <a:pt x="6424" y="10038"/>
                  <a:pt x="6424" y="10054"/>
                  <a:pt x="6424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894040" y="422424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9004" y="11733"/>
                </a:moveTo>
                <a:cubicBezTo>
                  <a:pt x="8925" y="11771"/>
                  <a:pt x="8855" y="11815"/>
                  <a:pt x="8781" y="11857"/>
                </a:cubicBezTo>
                <a:cubicBezTo>
                  <a:pt x="8681" y="11914"/>
                  <a:pt x="8580" y="11969"/>
                  <a:pt x="8483" y="12030"/>
                </a:cubicBezTo>
                <a:cubicBezTo>
                  <a:pt x="8394" y="12086"/>
                  <a:pt x="8291" y="12145"/>
                  <a:pt x="8210" y="12204"/>
                </a:cubicBezTo>
                <a:cubicBezTo>
                  <a:pt x="8179" y="12226"/>
                  <a:pt x="8010" y="12405"/>
                  <a:pt x="8062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152880" y="4510080"/>
            <a:ext cx="133200" cy="2142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9079" y="12675"/>
                </a:moveTo>
                <a:cubicBezTo>
                  <a:pt x="9095" y="12683"/>
                  <a:pt x="9112" y="12692"/>
                  <a:pt x="9128" y="12700"/>
                </a:cubicBezTo>
                <a:cubicBezTo>
                  <a:pt x="9128" y="12637"/>
                  <a:pt x="9138" y="12589"/>
                  <a:pt x="9079" y="12551"/>
                </a:cubicBezTo>
                <a:cubicBezTo>
                  <a:pt x="9014" y="12509"/>
                  <a:pt x="8942" y="12529"/>
                  <a:pt x="8880" y="12551"/>
                </a:cubicBezTo>
                <a:cubicBezTo>
                  <a:pt x="8851" y="12561"/>
                  <a:pt x="8766" y="12615"/>
                  <a:pt x="8756" y="12650"/>
                </a:cubicBezTo>
                <a:cubicBezTo>
                  <a:pt x="8732" y="12732"/>
                  <a:pt x="8803" y="12794"/>
                  <a:pt x="8880" y="12774"/>
                </a:cubicBezTo>
                <a:cubicBezTo>
                  <a:pt x="8921" y="12763"/>
                  <a:pt x="8973" y="12706"/>
                  <a:pt x="9004" y="12675"/>
                </a:cubicBezTo>
                <a:cubicBezTo>
                  <a:pt x="9012" y="12667"/>
                  <a:pt x="9021" y="12658"/>
                  <a:pt x="9029" y="12650"/>
                </a:cubicBezTo>
                <a:cubicBezTo>
                  <a:pt x="9029" y="12732"/>
                  <a:pt x="9013" y="12795"/>
                  <a:pt x="9004" y="12874"/>
                </a:cubicBezTo>
                <a:cubicBezTo>
                  <a:pt x="9003" y="12886"/>
                  <a:pt x="8964" y="13129"/>
                  <a:pt x="8954" y="13122"/>
                </a:cubicBezTo>
                <a:cubicBezTo>
                  <a:pt x="8954" y="13105"/>
                  <a:pt x="8954" y="13089"/>
                  <a:pt x="8954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4037040"/>
            <a:ext cx="11592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0840" y="11212"/>
                </a:moveTo>
                <a:cubicBezTo>
                  <a:pt x="10832" y="11277"/>
                  <a:pt x="10819" y="11332"/>
                  <a:pt x="10790" y="11385"/>
                </a:cubicBezTo>
                <a:cubicBezTo>
                  <a:pt x="10751" y="11457"/>
                  <a:pt x="10740" y="11475"/>
                  <a:pt x="10740" y="11559"/>
                </a:cubicBezTo>
                <a:cubicBezTo>
                  <a:pt x="10826" y="11569"/>
                  <a:pt x="10899" y="11584"/>
                  <a:pt x="10988" y="11584"/>
                </a:cubicBezTo>
                <a:cubicBezTo>
                  <a:pt x="11013" y="11584"/>
                  <a:pt x="11038" y="11584"/>
                  <a:pt x="11063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946680" y="4054320"/>
            <a:ext cx="18720" cy="268560"/>
          </a:xfrm>
          <a:custGeom>
            <a:avLst/>
            <a:gdLst/>
            <a:ahLst/>
            <a:rect l="l" t="t" r="r" b="b"/>
            <a:pathLst>
              <a:path w="50" h="745">
                <a:moveTo>
                  <a:pt x="11013" y="11261"/>
                </a:moveTo>
                <a:cubicBezTo>
                  <a:pt x="10986" y="11385"/>
                  <a:pt x="10964" y="11483"/>
                  <a:pt x="10964" y="11609"/>
                </a:cubicBezTo>
                <a:cubicBezTo>
                  <a:pt x="10964" y="11711"/>
                  <a:pt x="10933" y="11948"/>
                  <a:pt x="10988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054320" y="4062240"/>
            <a:ext cx="187560" cy="190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1261" y="11336"/>
                </a:moveTo>
                <a:cubicBezTo>
                  <a:pt x="11375" y="11316"/>
                  <a:pt x="11469" y="11311"/>
                  <a:pt x="11584" y="11311"/>
                </a:cubicBezTo>
                <a:cubicBezTo>
                  <a:pt x="11658" y="11311"/>
                  <a:pt x="11722" y="11322"/>
                  <a:pt x="11782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4089240" y="4037040"/>
            <a:ext cx="36720" cy="23184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1460" y="11212"/>
                </a:moveTo>
                <a:cubicBezTo>
                  <a:pt x="11430" y="11294"/>
                  <a:pt x="11397" y="11374"/>
                  <a:pt x="11385" y="11460"/>
                </a:cubicBezTo>
                <a:cubicBezTo>
                  <a:pt x="11369" y="11574"/>
                  <a:pt x="11361" y="11691"/>
                  <a:pt x="11361" y="11807"/>
                </a:cubicBezTo>
                <a:cubicBezTo>
                  <a:pt x="11361" y="11824"/>
                  <a:pt x="11361" y="11840"/>
                  <a:pt x="1136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179960" y="4062240"/>
            <a:ext cx="52200" cy="260640"/>
          </a:xfrm>
          <a:custGeom>
            <a:avLst/>
            <a:gdLst/>
            <a:ahLst/>
            <a:rect l="l" t="t" r="r" b="b"/>
            <a:pathLst>
              <a:path w="149" h="720">
                <a:moveTo>
                  <a:pt x="11658" y="11286"/>
                </a:moveTo>
                <a:cubicBezTo>
                  <a:pt x="11621" y="11412"/>
                  <a:pt x="11609" y="11464"/>
                  <a:pt x="11609" y="11584"/>
                </a:cubicBezTo>
                <a:cubicBezTo>
                  <a:pt x="11609" y="11692"/>
                  <a:pt x="11639" y="11783"/>
                  <a:pt x="11683" y="11881"/>
                </a:cubicBezTo>
                <a:cubicBezTo>
                  <a:pt x="11705" y="11930"/>
                  <a:pt x="11745" y="11957"/>
                  <a:pt x="11757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onvert to degrees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9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965160" y="1268280"/>
            <a:ext cx="4125960" cy="2224080"/>
          </a:xfrm>
          <a:custGeom>
            <a:avLst/>
            <a:gdLst/>
            <a:ahLst/>
            <a:rect l="l" t="t" r="r" b="b"/>
            <a:pathLst>
              <a:path w="11461" h="6178">
                <a:moveTo>
                  <a:pt x="2679" y="5680"/>
                </a:moveTo>
                <a:cubicBezTo>
                  <a:pt x="2720" y="5639"/>
                  <a:pt x="2779" y="5582"/>
                  <a:pt x="2828" y="5556"/>
                </a:cubicBezTo>
                <a:cubicBezTo>
                  <a:pt x="2941" y="5497"/>
                  <a:pt x="3060" y="5441"/>
                  <a:pt x="3175" y="5383"/>
                </a:cubicBezTo>
                <a:cubicBezTo>
                  <a:pt x="3309" y="5316"/>
                  <a:pt x="3445" y="5256"/>
                  <a:pt x="3572" y="5184"/>
                </a:cubicBezTo>
                <a:cubicBezTo>
                  <a:pt x="3640" y="5145"/>
                  <a:pt x="3713" y="5081"/>
                  <a:pt x="3770" y="5110"/>
                </a:cubicBezTo>
              </a:path>
              <a:path w="11461" h="6178">
                <a:moveTo>
                  <a:pt x="7516" y="6772"/>
                </a:moveTo>
                <a:cubicBezTo>
                  <a:pt x="7609" y="6678"/>
                  <a:pt x="7710" y="6627"/>
                  <a:pt x="7813" y="6548"/>
                </a:cubicBezTo>
                <a:cubicBezTo>
                  <a:pt x="7939" y="6452"/>
                  <a:pt x="8041" y="6372"/>
                  <a:pt x="8186" y="6300"/>
                </a:cubicBezTo>
                <a:cubicBezTo>
                  <a:pt x="8289" y="6249"/>
                  <a:pt x="8409" y="6208"/>
                  <a:pt x="8508" y="6152"/>
                </a:cubicBezTo>
                <a:cubicBezTo>
                  <a:pt x="8542" y="6133"/>
                  <a:pt x="8576" y="6102"/>
                  <a:pt x="8607" y="6077"/>
                </a:cubicBezTo>
                <a:cubicBezTo>
                  <a:pt x="8562" y="6054"/>
                  <a:pt x="8572" y="6068"/>
                  <a:pt x="8508" y="6077"/>
                </a:cubicBezTo>
              </a:path>
              <a:path w="11461" h="6178">
                <a:moveTo>
                  <a:pt x="4936" y="5234"/>
                </a:moveTo>
                <a:cubicBezTo>
                  <a:pt x="5055" y="5223"/>
                  <a:pt x="5152" y="5170"/>
                  <a:pt x="5259" y="5110"/>
                </a:cubicBezTo>
                <a:cubicBezTo>
                  <a:pt x="5428" y="5015"/>
                  <a:pt x="5604" y="4921"/>
                  <a:pt x="5779" y="4837"/>
                </a:cubicBezTo>
                <a:cubicBezTo>
                  <a:pt x="5930" y="4765"/>
                  <a:pt x="6096" y="4701"/>
                  <a:pt x="6251" y="4638"/>
                </a:cubicBezTo>
                <a:cubicBezTo>
                  <a:pt x="6326" y="4608"/>
                  <a:pt x="6476" y="4502"/>
                  <a:pt x="6424" y="4564"/>
                </a:cubicBezTo>
                <a:cubicBezTo>
                  <a:pt x="6405" y="4605"/>
                  <a:pt x="6397" y="4611"/>
                  <a:pt x="6400" y="4638"/>
                </a:cubicBezTo>
              </a:path>
              <a:path w="11461" h="6178">
                <a:moveTo>
                  <a:pt x="8756" y="6772"/>
                </a:moveTo>
                <a:cubicBezTo>
                  <a:pt x="8816" y="6702"/>
                  <a:pt x="8935" y="6653"/>
                  <a:pt x="9029" y="6623"/>
                </a:cubicBezTo>
                <a:cubicBezTo>
                  <a:pt x="9200" y="6569"/>
                  <a:pt x="9375" y="6492"/>
                  <a:pt x="9550" y="6449"/>
                </a:cubicBezTo>
                <a:cubicBezTo>
                  <a:pt x="9735" y="6403"/>
                  <a:pt x="9935" y="6332"/>
                  <a:pt x="10120" y="6300"/>
                </a:cubicBezTo>
                <a:cubicBezTo>
                  <a:pt x="10207" y="6285"/>
                  <a:pt x="10322" y="6303"/>
                  <a:pt x="10393" y="6251"/>
                </a:cubicBezTo>
                <a:cubicBezTo>
                  <a:pt x="10401" y="6243"/>
                  <a:pt x="10410" y="6234"/>
                  <a:pt x="10418" y="6226"/>
                </a:cubicBezTo>
                <a:cubicBezTo>
                  <a:pt x="10338" y="6177"/>
                  <a:pt x="10305" y="6233"/>
                  <a:pt x="10220" y="6251"/>
                </a:cubicBezTo>
                <a:cubicBezTo>
                  <a:pt x="10203" y="6251"/>
                  <a:pt x="10187" y="6251"/>
                  <a:pt x="10170" y="6251"/>
                </a:cubicBezTo>
              </a:path>
              <a:path w="11461" h="6178">
                <a:moveTo>
                  <a:pt x="3919" y="6772"/>
                </a:moveTo>
                <a:cubicBezTo>
                  <a:pt x="3930" y="6696"/>
                  <a:pt x="3960" y="6681"/>
                  <a:pt x="4018" y="6623"/>
                </a:cubicBezTo>
                <a:cubicBezTo>
                  <a:pt x="4089" y="6552"/>
                  <a:pt x="4164" y="6486"/>
                  <a:pt x="4242" y="6424"/>
                </a:cubicBezTo>
                <a:cubicBezTo>
                  <a:pt x="4382" y="6313"/>
                  <a:pt x="4552" y="6180"/>
                  <a:pt x="4713" y="6102"/>
                </a:cubicBezTo>
                <a:cubicBezTo>
                  <a:pt x="4788" y="6066"/>
                  <a:pt x="4866" y="6027"/>
                  <a:pt x="4936" y="5978"/>
                </a:cubicBezTo>
                <a:cubicBezTo>
                  <a:pt x="4962" y="5960"/>
                  <a:pt x="4955" y="5961"/>
                  <a:pt x="4986" y="5953"/>
                </a:cubicBezTo>
              </a:path>
              <a:path w="11461" h="6178">
                <a:moveTo>
                  <a:pt x="5234" y="6474"/>
                </a:moveTo>
                <a:cubicBezTo>
                  <a:pt x="5234" y="6650"/>
                  <a:pt x="5236" y="6826"/>
                  <a:pt x="5259" y="6995"/>
                </a:cubicBezTo>
                <a:cubicBezTo>
                  <a:pt x="5268" y="7062"/>
                  <a:pt x="5278" y="7127"/>
                  <a:pt x="5283" y="7193"/>
                </a:cubicBezTo>
                <a:cubicBezTo>
                  <a:pt x="5283" y="7201"/>
                  <a:pt x="5283" y="7210"/>
                  <a:pt x="5283" y="7218"/>
                </a:cubicBezTo>
              </a:path>
              <a:path w="11461" h="6178">
                <a:moveTo>
                  <a:pt x="8012" y="5383"/>
                </a:moveTo>
                <a:cubicBezTo>
                  <a:pt x="7981" y="5321"/>
                  <a:pt x="8048" y="5314"/>
                  <a:pt x="8111" y="5283"/>
                </a:cubicBezTo>
                <a:cubicBezTo>
                  <a:pt x="8220" y="5229"/>
                  <a:pt x="8321" y="5182"/>
                  <a:pt x="8434" y="5135"/>
                </a:cubicBezTo>
                <a:cubicBezTo>
                  <a:pt x="8583" y="5073"/>
                  <a:pt x="8729" y="5015"/>
                  <a:pt x="8880" y="4961"/>
                </a:cubicBezTo>
                <a:cubicBezTo>
                  <a:pt x="9039" y="4904"/>
                  <a:pt x="9232" y="4878"/>
                  <a:pt x="9376" y="4787"/>
                </a:cubicBezTo>
                <a:cubicBezTo>
                  <a:pt x="9399" y="4764"/>
                  <a:pt x="9407" y="4753"/>
                  <a:pt x="9401" y="4787"/>
                </a:cubicBezTo>
              </a:path>
              <a:path w="11461" h="6178">
                <a:moveTo>
                  <a:pt x="7987" y="3795"/>
                </a:moveTo>
                <a:cubicBezTo>
                  <a:pt x="7944" y="3770"/>
                  <a:pt x="7923" y="3755"/>
                  <a:pt x="7888" y="3721"/>
                </a:cubicBezTo>
                <a:cubicBezTo>
                  <a:pt x="7930" y="3668"/>
                  <a:pt x="7962" y="3621"/>
                  <a:pt x="8012" y="3572"/>
                </a:cubicBezTo>
                <a:cubicBezTo>
                  <a:pt x="8042" y="3542"/>
                  <a:pt x="8140" y="3512"/>
                  <a:pt x="8186" y="3522"/>
                </a:cubicBezTo>
                <a:cubicBezTo>
                  <a:pt x="8245" y="3535"/>
                  <a:pt x="8291" y="3589"/>
                  <a:pt x="8285" y="3646"/>
                </a:cubicBezTo>
                <a:cubicBezTo>
                  <a:pt x="8271" y="3771"/>
                  <a:pt x="8238" y="3838"/>
                  <a:pt x="8186" y="3944"/>
                </a:cubicBezTo>
                <a:cubicBezTo>
                  <a:pt x="8144" y="4029"/>
                  <a:pt x="8067" y="4113"/>
                  <a:pt x="8012" y="4192"/>
                </a:cubicBezTo>
                <a:cubicBezTo>
                  <a:pt x="7984" y="4220"/>
                  <a:pt x="7975" y="4233"/>
                  <a:pt x="7987" y="4266"/>
                </a:cubicBezTo>
                <a:cubicBezTo>
                  <a:pt x="8032" y="4284"/>
                  <a:pt x="8105" y="4276"/>
                  <a:pt x="8161" y="4242"/>
                </a:cubicBezTo>
                <a:cubicBezTo>
                  <a:pt x="8222" y="4205"/>
                  <a:pt x="8269" y="4196"/>
                  <a:pt x="8334" y="4167"/>
                </a:cubicBezTo>
                <a:cubicBezTo>
                  <a:pt x="8384" y="4142"/>
                  <a:pt x="8400" y="4134"/>
                  <a:pt x="8434" y="4118"/>
                </a:cubicBezTo>
              </a:path>
              <a:path w="11461" h="6178">
                <a:moveTo>
                  <a:pt x="8582" y="3572"/>
                </a:moveTo>
                <a:cubicBezTo>
                  <a:pt x="8541" y="3680"/>
                  <a:pt x="8508" y="3754"/>
                  <a:pt x="8508" y="3870"/>
                </a:cubicBezTo>
                <a:cubicBezTo>
                  <a:pt x="8508" y="3916"/>
                  <a:pt x="8519" y="4030"/>
                  <a:pt x="8582" y="4043"/>
                </a:cubicBezTo>
                <a:cubicBezTo>
                  <a:pt x="8691" y="4066"/>
                  <a:pt x="8758" y="4005"/>
                  <a:pt x="8806" y="3919"/>
                </a:cubicBezTo>
                <a:cubicBezTo>
                  <a:pt x="8830" y="3876"/>
                  <a:pt x="8886" y="3795"/>
                  <a:pt x="8880" y="3746"/>
                </a:cubicBezTo>
                <a:cubicBezTo>
                  <a:pt x="8876" y="3707"/>
                  <a:pt x="8790" y="3605"/>
                  <a:pt x="8756" y="3597"/>
                </a:cubicBezTo>
                <a:cubicBezTo>
                  <a:pt x="8695" y="3597"/>
                  <a:pt x="8680" y="3588"/>
                  <a:pt x="8657" y="3621"/>
                </a:cubicBezTo>
              </a:path>
              <a:path w="11461" h="6178">
                <a:moveTo>
                  <a:pt x="12898" y="4862"/>
                </a:moveTo>
                <a:cubicBezTo>
                  <a:pt x="12869" y="4912"/>
                  <a:pt x="12857" y="4953"/>
                  <a:pt x="12849" y="5011"/>
                </a:cubicBezTo>
                <a:cubicBezTo>
                  <a:pt x="12882" y="4977"/>
                  <a:pt x="12939" y="4936"/>
                  <a:pt x="12948" y="4887"/>
                </a:cubicBezTo>
                <a:cubicBezTo>
                  <a:pt x="12960" y="4821"/>
                  <a:pt x="12967" y="4726"/>
                  <a:pt x="13047" y="4688"/>
                </a:cubicBezTo>
                <a:cubicBezTo>
                  <a:pt x="13141" y="4644"/>
                  <a:pt x="13136" y="4777"/>
                  <a:pt x="13146" y="4812"/>
                </a:cubicBezTo>
                <a:cubicBezTo>
                  <a:pt x="13170" y="4891"/>
                  <a:pt x="13171" y="4949"/>
                  <a:pt x="13171" y="5035"/>
                </a:cubicBezTo>
                <a:cubicBezTo>
                  <a:pt x="13171" y="5131"/>
                  <a:pt x="13179" y="5217"/>
                  <a:pt x="13146" y="5308"/>
                </a:cubicBezTo>
                <a:cubicBezTo>
                  <a:pt x="13120" y="5382"/>
                  <a:pt x="13129" y="5447"/>
                  <a:pt x="13072" y="5507"/>
                </a:cubicBezTo>
                <a:cubicBezTo>
                  <a:pt x="13018" y="5564"/>
                  <a:pt x="12975" y="5626"/>
                  <a:pt x="12898" y="5631"/>
                </a:cubicBezTo>
                <a:cubicBezTo>
                  <a:pt x="12882" y="5631"/>
                  <a:pt x="12865" y="5631"/>
                  <a:pt x="12849" y="5631"/>
                </a:cubicBezTo>
                <a:cubicBezTo>
                  <a:pt x="12824" y="5532"/>
                  <a:pt x="12847" y="5539"/>
                  <a:pt x="12923" y="5482"/>
                </a:cubicBezTo>
                <a:cubicBezTo>
                  <a:pt x="12966" y="5450"/>
                  <a:pt x="13067" y="5437"/>
                  <a:pt x="13122" y="5457"/>
                </a:cubicBezTo>
                <a:cubicBezTo>
                  <a:pt x="13155" y="5469"/>
                  <a:pt x="13219" y="5532"/>
                  <a:pt x="13246" y="5556"/>
                </a:cubicBezTo>
                <a:cubicBezTo>
                  <a:pt x="13278" y="5585"/>
                  <a:pt x="13307" y="5656"/>
                  <a:pt x="13345" y="5606"/>
                </a:cubicBezTo>
                <a:cubicBezTo>
                  <a:pt x="13353" y="5589"/>
                  <a:pt x="13362" y="5573"/>
                  <a:pt x="13370" y="5556"/>
                </a:cubicBezTo>
              </a:path>
              <a:path w="11461" h="6178">
                <a:moveTo>
                  <a:pt x="13568" y="4787"/>
                </a:moveTo>
                <a:cubicBezTo>
                  <a:pt x="13619" y="4736"/>
                  <a:pt x="13551" y="4911"/>
                  <a:pt x="13543" y="4961"/>
                </a:cubicBezTo>
                <a:cubicBezTo>
                  <a:pt x="13530" y="5043"/>
                  <a:pt x="13494" y="5213"/>
                  <a:pt x="13519" y="5308"/>
                </a:cubicBezTo>
                <a:cubicBezTo>
                  <a:pt x="13534" y="5364"/>
                  <a:pt x="13534" y="5440"/>
                  <a:pt x="13568" y="5482"/>
                </a:cubicBezTo>
                <a:cubicBezTo>
                  <a:pt x="13623" y="5551"/>
                  <a:pt x="13666" y="5532"/>
                  <a:pt x="13742" y="5507"/>
                </a:cubicBezTo>
                <a:cubicBezTo>
                  <a:pt x="13825" y="5480"/>
                  <a:pt x="13897" y="5431"/>
                  <a:pt x="13940" y="5358"/>
                </a:cubicBezTo>
                <a:cubicBezTo>
                  <a:pt x="13989" y="5275"/>
                  <a:pt x="13990" y="5203"/>
                  <a:pt x="13990" y="5110"/>
                </a:cubicBezTo>
                <a:cubicBezTo>
                  <a:pt x="13990" y="5057"/>
                  <a:pt x="13980" y="4928"/>
                  <a:pt x="13940" y="4887"/>
                </a:cubicBezTo>
                <a:cubicBezTo>
                  <a:pt x="13885" y="4831"/>
                  <a:pt x="13802" y="4791"/>
                  <a:pt x="13742" y="4738"/>
                </a:cubicBezTo>
                <a:cubicBezTo>
                  <a:pt x="13708" y="4708"/>
                  <a:pt x="13594" y="4675"/>
                  <a:pt x="13618" y="4762"/>
                </a:cubicBezTo>
                <a:cubicBezTo>
                  <a:pt x="13646" y="4790"/>
                  <a:pt x="13659" y="4799"/>
                  <a:pt x="13692" y="4787"/>
                </a:cubicBezTo>
              </a:path>
              <a:path w="11461" h="6178">
                <a:moveTo>
                  <a:pt x="13940" y="4291"/>
                </a:moveTo>
                <a:cubicBezTo>
                  <a:pt x="13916" y="4331"/>
                  <a:pt x="13895" y="4413"/>
                  <a:pt x="13915" y="4465"/>
                </a:cubicBezTo>
                <a:cubicBezTo>
                  <a:pt x="13935" y="4516"/>
                  <a:pt x="14019" y="4531"/>
                  <a:pt x="14064" y="4514"/>
                </a:cubicBezTo>
                <a:cubicBezTo>
                  <a:pt x="14124" y="4492"/>
                  <a:pt x="14153" y="4395"/>
                  <a:pt x="14139" y="4341"/>
                </a:cubicBezTo>
                <a:cubicBezTo>
                  <a:pt x="14132" y="4315"/>
                  <a:pt x="14052" y="4203"/>
                  <a:pt x="14015" y="4192"/>
                </a:cubicBezTo>
                <a:cubicBezTo>
                  <a:pt x="13954" y="4175"/>
                  <a:pt x="13896" y="4206"/>
                  <a:pt x="13841" y="4217"/>
                </a:cubicBezTo>
              </a:path>
              <a:path w="11461" h="6178">
                <a:moveTo>
                  <a:pt x="5904" y="8310"/>
                </a:moveTo>
                <a:cubicBezTo>
                  <a:pt x="5854" y="8391"/>
                  <a:pt x="5889" y="8391"/>
                  <a:pt x="5953" y="8334"/>
                </a:cubicBezTo>
                <a:cubicBezTo>
                  <a:pt x="5961" y="8326"/>
                  <a:pt x="5970" y="8318"/>
                  <a:pt x="5978" y="8310"/>
                </a:cubicBezTo>
                <a:cubicBezTo>
                  <a:pt x="5946" y="8297"/>
                  <a:pt x="5852" y="8309"/>
                  <a:pt x="5904" y="8334"/>
                </a:cubicBezTo>
              </a:path>
              <a:path w="11461" h="6178">
                <a:moveTo>
                  <a:pt x="6970" y="7243"/>
                </a:moveTo>
                <a:cubicBezTo>
                  <a:pt x="6970" y="7347"/>
                  <a:pt x="6983" y="7444"/>
                  <a:pt x="6995" y="7541"/>
                </a:cubicBezTo>
                <a:cubicBezTo>
                  <a:pt x="7013" y="7684"/>
                  <a:pt x="6995" y="7842"/>
                  <a:pt x="6995" y="7987"/>
                </a:cubicBezTo>
                <a:cubicBezTo>
                  <a:pt x="6970" y="7938"/>
                  <a:pt x="6962" y="7921"/>
                  <a:pt x="6995" y="7888"/>
                </a:cubicBezTo>
              </a:path>
              <a:path w="11461" h="6178">
                <a:moveTo>
                  <a:pt x="7441" y="7218"/>
                </a:moveTo>
                <a:cubicBezTo>
                  <a:pt x="7371" y="7227"/>
                  <a:pt x="7304" y="7252"/>
                  <a:pt x="7243" y="7293"/>
                </a:cubicBezTo>
                <a:cubicBezTo>
                  <a:pt x="7132" y="7368"/>
                  <a:pt x="7218" y="7488"/>
                  <a:pt x="7268" y="7565"/>
                </a:cubicBezTo>
                <a:cubicBezTo>
                  <a:pt x="7324" y="7652"/>
                  <a:pt x="7418" y="7738"/>
                  <a:pt x="7441" y="7838"/>
                </a:cubicBezTo>
                <a:cubicBezTo>
                  <a:pt x="7452" y="7885"/>
                  <a:pt x="7480" y="7981"/>
                  <a:pt x="7417" y="8012"/>
                </a:cubicBezTo>
                <a:cubicBezTo>
                  <a:pt x="7374" y="8033"/>
                  <a:pt x="7260" y="8021"/>
                  <a:pt x="7243" y="7962"/>
                </a:cubicBezTo>
                <a:cubicBezTo>
                  <a:pt x="7222" y="7889"/>
                  <a:pt x="7263" y="7826"/>
                  <a:pt x="7293" y="7764"/>
                </a:cubicBezTo>
                <a:cubicBezTo>
                  <a:pt x="7334" y="7682"/>
                  <a:pt x="7406" y="7623"/>
                  <a:pt x="7441" y="7541"/>
                </a:cubicBezTo>
                <a:cubicBezTo>
                  <a:pt x="7472" y="7468"/>
                  <a:pt x="7514" y="7421"/>
                  <a:pt x="7541" y="7367"/>
                </a:cubicBezTo>
              </a:path>
              <a:path w="11461" h="6178">
                <a:moveTo>
                  <a:pt x="7714" y="7317"/>
                </a:moveTo>
                <a:cubicBezTo>
                  <a:pt x="7741" y="7415"/>
                  <a:pt x="7746" y="7469"/>
                  <a:pt x="7714" y="7565"/>
                </a:cubicBezTo>
                <a:cubicBezTo>
                  <a:pt x="7694" y="7625"/>
                  <a:pt x="7651" y="7750"/>
                  <a:pt x="7665" y="7813"/>
                </a:cubicBezTo>
                <a:cubicBezTo>
                  <a:pt x="7681" y="7886"/>
                  <a:pt x="7690" y="7953"/>
                  <a:pt x="7764" y="7987"/>
                </a:cubicBezTo>
                <a:cubicBezTo>
                  <a:pt x="7832" y="8018"/>
                  <a:pt x="7923" y="8001"/>
                  <a:pt x="7987" y="7962"/>
                </a:cubicBezTo>
                <a:cubicBezTo>
                  <a:pt x="8037" y="7932"/>
                  <a:pt x="8076" y="7816"/>
                  <a:pt x="8086" y="7764"/>
                </a:cubicBezTo>
                <a:cubicBezTo>
                  <a:pt x="8100" y="7689"/>
                  <a:pt x="8084" y="7609"/>
                  <a:pt x="8062" y="7541"/>
                </a:cubicBezTo>
                <a:cubicBezTo>
                  <a:pt x="8026" y="7432"/>
                  <a:pt x="7993" y="7416"/>
                  <a:pt x="7913" y="7342"/>
                </a:cubicBezTo>
                <a:cubicBezTo>
                  <a:pt x="7880" y="7311"/>
                  <a:pt x="7813" y="7252"/>
                  <a:pt x="7764" y="7268"/>
                </a:cubicBezTo>
                <a:cubicBezTo>
                  <a:pt x="7756" y="7276"/>
                  <a:pt x="7747" y="7285"/>
                  <a:pt x="7739" y="7293"/>
                </a:cubicBezTo>
              </a:path>
              <a:path w="11461" h="6178">
                <a:moveTo>
                  <a:pt x="8310" y="7144"/>
                </a:moveTo>
                <a:cubicBezTo>
                  <a:pt x="8287" y="7167"/>
                  <a:pt x="8208" y="7240"/>
                  <a:pt x="8210" y="7268"/>
                </a:cubicBezTo>
                <a:cubicBezTo>
                  <a:pt x="8218" y="7284"/>
                  <a:pt x="8227" y="7301"/>
                  <a:pt x="8235" y="7317"/>
                </a:cubicBezTo>
                <a:cubicBezTo>
                  <a:pt x="8282" y="7311"/>
                  <a:pt x="8357" y="7294"/>
                  <a:pt x="8384" y="7243"/>
                </a:cubicBezTo>
                <a:cubicBezTo>
                  <a:pt x="8406" y="7178"/>
                  <a:pt x="8414" y="7163"/>
                  <a:pt x="8409" y="7119"/>
                </a:cubicBezTo>
                <a:cubicBezTo>
                  <a:pt x="8355" y="7097"/>
                  <a:pt x="8347" y="7112"/>
                  <a:pt x="8285" y="7144"/>
                </a:cubicBezTo>
              </a:path>
              <a:path w="11461" h="6178">
                <a:moveTo>
                  <a:pt x="6672" y="8186"/>
                </a:moveTo>
                <a:cubicBezTo>
                  <a:pt x="6774" y="8211"/>
                  <a:pt x="6864" y="8210"/>
                  <a:pt x="6970" y="8210"/>
                </a:cubicBezTo>
                <a:cubicBezTo>
                  <a:pt x="7610" y="8210"/>
                  <a:pt x="9444" y="8366"/>
                  <a:pt x="8830" y="8186"/>
                </a:cubicBezTo>
                <a:cubicBezTo>
                  <a:pt x="8814" y="8186"/>
                  <a:pt x="8797" y="8186"/>
                  <a:pt x="8781" y="8186"/>
                </a:cubicBezTo>
              </a:path>
              <a:path w="11461" h="6178">
                <a:moveTo>
                  <a:pt x="6697" y="8682"/>
                </a:moveTo>
                <a:cubicBezTo>
                  <a:pt x="6755" y="8601"/>
                  <a:pt x="6815" y="8595"/>
                  <a:pt x="6921" y="8582"/>
                </a:cubicBezTo>
                <a:cubicBezTo>
                  <a:pt x="7150" y="8553"/>
                  <a:pt x="7390" y="8592"/>
                  <a:pt x="7615" y="8558"/>
                </a:cubicBezTo>
                <a:cubicBezTo>
                  <a:pt x="7660" y="8558"/>
                  <a:pt x="7680" y="8561"/>
                  <a:pt x="7640" y="8533"/>
                </a:cubicBezTo>
              </a:path>
              <a:path w="11461" h="6178">
                <a:moveTo>
                  <a:pt x="6995" y="8607"/>
                </a:moveTo>
                <a:cubicBezTo>
                  <a:pt x="6988" y="8710"/>
                  <a:pt x="6970" y="8801"/>
                  <a:pt x="6970" y="8905"/>
                </a:cubicBezTo>
                <a:cubicBezTo>
                  <a:pt x="6970" y="9004"/>
                  <a:pt x="6941" y="9224"/>
                  <a:pt x="6995" y="9277"/>
                </a:cubicBezTo>
              </a:path>
              <a:path w="11461" h="6178">
                <a:moveTo>
                  <a:pt x="7193" y="8657"/>
                </a:moveTo>
                <a:cubicBezTo>
                  <a:pt x="7193" y="8765"/>
                  <a:pt x="7213" y="8851"/>
                  <a:pt x="7218" y="8954"/>
                </a:cubicBezTo>
                <a:cubicBezTo>
                  <a:pt x="7222" y="9039"/>
                  <a:pt x="7241" y="9144"/>
                  <a:pt x="7268" y="9227"/>
                </a:cubicBezTo>
                <a:cubicBezTo>
                  <a:pt x="7290" y="9271"/>
                  <a:pt x="7293" y="9292"/>
                  <a:pt x="7317" y="9252"/>
                </a:cubicBezTo>
              </a:path>
              <a:path w="11461" h="6178">
                <a:moveTo>
                  <a:pt x="7739" y="9004"/>
                </a:moveTo>
                <a:cubicBezTo>
                  <a:pt x="7743" y="9064"/>
                  <a:pt x="7740" y="9191"/>
                  <a:pt x="7764" y="9252"/>
                </a:cubicBezTo>
                <a:cubicBezTo>
                  <a:pt x="7772" y="9260"/>
                  <a:pt x="7781" y="9269"/>
                  <a:pt x="7789" y="9277"/>
                </a:cubicBezTo>
                <a:cubicBezTo>
                  <a:pt x="7780" y="9182"/>
                  <a:pt x="7774" y="9143"/>
                  <a:pt x="7789" y="9054"/>
                </a:cubicBezTo>
                <a:cubicBezTo>
                  <a:pt x="7802" y="8979"/>
                  <a:pt x="7780" y="8942"/>
                  <a:pt x="7838" y="8880"/>
                </a:cubicBezTo>
                <a:cubicBezTo>
                  <a:pt x="7878" y="8837"/>
                  <a:pt x="7959" y="8747"/>
                  <a:pt x="8012" y="8731"/>
                </a:cubicBezTo>
                <a:cubicBezTo>
                  <a:pt x="8071" y="8731"/>
                  <a:pt x="8097" y="8728"/>
                  <a:pt x="8136" y="8706"/>
                </a:cubicBezTo>
              </a:path>
              <a:path w="11461" h="6178">
                <a:moveTo>
                  <a:pt x="8483" y="8781"/>
                </a:moveTo>
                <a:cubicBezTo>
                  <a:pt x="8417" y="8829"/>
                  <a:pt x="8312" y="8894"/>
                  <a:pt x="8260" y="8954"/>
                </a:cubicBezTo>
                <a:cubicBezTo>
                  <a:pt x="8217" y="9003"/>
                  <a:pt x="8196" y="9090"/>
                  <a:pt x="8210" y="9153"/>
                </a:cubicBezTo>
                <a:cubicBezTo>
                  <a:pt x="8227" y="9229"/>
                  <a:pt x="8303" y="9268"/>
                  <a:pt x="8384" y="9252"/>
                </a:cubicBezTo>
                <a:cubicBezTo>
                  <a:pt x="8434" y="9242"/>
                  <a:pt x="8496" y="9177"/>
                  <a:pt x="8508" y="9128"/>
                </a:cubicBezTo>
                <a:cubicBezTo>
                  <a:pt x="8527" y="9048"/>
                  <a:pt x="8502" y="8955"/>
                  <a:pt x="8483" y="8880"/>
                </a:cubicBezTo>
                <a:cubicBezTo>
                  <a:pt x="8457" y="8931"/>
                  <a:pt x="8499" y="8968"/>
                  <a:pt x="8533" y="9029"/>
                </a:cubicBezTo>
                <a:cubicBezTo>
                  <a:pt x="8561" y="9079"/>
                  <a:pt x="8603" y="9151"/>
                  <a:pt x="8657" y="9178"/>
                </a:cubicBezTo>
                <a:cubicBezTo>
                  <a:pt x="8665" y="9178"/>
                  <a:pt x="8674" y="9178"/>
                  <a:pt x="8682" y="9178"/>
                </a:cubicBezTo>
              </a:path>
              <a:path w="11461" h="6178">
                <a:moveTo>
                  <a:pt x="9079" y="8880"/>
                </a:moveTo>
                <a:cubicBezTo>
                  <a:pt x="9011" y="8861"/>
                  <a:pt x="8974" y="8883"/>
                  <a:pt x="8905" y="8930"/>
                </a:cubicBezTo>
                <a:cubicBezTo>
                  <a:pt x="8842" y="8973"/>
                  <a:pt x="8790" y="9048"/>
                  <a:pt x="8806" y="9128"/>
                </a:cubicBezTo>
                <a:cubicBezTo>
                  <a:pt x="8827" y="9230"/>
                  <a:pt x="8920" y="9263"/>
                  <a:pt x="9004" y="9227"/>
                </a:cubicBezTo>
                <a:cubicBezTo>
                  <a:pt x="9058" y="9204"/>
                  <a:pt x="9105" y="9158"/>
                  <a:pt x="9128" y="9103"/>
                </a:cubicBezTo>
                <a:cubicBezTo>
                  <a:pt x="9164" y="9016"/>
                  <a:pt x="9199" y="8947"/>
                  <a:pt x="9203" y="8855"/>
                </a:cubicBezTo>
                <a:cubicBezTo>
                  <a:pt x="9207" y="8763"/>
                  <a:pt x="9191" y="8694"/>
                  <a:pt x="9178" y="8607"/>
                </a:cubicBezTo>
                <a:cubicBezTo>
                  <a:pt x="9170" y="8549"/>
                  <a:pt x="9182" y="8532"/>
                  <a:pt x="9153" y="8483"/>
                </a:cubicBezTo>
                <a:cubicBezTo>
                  <a:pt x="9111" y="8566"/>
                  <a:pt x="9099" y="8620"/>
                  <a:pt x="9079" y="8706"/>
                </a:cubicBezTo>
                <a:cubicBezTo>
                  <a:pt x="9059" y="8794"/>
                  <a:pt x="9040" y="8892"/>
                  <a:pt x="9079" y="8979"/>
                </a:cubicBezTo>
                <a:cubicBezTo>
                  <a:pt x="9110" y="9048"/>
                  <a:pt x="9165" y="9114"/>
                  <a:pt x="9203" y="9178"/>
                </a:cubicBezTo>
                <a:cubicBezTo>
                  <a:pt x="9238" y="9237"/>
                  <a:pt x="9278" y="9251"/>
                  <a:pt x="9327" y="9227"/>
                </a:cubicBezTo>
              </a:path>
              <a:path w="11461" h="6178">
                <a:moveTo>
                  <a:pt x="9699" y="8062"/>
                </a:moveTo>
                <a:cubicBezTo>
                  <a:pt x="9782" y="8052"/>
                  <a:pt x="9910" y="8032"/>
                  <a:pt x="9996" y="8062"/>
                </a:cubicBezTo>
                <a:cubicBezTo>
                  <a:pt x="10025" y="8090"/>
                  <a:pt x="10038" y="8098"/>
                  <a:pt x="10071" y="8086"/>
                </a:cubicBezTo>
              </a:path>
              <a:path w="11461" h="6178">
                <a:moveTo>
                  <a:pt x="9798" y="8310"/>
                </a:moveTo>
                <a:cubicBezTo>
                  <a:pt x="9929" y="8331"/>
                  <a:pt x="9969" y="8334"/>
                  <a:pt x="10096" y="8310"/>
                </a:cubicBezTo>
              </a:path>
              <a:path w="11461" h="6178">
                <a:moveTo>
                  <a:pt x="3349" y="8235"/>
                </a:moveTo>
                <a:cubicBezTo>
                  <a:pt x="3379" y="8192"/>
                  <a:pt x="3432" y="8121"/>
                  <a:pt x="3473" y="8086"/>
                </a:cubicBezTo>
                <a:cubicBezTo>
                  <a:pt x="3548" y="8022"/>
                  <a:pt x="3619" y="7952"/>
                  <a:pt x="3696" y="7888"/>
                </a:cubicBezTo>
                <a:cubicBezTo>
                  <a:pt x="3787" y="7812"/>
                  <a:pt x="3902" y="7764"/>
                  <a:pt x="3994" y="7689"/>
                </a:cubicBezTo>
                <a:cubicBezTo>
                  <a:pt x="4058" y="7637"/>
                  <a:pt x="4130" y="7597"/>
                  <a:pt x="4192" y="7541"/>
                </a:cubicBezTo>
                <a:cubicBezTo>
                  <a:pt x="4200" y="7533"/>
                  <a:pt x="4209" y="7524"/>
                  <a:pt x="4217" y="7516"/>
                </a:cubicBezTo>
              </a:path>
              <a:path w="11461" h="6178">
                <a:moveTo>
                  <a:pt x="6871" y="9302"/>
                </a:moveTo>
                <a:cubicBezTo>
                  <a:pt x="6825" y="9256"/>
                  <a:pt x="6804" y="9226"/>
                  <a:pt x="6871" y="9178"/>
                </a:cubicBezTo>
                <a:cubicBezTo>
                  <a:pt x="6939" y="9130"/>
                  <a:pt x="7002" y="9079"/>
                  <a:pt x="7069" y="9029"/>
                </a:cubicBezTo>
                <a:cubicBezTo>
                  <a:pt x="7177" y="8949"/>
                  <a:pt x="7241" y="8926"/>
                  <a:pt x="7367" y="8880"/>
                </a:cubicBezTo>
                <a:cubicBezTo>
                  <a:pt x="7439" y="8854"/>
                  <a:pt x="7525" y="8818"/>
                  <a:pt x="7590" y="8781"/>
                </a:cubicBezTo>
                <a:cubicBezTo>
                  <a:pt x="7645" y="8750"/>
                  <a:pt x="7633" y="8733"/>
                  <a:pt x="7689" y="8756"/>
                </a:cubicBezTo>
              </a:path>
              <a:path w="11461" h="6178">
                <a:moveTo>
                  <a:pt x="4911" y="7962"/>
                </a:moveTo>
                <a:cubicBezTo>
                  <a:pt x="4933" y="7999"/>
                  <a:pt x="4939" y="8025"/>
                  <a:pt x="4961" y="8062"/>
                </a:cubicBezTo>
                <a:cubicBezTo>
                  <a:pt x="4961" y="7953"/>
                  <a:pt x="4944" y="7839"/>
                  <a:pt x="4986" y="7739"/>
                </a:cubicBezTo>
                <a:cubicBezTo>
                  <a:pt x="5013" y="7674"/>
                  <a:pt x="5050" y="7647"/>
                  <a:pt x="5110" y="7615"/>
                </a:cubicBezTo>
                <a:cubicBezTo>
                  <a:pt x="5126" y="7607"/>
                  <a:pt x="5143" y="7598"/>
                  <a:pt x="5159" y="7590"/>
                </a:cubicBezTo>
              </a:path>
              <a:path w="11461" h="6178">
                <a:moveTo>
                  <a:pt x="5358" y="7565"/>
                </a:moveTo>
                <a:cubicBezTo>
                  <a:pt x="5336" y="7600"/>
                  <a:pt x="5246" y="7698"/>
                  <a:pt x="5234" y="7739"/>
                </a:cubicBezTo>
                <a:cubicBezTo>
                  <a:pt x="5216" y="7803"/>
                  <a:pt x="5282" y="7892"/>
                  <a:pt x="5333" y="7813"/>
                </a:cubicBezTo>
                <a:cubicBezTo>
                  <a:pt x="5352" y="7784"/>
                  <a:pt x="5353" y="7751"/>
                  <a:pt x="5358" y="7714"/>
                </a:cubicBezTo>
                <a:cubicBezTo>
                  <a:pt x="5388" y="7806"/>
                  <a:pt x="5420" y="7754"/>
                  <a:pt x="5507" y="7739"/>
                </a:cubicBezTo>
                <a:cubicBezTo>
                  <a:pt x="5560" y="7730"/>
                  <a:pt x="5598" y="7717"/>
                  <a:pt x="5631" y="7665"/>
                </a:cubicBezTo>
                <a:cubicBezTo>
                  <a:pt x="5654" y="7617"/>
                  <a:pt x="5662" y="7602"/>
                  <a:pt x="5655" y="7565"/>
                </a:cubicBezTo>
                <a:cubicBezTo>
                  <a:pt x="5588" y="7634"/>
                  <a:pt x="5576" y="7648"/>
                  <a:pt x="5631" y="7714"/>
                </a:cubicBezTo>
                <a:cubicBezTo>
                  <a:pt x="5664" y="7655"/>
                  <a:pt x="5699" y="7602"/>
                  <a:pt x="5730" y="7541"/>
                </a:cubicBezTo>
                <a:cubicBezTo>
                  <a:pt x="5769" y="7463"/>
                  <a:pt x="5779" y="7403"/>
                  <a:pt x="5779" y="7317"/>
                </a:cubicBezTo>
                <a:cubicBezTo>
                  <a:pt x="5718" y="7369"/>
                  <a:pt x="5730" y="7376"/>
                  <a:pt x="5705" y="7466"/>
                </a:cubicBezTo>
              </a:path>
              <a:path w="11461" h="6178">
                <a:moveTo>
                  <a:pt x="4961" y="7913"/>
                </a:moveTo>
                <a:cubicBezTo>
                  <a:pt x="4944" y="7913"/>
                  <a:pt x="4928" y="7913"/>
                  <a:pt x="4911" y="7913"/>
                </a:cubicBezTo>
                <a:cubicBezTo>
                  <a:pt x="4995" y="7839"/>
                  <a:pt x="5087" y="7797"/>
                  <a:pt x="5184" y="7739"/>
                </a:cubicBezTo>
                <a:cubicBezTo>
                  <a:pt x="5352" y="7638"/>
                  <a:pt x="5519" y="7532"/>
                  <a:pt x="5705" y="7466"/>
                </a:cubicBezTo>
                <a:cubicBezTo>
                  <a:pt x="5804" y="7431"/>
                  <a:pt x="5884" y="7389"/>
                  <a:pt x="5978" y="7342"/>
                </a:cubicBezTo>
                <a:cubicBezTo>
                  <a:pt x="6019" y="7322"/>
                  <a:pt x="6035" y="7303"/>
                  <a:pt x="6028" y="7342"/>
                </a:cubicBezTo>
              </a:path>
              <a:path w="11461" h="6178">
                <a:moveTo>
                  <a:pt x="7665" y="9252"/>
                </a:moveTo>
                <a:cubicBezTo>
                  <a:pt x="7741" y="9190"/>
                  <a:pt x="7794" y="9161"/>
                  <a:pt x="7888" y="9128"/>
                </a:cubicBezTo>
                <a:cubicBezTo>
                  <a:pt x="8056" y="9070"/>
                  <a:pt x="8257" y="9018"/>
                  <a:pt x="8434" y="9004"/>
                </a:cubicBezTo>
                <a:cubicBezTo>
                  <a:pt x="8599" y="8991"/>
                  <a:pt x="8767" y="8978"/>
                  <a:pt x="8930" y="8954"/>
                </a:cubicBezTo>
                <a:cubicBezTo>
                  <a:pt x="9031" y="8939"/>
                  <a:pt x="9133" y="8938"/>
                  <a:pt x="9227" y="8905"/>
                </a:cubicBezTo>
                <a:cubicBezTo>
                  <a:pt x="9290" y="8883"/>
                  <a:pt x="9448" y="8783"/>
                  <a:pt x="9401" y="8830"/>
                </a:cubicBezTo>
                <a:cubicBezTo>
                  <a:pt x="9349" y="8882"/>
                  <a:pt x="9373" y="8876"/>
                  <a:pt x="9302" y="8855"/>
                </a:cubicBezTo>
              </a:path>
              <a:path w="11461" h="6178">
                <a:moveTo>
                  <a:pt x="4762" y="9252"/>
                </a:moveTo>
                <a:cubicBezTo>
                  <a:pt x="4810" y="9205"/>
                  <a:pt x="4853" y="9149"/>
                  <a:pt x="4887" y="9103"/>
                </a:cubicBezTo>
                <a:cubicBezTo>
                  <a:pt x="4950" y="9018"/>
                  <a:pt x="5023" y="8923"/>
                  <a:pt x="5110" y="8855"/>
                </a:cubicBezTo>
                <a:cubicBezTo>
                  <a:pt x="5183" y="8798"/>
                  <a:pt x="5240" y="8746"/>
                  <a:pt x="5308" y="8682"/>
                </a:cubicBezTo>
                <a:cubicBezTo>
                  <a:pt x="5350" y="8642"/>
                  <a:pt x="5391" y="8567"/>
                  <a:pt x="5432" y="8533"/>
                </a:cubicBezTo>
                <a:cubicBezTo>
                  <a:pt x="5473" y="8498"/>
                  <a:pt x="5504" y="8422"/>
                  <a:pt x="5556" y="8434"/>
                </a:cubicBezTo>
                <a:cubicBezTo>
                  <a:pt x="5556" y="8442"/>
                  <a:pt x="5556" y="8450"/>
                  <a:pt x="5556" y="8458"/>
                </a:cubicBezTo>
              </a:path>
              <a:path w="11461" h="6178">
                <a:moveTo>
                  <a:pt x="5631" y="9153"/>
                </a:moveTo>
                <a:cubicBezTo>
                  <a:pt x="5631" y="9225"/>
                  <a:pt x="5610" y="9262"/>
                  <a:pt x="5606" y="9327"/>
                </a:cubicBezTo>
                <a:cubicBezTo>
                  <a:pt x="5601" y="9419"/>
                  <a:pt x="5567" y="9503"/>
                  <a:pt x="5556" y="9599"/>
                </a:cubicBezTo>
                <a:cubicBezTo>
                  <a:pt x="5545" y="9696"/>
                  <a:pt x="5552" y="9718"/>
                  <a:pt x="5606" y="9624"/>
                </a:cubicBezTo>
              </a:path>
              <a:path w="11461" h="6178">
                <a:moveTo>
                  <a:pt x="6697" y="8062"/>
                </a:moveTo>
                <a:cubicBezTo>
                  <a:pt x="6792" y="7978"/>
                  <a:pt x="6888" y="7944"/>
                  <a:pt x="6995" y="7888"/>
                </a:cubicBezTo>
                <a:cubicBezTo>
                  <a:pt x="7114" y="7826"/>
                  <a:pt x="7247" y="7797"/>
                  <a:pt x="7367" y="7739"/>
                </a:cubicBezTo>
                <a:cubicBezTo>
                  <a:pt x="7483" y="7682"/>
                  <a:pt x="7599" y="7653"/>
                  <a:pt x="7714" y="7590"/>
                </a:cubicBezTo>
                <a:cubicBezTo>
                  <a:pt x="7773" y="7558"/>
                  <a:pt x="7835" y="7531"/>
                  <a:pt x="7888" y="7491"/>
                </a:cubicBezTo>
                <a:cubicBezTo>
                  <a:pt x="7913" y="7466"/>
                  <a:pt x="7921" y="7458"/>
                  <a:pt x="7888" y="7441"/>
                </a:cubicBezTo>
              </a:path>
              <a:path w="11461" h="6178">
                <a:moveTo>
                  <a:pt x="6772" y="6921"/>
                </a:moveTo>
                <a:cubicBezTo>
                  <a:pt x="6743" y="6992"/>
                  <a:pt x="6720" y="7050"/>
                  <a:pt x="6697" y="7119"/>
                </a:cubicBezTo>
                <a:cubicBezTo>
                  <a:pt x="6675" y="7185"/>
                  <a:pt x="6652" y="7246"/>
                  <a:pt x="6648" y="7317"/>
                </a:cubicBezTo>
                <a:cubicBezTo>
                  <a:pt x="6648" y="7362"/>
                  <a:pt x="6644" y="7375"/>
                  <a:pt x="6672" y="7392"/>
                </a:cubicBezTo>
                <a:cubicBezTo>
                  <a:pt x="6769" y="7356"/>
                  <a:pt x="6800" y="7324"/>
                  <a:pt x="6871" y="7268"/>
                </a:cubicBezTo>
                <a:cubicBezTo>
                  <a:pt x="6930" y="7221"/>
                  <a:pt x="6931" y="7237"/>
                  <a:pt x="6970" y="7169"/>
                </a:cubicBezTo>
                <a:cubicBezTo>
                  <a:pt x="6922" y="7150"/>
                  <a:pt x="6882" y="7162"/>
                  <a:pt x="6846" y="7218"/>
                </a:cubicBezTo>
                <a:cubicBezTo>
                  <a:pt x="6830" y="7243"/>
                  <a:pt x="6797" y="7375"/>
                  <a:pt x="6871" y="7367"/>
                </a:cubicBezTo>
                <a:cubicBezTo>
                  <a:pt x="6879" y="7359"/>
                  <a:pt x="6888" y="7350"/>
                  <a:pt x="6896" y="7342"/>
                </a:cubicBezTo>
              </a:path>
              <a:path w="11461" h="6178">
                <a:moveTo>
                  <a:pt x="7144" y="6796"/>
                </a:moveTo>
                <a:cubicBezTo>
                  <a:pt x="7093" y="6864"/>
                  <a:pt x="7058" y="6927"/>
                  <a:pt x="7045" y="7020"/>
                </a:cubicBezTo>
                <a:cubicBezTo>
                  <a:pt x="7039" y="7066"/>
                  <a:pt x="7061" y="7152"/>
                  <a:pt x="7119" y="7169"/>
                </a:cubicBezTo>
                <a:cubicBezTo>
                  <a:pt x="7192" y="7190"/>
                  <a:pt x="7261" y="7162"/>
                  <a:pt x="7317" y="7119"/>
                </a:cubicBezTo>
                <a:cubicBezTo>
                  <a:pt x="7360" y="7086"/>
                  <a:pt x="7404" y="7000"/>
                  <a:pt x="7392" y="6945"/>
                </a:cubicBezTo>
                <a:cubicBezTo>
                  <a:pt x="7371" y="6852"/>
                  <a:pt x="7310" y="6824"/>
                  <a:pt x="7218" y="6846"/>
                </a:cubicBezTo>
                <a:cubicBezTo>
                  <a:pt x="7202" y="6854"/>
                  <a:pt x="7185" y="6863"/>
                  <a:pt x="7169" y="6871"/>
                </a:cubicBezTo>
              </a:path>
              <a:path w="11461" h="6178">
                <a:moveTo>
                  <a:pt x="10666" y="7863"/>
                </a:moveTo>
                <a:cubicBezTo>
                  <a:pt x="10700" y="7821"/>
                  <a:pt x="10726" y="7778"/>
                  <a:pt x="10765" y="7739"/>
                </a:cubicBezTo>
                <a:cubicBezTo>
                  <a:pt x="10816" y="7688"/>
                  <a:pt x="10848" y="7694"/>
                  <a:pt x="10914" y="7665"/>
                </a:cubicBezTo>
                <a:cubicBezTo>
                  <a:pt x="10979" y="7637"/>
                  <a:pt x="11113" y="7617"/>
                  <a:pt x="11187" y="7640"/>
                </a:cubicBezTo>
                <a:cubicBezTo>
                  <a:pt x="11286" y="7671"/>
                  <a:pt x="11212" y="7794"/>
                  <a:pt x="11187" y="7838"/>
                </a:cubicBezTo>
                <a:cubicBezTo>
                  <a:pt x="11153" y="7898"/>
                  <a:pt x="11122" y="7927"/>
                  <a:pt x="11063" y="7962"/>
                </a:cubicBezTo>
                <a:cubicBezTo>
                  <a:pt x="10994" y="8003"/>
                  <a:pt x="10947" y="8033"/>
                  <a:pt x="10864" y="8037"/>
                </a:cubicBezTo>
                <a:cubicBezTo>
                  <a:pt x="10848" y="8037"/>
                  <a:pt x="10831" y="8037"/>
                  <a:pt x="10815" y="8037"/>
                </a:cubicBezTo>
                <a:cubicBezTo>
                  <a:pt x="10861" y="7991"/>
                  <a:pt x="10872" y="7965"/>
                  <a:pt x="10939" y="7962"/>
                </a:cubicBezTo>
                <a:cubicBezTo>
                  <a:pt x="11063" y="7956"/>
                  <a:pt x="11109" y="8011"/>
                  <a:pt x="11162" y="8111"/>
                </a:cubicBezTo>
                <a:cubicBezTo>
                  <a:pt x="11202" y="8186"/>
                  <a:pt x="11194" y="8257"/>
                  <a:pt x="11162" y="8334"/>
                </a:cubicBezTo>
                <a:cubicBezTo>
                  <a:pt x="11135" y="8398"/>
                  <a:pt x="11096" y="8449"/>
                  <a:pt x="11038" y="8483"/>
                </a:cubicBezTo>
                <a:cubicBezTo>
                  <a:pt x="10967" y="8525"/>
                  <a:pt x="10921" y="8533"/>
                  <a:pt x="10840" y="8533"/>
                </a:cubicBezTo>
                <a:cubicBezTo>
                  <a:pt x="10770" y="8533"/>
                  <a:pt x="10695" y="8501"/>
                  <a:pt x="10641" y="8458"/>
                </a:cubicBezTo>
                <a:cubicBezTo>
                  <a:pt x="10603" y="8421"/>
                  <a:pt x="10605" y="8398"/>
                  <a:pt x="10666" y="8359"/>
                </a:cubicBezTo>
              </a:path>
              <a:path w="11461" h="6178">
                <a:moveTo>
                  <a:pt x="11485" y="7888"/>
                </a:moveTo>
                <a:cubicBezTo>
                  <a:pt x="11401" y="8013"/>
                  <a:pt x="11398" y="8075"/>
                  <a:pt x="11361" y="8210"/>
                </a:cubicBezTo>
                <a:cubicBezTo>
                  <a:pt x="11341" y="8285"/>
                  <a:pt x="11316" y="8334"/>
                  <a:pt x="11361" y="8409"/>
                </a:cubicBezTo>
                <a:cubicBezTo>
                  <a:pt x="11411" y="8492"/>
                  <a:pt x="11515" y="8456"/>
                  <a:pt x="11584" y="8434"/>
                </a:cubicBezTo>
                <a:cubicBezTo>
                  <a:pt x="11676" y="8405"/>
                  <a:pt x="11740" y="8377"/>
                  <a:pt x="11782" y="8285"/>
                </a:cubicBezTo>
                <a:cubicBezTo>
                  <a:pt x="11826" y="8188"/>
                  <a:pt x="11879" y="8073"/>
                  <a:pt x="11857" y="7962"/>
                </a:cubicBezTo>
                <a:cubicBezTo>
                  <a:pt x="11843" y="7891"/>
                  <a:pt x="11828" y="7799"/>
                  <a:pt x="11782" y="7739"/>
                </a:cubicBezTo>
                <a:cubicBezTo>
                  <a:pt x="11733" y="7675"/>
                  <a:pt x="11687" y="7644"/>
                  <a:pt x="11609" y="7640"/>
                </a:cubicBezTo>
                <a:cubicBezTo>
                  <a:pt x="11547" y="7637"/>
                  <a:pt x="11459" y="7675"/>
                  <a:pt x="11410" y="7714"/>
                </a:cubicBezTo>
                <a:cubicBezTo>
                  <a:pt x="11360" y="7754"/>
                  <a:pt x="11300" y="7849"/>
                  <a:pt x="11286" y="7913"/>
                </a:cubicBezTo>
                <a:cubicBezTo>
                  <a:pt x="11272" y="7974"/>
                  <a:pt x="11295" y="8030"/>
                  <a:pt x="11311" y="8086"/>
                </a:cubicBezTo>
              </a:path>
              <a:path w="11461" h="6178">
                <a:moveTo>
                  <a:pt x="12179" y="7739"/>
                </a:moveTo>
                <a:cubicBezTo>
                  <a:pt x="12160" y="7847"/>
                  <a:pt x="12120" y="7956"/>
                  <a:pt x="12105" y="8062"/>
                </a:cubicBezTo>
                <a:cubicBezTo>
                  <a:pt x="12093" y="8142"/>
                  <a:pt x="12099" y="8238"/>
                  <a:pt x="12129" y="8310"/>
                </a:cubicBezTo>
                <a:cubicBezTo>
                  <a:pt x="12157" y="8377"/>
                  <a:pt x="12185" y="8405"/>
                  <a:pt x="12254" y="8409"/>
                </a:cubicBezTo>
                <a:cubicBezTo>
                  <a:pt x="12339" y="8414"/>
                  <a:pt x="12400" y="8396"/>
                  <a:pt x="12477" y="8359"/>
                </a:cubicBezTo>
                <a:cubicBezTo>
                  <a:pt x="12546" y="8326"/>
                  <a:pt x="12589" y="8237"/>
                  <a:pt x="12601" y="8161"/>
                </a:cubicBezTo>
                <a:cubicBezTo>
                  <a:pt x="12614" y="8075"/>
                  <a:pt x="12605" y="7968"/>
                  <a:pt x="12576" y="7888"/>
                </a:cubicBezTo>
                <a:cubicBezTo>
                  <a:pt x="12543" y="7799"/>
                  <a:pt x="12417" y="7667"/>
                  <a:pt x="12328" y="7640"/>
                </a:cubicBezTo>
                <a:cubicBezTo>
                  <a:pt x="12285" y="7627"/>
                  <a:pt x="12090" y="7628"/>
                  <a:pt x="12055" y="7689"/>
                </a:cubicBezTo>
                <a:cubicBezTo>
                  <a:pt x="12055" y="7734"/>
                  <a:pt x="12052" y="7754"/>
                  <a:pt x="12080" y="7714"/>
                </a:cubicBezTo>
              </a:path>
              <a:path w="11461" h="6178">
                <a:moveTo>
                  <a:pt x="12626" y="7342"/>
                </a:moveTo>
                <a:cubicBezTo>
                  <a:pt x="12609" y="7386"/>
                  <a:pt x="12574" y="7469"/>
                  <a:pt x="12650" y="7491"/>
                </a:cubicBezTo>
                <a:cubicBezTo>
                  <a:pt x="12735" y="7515"/>
                  <a:pt x="12807" y="7436"/>
                  <a:pt x="12824" y="7367"/>
                </a:cubicBezTo>
                <a:cubicBezTo>
                  <a:pt x="12824" y="7350"/>
                  <a:pt x="12824" y="7334"/>
                  <a:pt x="12824" y="7317"/>
                </a:cubicBezTo>
                <a:cubicBezTo>
                  <a:pt x="12780" y="7291"/>
                  <a:pt x="12707" y="7278"/>
                  <a:pt x="12650" y="7293"/>
                </a:cubicBezTo>
                <a:cubicBezTo>
                  <a:pt x="12634" y="7301"/>
                  <a:pt x="12617" y="7309"/>
                  <a:pt x="12601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1428840"/>
            <a:ext cx="2625840" cy="750960"/>
          </a:xfrm>
          <a:custGeom>
            <a:avLst/>
            <a:gdLst/>
            <a:ahLst/>
            <a:rect l="l" t="t" r="r" b="b"/>
            <a:pathLst>
              <a:path w="7294" h="2084">
                <a:moveTo>
                  <a:pt x="4936" y="5060"/>
                </a:moveTo>
                <a:cubicBezTo>
                  <a:pt x="4978" y="5046"/>
                  <a:pt x="4983" y="5113"/>
                  <a:pt x="4986" y="5184"/>
                </a:cubicBezTo>
                <a:cubicBezTo>
                  <a:pt x="4990" y="5266"/>
                  <a:pt x="4986" y="5350"/>
                  <a:pt x="4986" y="5432"/>
                </a:cubicBezTo>
                <a:cubicBezTo>
                  <a:pt x="4995" y="5348"/>
                  <a:pt x="5011" y="5299"/>
                  <a:pt x="5011" y="5209"/>
                </a:cubicBezTo>
                <a:cubicBezTo>
                  <a:pt x="5011" y="5116"/>
                  <a:pt x="5012" y="5087"/>
                  <a:pt x="5060" y="5011"/>
                </a:cubicBezTo>
                <a:cubicBezTo>
                  <a:pt x="5116" y="4924"/>
                  <a:pt x="5145" y="4907"/>
                  <a:pt x="5234" y="4862"/>
                </a:cubicBezTo>
                <a:cubicBezTo>
                  <a:pt x="5250" y="4854"/>
                  <a:pt x="5267" y="4845"/>
                  <a:pt x="5283" y="4837"/>
                </a:cubicBezTo>
              </a:path>
              <a:path w="7294" h="2084">
                <a:moveTo>
                  <a:pt x="5705" y="5011"/>
                </a:moveTo>
                <a:cubicBezTo>
                  <a:pt x="5719" y="4982"/>
                  <a:pt x="5712" y="4907"/>
                  <a:pt x="5655" y="4887"/>
                </a:cubicBezTo>
                <a:cubicBezTo>
                  <a:pt x="5574" y="4858"/>
                  <a:pt x="5532" y="4911"/>
                  <a:pt x="5482" y="4961"/>
                </a:cubicBezTo>
                <a:cubicBezTo>
                  <a:pt x="5423" y="5020"/>
                  <a:pt x="5413" y="5049"/>
                  <a:pt x="5383" y="5110"/>
                </a:cubicBezTo>
                <a:cubicBezTo>
                  <a:pt x="5350" y="5177"/>
                  <a:pt x="5358" y="5196"/>
                  <a:pt x="5407" y="5259"/>
                </a:cubicBezTo>
                <a:cubicBezTo>
                  <a:pt x="5475" y="5229"/>
                  <a:pt x="5528" y="5211"/>
                  <a:pt x="5581" y="5159"/>
                </a:cubicBezTo>
                <a:cubicBezTo>
                  <a:pt x="5636" y="5105"/>
                  <a:pt x="5622" y="5123"/>
                  <a:pt x="5631" y="5035"/>
                </a:cubicBezTo>
                <a:cubicBezTo>
                  <a:pt x="5644" y="5088"/>
                  <a:pt x="5638" y="5239"/>
                  <a:pt x="5730" y="5234"/>
                </a:cubicBezTo>
                <a:cubicBezTo>
                  <a:pt x="5816" y="5229"/>
                  <a:pt x="5866" y="5154"/>
                  <a:pt x="5928" y="5110"/>
                </a:cubicBezTo>
                <a:cubicBezTo>
                  <a:pt x="5978" y="5085"/>
                  <a:pt x="5995" y="5077"/>
                  <a:pt x="6003" y="5035"/>
                </a:cubicBezTo>
              </a:path>
              <a:path w="7294" h="2084">
                <a:moveTo>
                  <a:pt x="6102" y="4713"/>
                </a:moveTo>
                <a:cubicBezTo>
                  <a:pt x="6009" y="4780"/>
                  <a:pt x="5977" y="4891"/>
                  <a:pt x="5928" y="4986"/>
                </a:cubicBezTo>
                <a:cubicBezTo>
                  <a:pt x="5894" y="5051"/>
                  <a:pt x="5913" y="5113"/>
                  <a:pt x="5953" y="5184"/>
                </a:cubicBezTo>
                <a:cubicBezTo>
                  <a:pt x="5997" y="5262"/>
                  <a:pt x="6075" y="5227"/>
                  <a:pt x="6127" y="5184"/>
                </a:cubicBezTo>
                <a:cubicBezTo>
                  <a:pt x="6193" y="5130"/>
                  <a:pt x="6216" y="5066"/>
                  <a:pt x="6226" y="4986"/>
                </a:cubicBezTo>
                <a:cubicBezTo>
                  <a:pt x="6247" y="4820"/>
                  <a:pt x="6231" y="4615"/>
                  <a:pt x="6201" y="4465"/>
                </a:cubicBezTo>
                <a:cubicBezTo>
                  <a:pt x="6201" y="4448"/>
                  <a:pt x="6201" y="4432"/>
                  <a:pt x="6201" y="4415"/>
                </a:cubicBezTo>
                <a:cubicBezTo>
                  <a:pt x="6141" y="4505"/>
                  <a:pt x="6131" y="4604"/>
                  <a:pt x="6127" y="4713"/>
                </a:cubicBezTo>
                <a:cubicBezTo>
                  <a:pt x="6124" y="4786"/>
                  <a:pt x="6137" y="4888"/>
                  <a:pt x="6152" y="4961"/>
                </a:cubicBezTo>
                <a:cubicBezTo>
                  <a:pt x="6174" y="5028"/>
                  <a:pt x="6178" y="5046"/>
                  <a:pt x="6201" y="5085"/>
                </a:cubicBezTo>
              </a:path>
              <a:path w="7294" h="2084">
                <a:moveTo>
                  <a:pt x="6871" y="5358"/>
                </a:moveTo>
                <a:cubicBezTo>
                  <a:pt x="6831" y="5417"/>
                  <a:pt x="6827" y="5429"/>
                  <a:pt x="6796" y="5457"/>
                </a:cubicBezTo>
                <a:cubicBezTo>
                  <a:pt x="6805" y="5452"/>
                  <a:pt x="6969" y="5336"/>
                  <a:pt x="6846" y="5383"/>
                </a:cubicBezTo>
                <a:cubicBezTo>
                  <a:pt x="6823" y="5405"/>
                  <a:pt x="6815" y="5410"/>
                  <a:pt x="6821" y="5432"/>
                </a:cubicBezTo>
              </a:path>
              <a:path w="7294" h="2084">
                <a:moveTo>
                  <a:pt x="7367" y="5631"/>
                </a:moveTo>
                <a:cubicBezTo>
                  <a:pt x="7281" y="5631"/>
                  <a:pt x="7350" y="5631"/>
                  <a:pt x="7417" y="5631"/>
                </a:cubicBezTo>
                <a:cubicBezTo>
                  <a:pt x="7508" y="5631"/>
                  <a:pt x="7580" y="5613"/>
                  <a:pt x="7665" y="5606"/>
                </a:cubicBezTo>
                <a:cubicBezTo>
                  <a:pt x="7788" y="5595"/>
                  <a:pt x="7916" y="5590"/>
                  <a:pt x="8037" y="5581"/>
                </a:cubicBezTo>
                <a:cubicBezTo>
                  <a:pt x="8356" y="5557"/>
                  <a:pt x="8685" y="5560"/>
                  <a:pt x="9004" y="5556"/>
                </a:cubicBezTo>
                <a:cubicBezTo>
                  <a:pt x="9229" y="5553"/>
                  <a:pt x="9450" y="5517"/>
                  <a:pt x="9674" y="5507"/>
                </a:cubicBezTo>
                <a:cubicBezTo>
                  <a:pt x="9897" y="5497"/>
                  <a:pt x="10121" y="5486"/>
                  <a:pt x="10344" y="5482"/>
                </a:cubicBezTo>
                <a:cubicBezTo>
                  <a:pt x="10473" y="5479"/>
                  <a:pt x="10591" y="5462"/>
                  <a:pt x="10716" y="5457"/>
                </a:cubicBezTo>
                <a:cubicBezTo>
                  <a:pt x="10810" y="5453"/>
                  <a:pt x="10857" y="5417"/>
                  <a:pt x="10939" y="5383"/>
                </a:cubicBezTo>
              </a:path>
              <a:path w="7294" h="2084">
                <a:moveTo>
                  <a:pt x="7615" y="6052"/>
                </a:moveTo>
                <a:cubicBezTo>
                  <a:pt x="7711" y="6052"/>
                  <a:pt x="7796" y="6038"/>
                  <a:pt x="7888" y="6028"/>
                </a:cubicBezTo>
                <a:cubicBezTo>
                  <a:pt x="7995" y="6016"/>
                  <a:pt x="8104" y="6022"/>
                  <a:pt x="8210" y="6003"/>
                </a:cubicBezTo>
                <a:cubicBezTo>
                  <a:pt x="8313" y="5984"/>
                  <a:pt x="8406" y="5958"/>
                  <a:pt x="8508" y="5953"/>
                </a:cubicBezTo>
                <a:cubicBezTo>
                  <a:pt x="8549" y="5953"/>
                  <a:pt x="8557" y="5953"/>
                  <a:pt x="8582" y="5953"/>
                </a:cubicBezTo>
              </a:path>
              <a:path w="7294" h="2084">
                <a:moveTo>
                  <a:pt x="8359" y="4390"/>
                </a:moveTo>
                <a:cubicBezTo>
                  <a:pt x="8359" y="4575"/>
                  <a:pt x="8362" y="4759"/>
                  <a:pt x="8384" y="4936"/>
                </a:cubicBezTo>
                <a:cubicBezTo>
                  <a:pt x="8396" y="5035"/>
                  <a:pt x="8357" y="5144"/>
                  <a:pt x="8409" y="5234"/>
                </a:cubicBezTo>
                <a:cubicBezTo>
                  <a:pt x="8447" y="5272"/>
                  <a:pt x="8465" y="5265"/>
                  <a:pt x="8483" y="5184"/>
                </a:cubicBezTo>
              </a:path>
              <a:path w="7294" h="2084">
                <a:moveTo>
                  <a:pt x="8830" y="4341"/>
                </a:moveTo>
                <a:cubicBezTo>
                  <a:pt x="8777" y="4394"/>
                  <a:pt x="8675" y="4462"/>
                  <a:pt x="8657" y="4539"/>
                </a:cubicBezTo>
                <a:cubicBezTo>
                  <a:pt x="8642" y="4604"/>
                  <a:pt x="8666" y="4687"/>
                  <a:pt x="8706" y="4738"/>
                </a:cubicBezTo>
                <a:cubicBezTo>
                  <a:pt x="8783" y="4837"/>
                  <a:pt x="8887" y="4903"/>
                  <a:pt x="8954" y="5011"/>
                </a:cubicBezTo>
                <a:cubicBezTo>
                  <a:pt x="8980" y="5053"/>
                  <a:pt x="9034" y="5161"/>
                  <a:pt x="9029" y="5209"/>
                </a:cubicBezTo>
                <a:cubicBezTo>
                  <a:pt x="9021" y="5285"/>
                  <a:pt x="8940" y="5299"/>
                  <a:pt x="8880" y="5283"/>
                </a:cubicBezTo>
                <a:cubicBezTo>
                  <a:pt x="8799" y="5261"/>
                  <a:pt x="8748" y="5218"/>
                  <a:pt x="8731" y="5135"/>
                </a:cubicBezTo>
                <a:cubicBezTo>
                  <a:pt x="8721" y="5083"/>
                  <a:pt x="8786" y="4984"/>
                  <a:pt x="8806" y="4936"/>
                </a:cubicBezTo>
                <a:cubicBezTo>
                  <a:pt x="8840" y="4857"/>
                  <a:pt x="8898" y="4792"/>
                  <a:pt x="8930" y="4713"/>
                </a:cubicBezTo>
                <a:cubicBezTo>
                  <a:pt x="8969" y="4617"/>
                  <a:pt x="8996" y="4513"/>
                  <a:pt x="9029" y="4415"/>
                </a:cubicBezTo>
              </a:path>
              <a:path w="7294" h="2084">
                <a:moveTo>
                  <a:pt x="9128" y="4266"/>
                </a:moveTo>
                <a:cubicBezTo>
                  <a:pt x="9185" y="4380"/>
                  <a:pt x="9178" y="4426"/>
                  <a:pt x="9178" y="4564"/>
                </a:cubicBezTo>
                <a:cubicBezTo>
                  <a:pt x="9178" y="4679"/>
                  <a:pt x="9181" y="4799"/>
                  <a:pt x="9203" y="4911"/>
                </a:cubicBezTo>
                <a:cubicBezTo>
                  <a:pt x="9225" y="5025"/>
                  <a:pt x="9244" y="5083"/>
                  <a:pt x="9302" y="5184"/>
                </a:cubicBezTo>
                <a:cubicBezTo>
                  <a:pt x="9344" y="5257"/>
                  <a:pt x="9363" y="5278"/>
                  <a:pt x="9451" y="5283"/>
                </a:cubicBezTo>
                <a:cubicBezTo>
                  <a:pt x="9549" y="5288"/>
                  <a:pt x="9611" y="5247"/>
                  <a:pt x="9649" y="5159"/>
                </a:cubicBezTo>
                <a:cubicBezTo>
                  <a:pt x="9684" y="5079"/>
                  <a:pt x="9690" y="4949"/>
                  <a:pt x="9674" y="4862"/>
                </a:cubicBezTo>
                <a:cubicBezTo>
                  <a:pt x="9655" y="4758"/>
                  <a:pt x="9605" y="4652"/>
                  <a:pt x="9550" y="4564"/>
                </a:cubicBezTo>
                <a:cubicBezTo>
                  <a:pt x="9508" y="4497"/>
                  <a:pt x="9455" y="4396"/>
                  <a:pt x="9376" y="4366"/>
                </a:cubicBezTo>
                <a:cubicBezTo>
                  <a:pt x="9337" y="4351"/>
                  <a:pt x="9292" y="4326"/>
                  <a:pt x="9252" y="4316"/>
                </a:cubicBezTo>
              </a:path>
              <a:path w="7294" h="2084">
                <a:moveTo>
                  <a:pt x="9451" y="4043"/>
                </a:moveTo>
                <a:cubicBezTo>
                  <a:pt x="9451" y="4154"/>
                  <a:pt x="9425" y="4176"/>
                  <a:pt x="9475" y="4217"/>
                </a:cubicBezTo>
                <a:cubicBezTo>
                  <a:pt x="9538" y="4208"/>
                  <a:pt x="9573" y="4187"/>
                  <a:pt x="9624" y="4142"/>
                </a:cubicBezTo>
                <a:cubicBezTo>
                  <a:pt x="9657" y="4113"/>
                  <a:pt x="9672" y="3999"/>
                  <a:pt x="9624" y="3969"/>
                </a:cubicBezTo>
                <a:cubicBezTo>
                  <a:pt x="9573" y="3969"/>
                  <a:pt x="9554" y="3970"/>
                  <a:pt x="9525" y="3994"/>
                </a:cubicBezTo>
              </a:path>
              <a:path w="7294" h="2084">
                <a:moveTo>
                  <a:pt x="11237" y="5383"/>
                </a:moveTo>
                <a:cubicBezTo>
                  <a:pt x="11414" y="5383"/>
                  <a:pt x="11585" y="5377"/>
                  <a:pt x="11757" y="5358"/>
                </a:cubicBezTo>
                <a:cubicBezTo>
                  <a:pt x="11792" y="5354"/>
                  <a:pt x="12049" y="5337"/>
                  <a:pt x="12055" y="5383"/>
                </a:cubicBezTo>
                <a:cubicBezTo>
                  <a:pt x="12032" y="5405"/>
                  <a:pt x="12027" y="5413"/>
                  <a:pt x="12005" y="5407"/>
                </a:cubicBezTo>
              </a:path>
              <a:path w="7294" h="2084">
                <a:moveTo>
                  <a:pt x="11410" y="5779"/>
                </a:moveTo>
                <a:cubicBezTo>
                  <a:pt x="11511" y="5793"/>
                  <a:pt x="11627" y="5797"/>
                  <a:pt x="11733" y="5779"/>
                </a:cubicBezTo>
                <a:cubicBezTo>
                  <a:pt x="11850" y="5759"/>
                  <a:pt x="11960" y="5733"/>
                  <a:pt x="12080" y="5730"/>
                </a:cubicBezTo>
                <a:cubicBezTo>
                  <a:pt x="12174" y="5730"/>
                  <a:pt x="12195" y="5709"/>
                  <a:pt x="12229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874960" y="2152800"/>
            <a:ext cx="81000" cy="293400"/>
          </a:xfrm>
          <a:custGeom>
            <a:avLst/>
            <a:gdLst/>
            <a:ahLst/>
            <a:rect l="l" t="t" r="r" b="b"/>
            <a:pathLst>
              <a:path w="224" h="819">
                <a:moveTo>
                  <a:pt x="8037" y="5978"/>
                </a:moveTo>
                <a:cubicBezTo>
                  <a:pt x="8031" y="6067"/>
                  <a:pt x="8012" y="6137"/>
                  <a:pt x="8012" y="6226"/>
                </a:cubicBezTo>
                <a:cubicBezTo>
                  <a:pt x="8012" y="6321"/>
                  <a:pt x="7987" y="6403"/>
                  <a:pt x="7987" y="6499"/>
                </a:cubicBezTo>
                <a:cubicBezTo>
                  <a:pt x="7987" y="6602"/>
                  <a:pt x="7959" y="6884"/>
                  <a:pt x="8012" y="6796"/>
                </a:cubicBezTo>
                <a:cubicBezTo>
                  <a:pt x="8012" y="6755"/>
                  <a:pt x="8012" y="6747"/>
                  <a:pt x="8012" y="6722"/>
                </a:cubicBezTo>
              </a:path>
              <a:path w="224" h="819">
                <a:moveTo>
                  <a:pt x="8136" y="6251"/>
                </a:moveTo>
                <a:cubicBezTo>
                  <a:pt x="8136" y="6399"/>
                  <a:pt x="8135" y="6542"/>
                  <a:pt x="8161" y="6672"/>
                </a:cubicBezTo>
                <a:cubicBezTo>
                  <a:pt x="8173" y="6733"/>
                  <a:pt x="8166" y="6727"/>
                  <a:pt x="8210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116160" y="2133720"/>
            <a:ext cx="519120" cy="304560"/>
          </a:xfrm>
          <a:custGeom>
            <a:avLst/>
            <a:gdLst/>
            <a:ahLst/>
            <a:rect l="l" t="t" r="r" b="b"/>
            <a:pathLst>
              <a:path w="1440" h="845">
                <a:moveTo>
                  <a:pt x="8657" y="6573"/>
                </a:moveTo>
                <a:cubicBezTo>
                  <a:pt x="8677" y="6647"/>
                  <a:pt x="8696" y="6703"/>
                  <a:pt x="8706" y="6772"/>
                </a:cubicBezTo>
                <a:cubicBezTo>
                  <a:pt x="8706" y="6680"/>
                  <a:pt x="8682" y="6554"/>
                  <a:pt x="8731" y="6474"/>
                </a:cubicBezTo>
                <a:cubicBezTo>
                  <a:pt x="8753" y="6438"/>
                  <a:pt x="8799" y="6352"/>
                  <a:pt x="8830" y="6325"/>
                </a:cubicBezTo>
                <a:cubicBezTo>
                  <a:pt x="8873" y="6288"/>
                  <a:pt x="8927" y="6282"/>
                  <a:pt x="8979" y="6276"/>
                </a:cubicBezTo>
              </a:path>
              <a:path w="1440" h="845">
                <a:moveTo>
                  <a:pt x="9302" y="6325"/>
                </a:moveTo>
                <a:cubicBezTo>
                  <a:pt x="9229" y="6362"/>
                  <a:pt x="9186" y="6392"/>
                  <a:pt x="9128" y="6449"/>
                </a:cubicBezTo>
                <a:cubicBezTo>
                  <a:pt x="9088" y="6489"/>
                  <a:pt x="9041" y="6564"/>
                  <a:pt x="9054" y="6623"/>
                </a:cubicBezTo>
                <a:cubicBezTo>
                  <a:pt x="9071" y="6699"/>
                  <a:pt x="9158" y="6684"/>
                  <a:pt x="9203" y="6648"/>
                </a:cubicBezTo>
                <a:cubicBezTo>
                  <a:pt x="9245" y="6614"/>
                  <a:pt x="9291" y="6545"/>
                  <a:pt x="9302" y="6499"/>
                </a:cubicBezTo>
                <a:cubicBezTo>
                  <a:pt x="9302" y="6482"/>
                  <a:pt x="9302" y="6466"/>
                  <a:pt x="9302" y="6449"/>
                </a:cubicBezTo>
                <a:cubicBezTo>
                  <a:pt x="9267" y="6519"/>
                  <a:pt x="9269" y="6561"/>
                  <a:pt x="9327" y="6623"/>
                </a:cubicBezTo>
                <a:cubicBezTo>
                  <a:pt x="9384" y="6684"/>
                  <a:pt x="9398" y="6672"/>
                  <a:pt x="9475" y="6672"/>
                </a:cubicBezTo>
              </a:path>
              <a:path w="1440" h="845">
                <a:moveTo>
                  <a:pt x="9773" y="6350"/>
                </a:moveTo>
                <a:cubicBezTo>
                  <a:pt x="9715" y="6408"/>
                  <a:pt x="9686" y="6450"/>
                  <a:pt x="9649" y="6524"/>
                </a:cubicBezTo>
                <a:cubicBezTo>
                  <a:pt x="9609" y="6603"/>
                  <a:pt x="9615" y="6639"/>
                  <a:pt x="9674" y="6697"/>
                </a:cubicBezTo>
                <a:cubicBezTo>
                  <a:pt x="9752" y="6689"/>
                  <a:pt x="9818" y="6672"/>
                  <a:pt x="9872" y="6598"/>
                </a:cubicBezTo>
                <a:cubicBezTo>
                  <a:pt x="9919" y="6534"/>
                  <a:pt x="9957" y="6427"/>
                  <a:pt x="9971" y="6350"/>
                </a:cubicBezTo>
                <a:cubicBezTo>
                  <a:pt x="9984" y="6276"/>
                  <a:pt x="10015" y="6180"/>
                  <a:pt x="9996" y="6102"/>
                </a:cubicBezTo>
                <a:cubicBezTo>
                  <a:pt x="9981" y="6040"/>
                  <a:pt x="9971" y="5995"/>
                  <a:pt x="9971" y="5928"/>
                </a:cubicBezTo>
                <a:cubicBezTo>
                  <a:pt x="9917" y="6011"/>
                  <a:pt x="9878" y="6101"/>
                  <a:pt x="9872" y="6201"/>
                </a:cubicBezTo>
                <a:cubicBezTo>
                  <a:pt x="9865" y="6314"/>
                  <a:pt x="9848" y="6433"/>
                  <a:pt x="9922" y="6524"/>
                </a:cubicBezTo>
                <a:cubicBezTo>
                  <a:pt x="9986" y="6604"/>
                  <a:pt x="10005" y="6623"/>
                  <a:pt x="10096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To convert from degrees(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  <a:ea typeface="Tahoma"/>
              </a:rPr>
              <a:t>º)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minutes (‘), and seconds (“) to decimal degrees on a graphing calculator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Value in your calculator (using the catalog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PPS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º and “, Alpha + for “) then hit enter and it converts to decimal deg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256" name="Rectangle 25" descr=""/>
          <p:cNvPicPr/>
          <p:nvPr/>
        </p:nvPicPr>
        <p:blipFill>
          <a:blip r:embed="rId1"/>
          <a:srcRect l="0" t="16550" r="71350" b="0"/>
          <a:stretch/>
        </p:blipFill>
        <p:spPr>
          <a:xfrm>
            <a:off x="3048120" y="380880"/>
            <a:ext cx="2985840" cy="615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2438280"/>
            <a:ext cx="2895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3962520"/>
            <a:ext cx="16002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58672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98108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ngle menu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º, ‘, and D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pha- to access the 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5486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thing can be found here, it just may take awhile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2200" y="642960"/>
            <a:ext cx="1909800" cy="884160"/>
          </a:xfrm>
          <a:custGeom>
            <a:avLst/>
            <a:gdLst/>
            <a:ahLst/>
            <a:rect l="l" t="t" r="r" b="b"/>
            <a:pathLst>
              <a:path w="5309" h="2457">
                <a:moveTo>
                  <a:pt x="1067" y="2877"/>
                </a:moveTo>
                <a:cubicBezTo>
                  <a:pt x="1067" y="2741"/>
                  <a:pt x="1067" y="3025"/>
                  <a:pt x="1067" y="3051"/>
                </a:cubicBezTo>
                <a:cubicBezTo>
                  <a:pt x="1067" y="3141"/>
                  <a:pt x="1040" y="3263"/>
                  <a:pt x="1017" y="3349"/>
                </a:cubicBezTo>
                <a:cubicBezTo>
                  <a:pt x="998" y="3421"/>
                  <a:pt x="951" y="3574"/>
                  <a:pt x="918" y="3646"/>
                </a:cubicBezTo>
                <a:cubicBezTo>
                  <a:pt x="890" y="3674"/>
                  <a:pt x="881" y="3688"/>
                  <a:pt x="893" y="3721"/>
                </a:cubicBezTo>
                <a:cubicBezTo>
                  <a:pt x="958" y="3656"/>
                  <a:pt x="980" y="3666"/>
                  <a:pt x="1067" y="3646"/>
                </a:cubicBezTo>
                <a:cubicBezTo>
                  <a:pt x="1144" y="3628"/>
                  <a:pt x="1248" y="3636"/>
                  <a:pt x="1315" y="3597"/>
                </a:cubicBezTo>
                <a:cubicBezTo>
                  <a:pt x="1349" y="3561"/>
                  <a:pt x="1371" y="3548"/>
                  <a:pt x="1414" y="3547"/>
                </a:cubicBezTo>
              </a:path>
              <a:path w="5309" h="2457">
                <a:moveTo>
                  <a:pt x="1439" y="2828"/>
                </a:moveTo>
                <a:cubicBezTo>
                  <a:pt x="1439" y="3037"/>
                  <a:pt x="1447" y="3242"/>
                  <a:pt x="1463" y="3448"/>
                </a:cubicBezTo>
                <a:cubicBezTo>
                  <a:pt x="1472" y="3561"/>
                  <a:pt x="1501" y="3710"/>
                  <a:pt x="1488" y="3820"/>
                </a:cubicBezTo>
                <a:cubicBezTo>
                  <a:pt x="1477" y="3909"/>
                  <a:pt x="1435" y="4025"/>
                  <a:pt x="1463" y="4118"/>
                </a:cubicBezTo>
                <a:cubicBezTo>
                  <a:pt x="1481" y="4178"/>
                  <a:pt x="1508" y="4056"/>
                  <a:pt x="1513" y="3994"/>
                </a:cubicBezTo>
              </a:path>
              <a:path w="5309" h="2457">
                <a:moveTo>
                  <a:pt x="1761" y="2952"/>
                </a:moveTo>
                <a:cubicBezTo>
                  <a:pt x="1879" y="2920"/>
                  <a:pt x="1951" y="2870"/>
                  <a:pt x="2059" y="2828"/>
                </a:cubicBezTo>
                <a:cubicBezTo>
                  <a:pt x="2128" y="2801"/>
                  <a:pt x="2192" y="2779"/>
                  <a:pt x="2257" y="2753"/>
                </a:cubicBezTo>
                <a:cubicBezTo>
                  <a:pt x="2265" y="2753"/>
                  <a:pt x="2274" y="2753"/>
                  <a:pt x="2282" y="2753"/>
                </a:cubicBezTo>
              </a:path>
              <a:path w="5309" h="2457">
                <a:moveTo>
                  <a:pt x="1761" y="2952"/>
                </a:moveTo>
                <a:cubicBezTo>
                  <a:pt x="1738" y="3069"/>
                  <a:pt x="1692" y="3181"/>
                  <a:pt x="1687" y="3299"/>
                </a:cubicBezTo>
                <a:cubicBezTo>
                  <a:pt x="1683" y="3376"/>
                  <a:pt x="1675" y="3460"/>
                  <a:pt x="1712" y="3522"/>
                </a:cubicBezTo>
                <a:cubicBezTo>
                  <a:pt x="1795" y="3510"/>
                  <a:pt x="1787" y="3489"/>
                  <a:pt x="1836" y="3423"/>
                </a:cubicBezTo>
                <a:cubicBezTo>
                  <a:pt x="1857" y="3394"/>
                  <a:pt x="1930" y="3315"/>
                  <a:pt x="1960" y="3299"/>
                </a:cubicBezTo>
                <a:cubicBezTo>
                  <a:pt x="2029" y="3263"/>
                  <a:pt x="2109" y="3289"/>
                  <a:pt x="2158" y="3349"/>
                </a:cubicBezTo>
                <a:cubicBezTo>
                  <a:pt x="2234" y="3442"/>
                  <a:pt x="2250" y="3582"/>
                  <a:pt x="2257" y="3696"/>
                </a:cubicBezTo>
                <a:cubicBezTo>
                  <a:pt x="2264" y="3811"/>
                  <a:pt x="2239" y="3894"/>
                  <a:pt x="2183" y="3994"/>
                </a:cubicBezTo>
                <a:cubicBezTo>
                  <a:pt x="2115" y="4116"/>
                  <a:pt x="2011" y="4169"/>
                  <a:pt x="1885" y="4217"/>
                </a:cubicBezTo>
                <a:cubicBezTo>
                  <a:pt x="1751" y="4268"/>
                  <a:pt x="1745" y="4207"/>
                  <a:pt x="1736" y="4093"/>
                </a:cubicBezTo>
              </a:path>
              <a:path w="5309" h="2457">
                <a:moveTo>
                  <a:pt x="2530" y="2555"/>
                </a:moveTo>
                <a:cubicBezTo>
                  <a:pt x="2500" y="2660"/>
                  <a:pt x="2463" y="2695"/>
                  <a:pt x="2530" y="2778"/>
                </a:cubicBezTo>
                <a:cubicBezTo>
                  <a:pt x="2591" y="2743"/>
                  <a:pt x="2637" y="2704"/>
                  <a:pt x="2654" y="2629"/>
                </a:cubicBezTo>
                <a:cubicBezTo>
                  <a:pt x="2662" y="2593"/>
                  <a:pt x="2671" y="2472"/>
                  <a:pt x="2629" y="2456"/>
                </a:cubicBezTo>
                <a:cubicBezTo>
                  <a:pt x="2552" y="2427"/>
                  <a:pt x="2533" y="2481"/>
                  <a:pt x="2480" y="2505"/>
                </a:cubicBezTo>
                <a:cubicBezTo>
                  <a:pt x="2472" y="2505"/>
                  <a:pt x="2464" y="2505"/>
                  <a:pt x="2456" y="2505"/>
                </a:cubicBezTo>
              </a:path>
              <a:path w="5309" h="2457">
                <a:moveTo>
                  <a:pt x="3026" y="2853"/>
                </a:moveTo>
                <a:cubicBezTo>
                  <a:pt x="3085" y="2794"/>
                  <a:pt x="3133" y="2719"/>
                  <a:pt x="3200" y="2679"/>
                </a:cubicBezTo>
                <a:cubicBezTo>
                  <a:pt x="3289" y="2626"/>
                  <a:pt x="3360" y="2583"/>
                  <a:pt x="3398" y="2704"/>
                </a:cubicBezTo>
                <a:cubicBezTo>
                  <a:pt x="3415" y="2758"/>
                  <a:pt x="3354" y="2907"/>
                  <a:pt x="3324" y="2952"/>
                </a:cubicBezTo>
                <a:cubicBezTo>
                  <a:pt x="3269" y="3034"/>
                  <a:pt x="3171" y="3104"/>
                  <a:pt x="3101" y="3175"/>
                </a:cubicBezTo>
                <a:cubicBezTo>
                  <a:pt x="3141" y="3134"/>
                  <a:pt x="3191" y="3089"/>
                  <a:pt x="3249" y="3076"/>
                </a:cubicBezTo>
                <a:cubicBezTo>
                  <a:pt x="3312" y="3062"/>
                  <a:pt x="3374" y="3123"/>
                  <a:pt x="3398" y="3175"/>
                </a:cubicBezTo>
                <a:cubicBezTo>
                  <a:pt x="3423" y="3230"/>
                  <a:pt x="3461" y="3364"/>
                  <a:pt x="3448" y="3423"/>
                </a:cubicBezTo>
                <a:cubicBezTo>
                  <a:pt x="3430" y="3508"/>
                  <a:pt x="3406" y="3577"/>
                  <a:pt x="3349" y="3646"/>
                </a:cubicBezTo>
                <a:cubicBezTo>
                  <a:pt x="3296" y="3710"/>
                  <a:pt x="3205" y="3793"/>
                  <a:pt x="3125" y="3820"/>
                </a:cubicBezTo>
                <a:cubicBezTo>
                  <a:pt x="3059" y="3842"/>
                  <a:pt x="3008" y="3827"/>
                  <a:pt x="3001" y="3770"/>
                </a:cubicBezTo>
                <a:cubicBezTo>
                  <a:pt x="3001" y="3719"/>
                  <a:pt x="3002" y="3700"/>
                  <a:pt x="3026" y="3671"/>
                </a:cubicBezTo>
              </a:path>
              <a:path w="5309" h="2457">
                <a:moveTo>
                  <a:pt x="3696" y="2778"/>
                </a:moveTo>
                <a:cubicBezTo>
                  <a:pt x="3696" y="2903"/>
                  <a:pt x="3675" y="3002"/>
                  <a:pt x="3646" y="3125"/>
                </a:cubicBezTo>
                <a:cubicBezTo>
                  <a:pt x="3615" y="3255"/>
                  <a:pt x="3597" y="3363"/>
                  <a:pt x="3597" y="3497"/>
                </a:cubicBezTo>
                <a:cubicBezTo>
                  <a:pt x="3597" y="3585"/>
                  <a:pt x="3612" y="3612"/>
                  <a:pt x="3671" y="3671"/>
                </a:cubicBezTo>
                <a:cubicBezTo>
                  <a:pt x="3734" y="3734"/>
                  <a:pt x="3772" y="3668"/>
                  <a:pt x="3820" y="3621"/>
                </a:cubicBezTo>
                <a:cubicBezTo>
                  <a:pt x="3907" y="3534"/>
                  <a:pt x="3947" y="3369"/>
                  <a:pt x="3944" y="3249"/>
                </a:cubicBezTo>
                <a:cubicBezTo>
                  <a:pt x="3941" y="3138"/>
                  <a:pt x="3872" y="3043"/>
                  <a:pt x="3820" y="2952"/>
                </a:cubicBezTo>
                <a:cubicBezTo>
                  <a:pt x="3794" y="2906"/>
                  <a:pt x="3709" y="2850"/>
                  <a:pt x="3696" y="2803"/>
                </a:cubicBezTo>
                <a:cubicBezTo>
                  <a:pt x="3696" y="2786"/>
                  <a:pt x="3696" y="2770"/>
                  <a:pt x="3696" y="2753"/>
                </a:cubicBezTo>
              </a:path>
              <a:path w="5309" h="2457">
                <a:moveTo>
                  <a:pt x="4118" y="2034"/>
                </a:moveTo>
                <a:cubicBezTo>
                  <a:pt x="4118" y="2136"/>
                  <a:pt x="4097" y="2210"/>
                  <a:pt x="4093" y="2307"/>
                </a:cubicBezTo>
                <a:cubicBezTo>
                  <a:pt x="4093" y="2332"/>
                  <a:pt x="4093" y="2356"/>
                  <a:pt x="4093" y="2381"/>
                </a:cubicBezTo>
              </a:path>
              <a:path w="5309" h="2457">
                <a:moveTo>
                  <a:pt x="4762" y="2530"/>
                </a:moveTo>
                <a:cubicBezTo>
                  <a:pt x="4762" y="2682"/>
                  <a:pt x="4770" y="2829"/>
                  <a:pt x="4762" y="2977"/>
                </a:cubicBezTo>
                <a:cubicBezTo>
                  <a:pt x="4752" y="3167"/>
                  <a:pt x="4762" y="3687"/>
                  <a:pt x="4762" y="3497"/>
                </a:cubicBezTo>
              </a:path>
              <a:path w="5309" h="2457">
                <a:moveTo>
                  <a:pt x="5159" y="2580"/>
                </a:moveTo>
                <a:cubicBezTo>
                  <a:pt x="5245" y="2550"/>
                  <a:pt x="5420" y="2516"/>
                  <a:pt x="5507" y="2456"/>
                </a:cubicBezTo>
                <a:cubicBezTo>
                  <a:pt x="5515" y="2448"/>
                  <a:pt x="5523" y="2439"/>
                  <a:pt x="5531" y="2431"/>
                </a:cubicBezTo>
              </a:path>
              <a:path w="5309" h="2457">
                <a:moveTo>
                  <a:pt x="5035" y="2679"/>
                </a:moveTo>
                <a:cubicBezTo>
                  <a:pt x="4988" y="2765"/>
                  <a:pt x="4890" y="2892"/>
                  <a:pt x="4911" y="3001"/>
                </a:cubicBezTo>
                <a:cubicBezTo>
                  <a:pt x="4919" y="3018"/>
                  <a:pt x="4928" y="3034"/>
                  <a:pt x="4936" y="3051"/>
                </a:cubicBezTo>
                <a:cubicBezTo>
                  <a:pt x="5028" y="3039"/>
                  <a:pt x="5026" y="3015"/>
                  <a:pt x="5085" y="2952"/>
                </a:cubicBezTo>
                <a:cubicBezTo>
                  <a:pt x="5140" y="2893"/>
                  <a:pt x="5192" y="2831"/>
                  <a:pt x="5283" y="2853"/>
                </a:cubicBezTo>
                <a:cubicBezTo>
                  <a:pt x="5360" y="2872"/>
                  <a:pt x="5367" y="2978"/>
                  <a:pt x="5383" y="3026"/>
                </a:cubicBezTo>
                <a:cubicBezTo>
                  <a:pt x="5415" y="3124"/>
                  <a:pt x="5394" y="3179"/>
                  <a:pt x="5383" y="3274"/>
                </a:cubicBezTo>
                <a:cubicBezTo>
                  <a:pt x="5372" y="3367"/>
                  <a:pt x="5365" y="3412"/>
                  <a:pt x="5283" y="3473"/>
                </a:cubicBezTo>
                <a:cubicBezTo>
                  <a:pt x="5205" y="3531"/>
                  <a:pt x="5089" y="3601"/>
                  <a:pt x="4986" y="3572"/>
                </a:cubicBezTo>
                <a:cubicBezTo>
                  <a:pt x="4883" y="3543"/>
                  <a:pt x="4961" y="3461"/>
                  <a:pt x="4986" y="3398"/>
                </a:cubicBezTo>
              </a:path>
              <a:path w="5309" h="2457">
                <a:moveTo>
                  <a:pt x="5978" y="1910"/>
                </a:moveTo>
                <a:cubicBezTo>
                  <a:pt x="5949" y="2014"/>
                  <a:pt x="5865" y="2246"/>
                  <a:pt x="5928" y="2158"/>
                </a:cubicBezTo>
                <a:cubicBezTo>
                  <a:pt x="5936" y="2141"/>
                  <a:pt x="5945" y="2125"/>
                  <a:pt x="5953" y="2108"/>
                </a:cubicBezTo>
              </a:path>
              <a:path w="5309" h="2457">
                <a:moveTo>
                  <a:pt x="6201" y="1786"/>
                </a:moveTo>
                <a:cubicBezTo>
                  <a:pt x="6173" y="1877"/>
                  <a:pt x="6152" y="1917"/>
                  <a:pt x="6152" y="2009"/>
                </a:cubicBezTo>
                <a:cubicBezTo>
                  <a:pt x="6152" y="2091"/>
                  <a:pt x="6138" y="2125"/>
                  <a:pt x="6152" y="22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232080"/>
            <a:ext cx="2143080" cy="662040"/>
          </a:xfrm>
          <a:custGeom>
            <a:avLst/>
            <a:gdLst/>
            <a:ahLst/>
            <a:rect l="l" t="t" r="r" b="b"/>
            <a:pathLst>
              <a:path w="5954" h="1837">
                <a:moveTo>
                  <a:pt x="546" y="9178"/>
                </a:moveTo>
                <a:cubicBezTo>
                  <a:pt x="571" y="9252"/>
                  <a:pt x="588" y="9345"/>
                  <a:pt x="571" y="9426"/>
                </a:cubicBezTo>
                <a:cubicBezTo>
                  <a:pt x="553" y="9513"/>
                  <a:pt x="530" y="9620"/>
                  <a:pt x="496" y="9699"/>
                </a:cubicBezTo>
                <a:cubicBezTo>
                  <a:pt x="477" y="9744"/>
                  <a:pt x="454" y="9765"/>
                  <a:pt x="422" y="9798"/>
                </a:cubicBezTo>
                <a:cubicBezTo>
                  <a:pt x="453" y="9814"/>
                  <a:pt x="536" y="9815"/>
                  <a:pt x="595" y="9823"/>
                </a:cubicBezTo>
                <a:cubicBezTo>
                  <a:pt x="667" y="9833"/>
                  <a:pt x="725" y="9887"/>
                  <a:pt x="794" y="9897"/>
                </a:cubicBezTo>
                <a:cubicBezTo>
                  <a:pt x="908" y="9913"/>
                  <a:pt x="944" y="9871"/>
                  <a:pt x="1017" y="9798"/>
                </a:cubicBezTo>
              </a:path>
              <a:path w="5954" h="1837">
                <a:moveTo>
                  <a:pt x="1042" y="9128"/>
                </a:moveTo>
                <a:cubicBezTo>
                  <a:pt x="1042" y="9220"/>
                  <a:pt x="1031" y="9311"/>
                  <a:pt x="1017" y="9401"/>
                </a:cubicBezTo>
                <a:cubicBezTo>
                  <a:pt x="992" y="9566"/>
                  <a:pt x="971" y="9730"/>
                  <a:pt x="967" y="9897"/>
                </a:cubicBezTo>
                <a:cubicBezTo>
                  <a:pt x="962" y="10079"/>
                  <a:pt x="967" y="10261"/>
                  <a:pt x="967" y="10443"/>
                </a:cubicBezTo>
              </a:path>
              <a:path w="5954" h="1837">
                <a:moveTo>
                  <a:pt x="1290" y="9401"/>
                </a:moveTo>
                <a:cubicBezTo>
                  <a:pt x="1387" y="9339"/>
                  <a:pt x="1424" y="9327"/>
                  <a:pt x="1538" y="9327"/>
                </a:cubicBezTo>
                <a:cubicBezTo>
                  <a:pt x="1648" y="9327"/>
                  <a:pt x="1752" y="9334"/>
                  <a:pt x="1860" y="9302"/>
                </a:cubicBezTo>
                <a:cubicBezTo>
                  <a:pt x="1877" y="9294"/>
                  <a:pt x="1893" y="9285"/>
                  <a:pt x="1910" y="9277"/>
                </a:cubicBezTo>
              </a:path>
              <a:path w="5954" h="1837">
                <a:moveTo>
                  <a:pt x="1389" y="9401"/>
                </a:moveTo>
                <a:cubicBezTo>
                  <a:pt x="1284" y="9514"/>
                  <a:pt x="1293" y="9534"/>
                  <a:pt x="1240" y="9649"/>
                </a:cubicBezTo>
                <a:cubicBezTo>
                  <a:pt x="1210" y="9679"/>
                  <a:pt x="1205" y="9693"/>
                  <a:pt x="1240" y="9723"/>
                </a:cubicBezTo>
                <a:cubicBezTo>
                  <a:pt x="1300" y="9747"/>
                  <a:pt x="1346" y="9708"/>
                  <a:pt x="1414" y="9674"/>
                </a:cubicBezTo>
                <a:cubicBezTo>
                  <a:pt x="1476" y="9643"/>
                  <a:pt x="1551" y="9630"/>
                  <a:pt x="1612" y="9674"/>
                </a:cubicBezTo>
                <a:cubicBezTo>
                  <a:pt x="1691" y="9731"/>
                  <a:pt x="1758" y="9787"/>
                  <a:pt x="1811" y="9872"/>
                </a:cubicBezTo>
                <a:cubicBezTo>
                  <a:pt x="1855" y="9942"/>
                  <a:pt x="1898" y="10063"/>
                  <a:pt x="1910" y="10145"/>
                </a:cubicBezTo>
                <a:cubicBezTo>
                  <a:pt x="1922" y="10227"/>
                  <a:pt x="1885" y="10371"/>
                  <a:pt x="1811" y="10418"/>
                </a:cubicBezTo>
                <a:cubicBezTo>
                  <a:pt x="1735" y="10466"/>
                  <a:pt x="1625" y="10489"/>
                  <a:pt x="1538" y="10492"/>
                </a:cubicBezTo>
                <a:cubicBezTo>
                  <a:pt x="1446" y="10495"/>
                  <a:pt x="1374" y="10457"/>
                  <a:pt x="1290" y="10443"/>
                </a:cubicBezTo>
                <a:cubicBezTo>
                  <a:pt x="1212" y="10430"/>
                  <a:pt x="1202" y="10407"/>
                  <a:pt x="1141" y="10368"/>
                </a:cubicBezTo>
                <a:cubicBezTo>
                  <a:pt x="1124" y="10360"/>
                  <a:pt x="1108" y="10352"/>
                  <a:pt x="1091" y="10344"/>
                </a:cubicBezTo>
              </a:path>
              <a:path w="5954" h="1837">
                <a:moveTo>
                  <a:pt x="2307" y="9079"/>
                </a:moveTo>
                <a:cubicBezTo>
                  <a:pt x="2291" y="9137"/>
                  <a:pt x="2258" y="9240"/>
                  <a:pt x="2282" y="9302"/>
                </a:cubicBezTo>
                <a:cubicBezTo>
                  <a:pt x="2312" y="9379"/>
                  <a:pt x="2407" y="9330"/>
                  <a:pt x="2456" y="9302"/>
                </a:cubicBezTo>
                <a:cubicBezTo>
                  <a:pt x="2485" y="9285"/>
                  <a:pt x="2547" y="9186"/>
                  <a:pt x="2555" y="9153"/>
                </a:cubicBezTo>
                <a:cubicBezTo>
                  <a:pt x="2578" y="9054"/>
                  <a:pt x="2483" y="9012"/>
                  <a:pt x="2406" y="9004"/>
                </a:cubicBezTo>
                <a:cubicBezTo>
                  <a:pt x="2350" y="8998"/>
                  <a:pt x="2325" y="9003"/>
                  <a:pt x="2282" y="9029"/>
                </a:cubicBezTo>
              </a:path>
              <a:path w="5954" h="1837">
                <a:moveTo>
                  <a:pt x="2753" y="9575"/>
                </a:moveTo>
                <a:cubicBezTo>
                  <a:pt x="2794" y="9534"/>
                  <a:pt x="2842" y="9465"/>
                  <a:pt x="2902" y="9451"/>
                </a:cubicBezTo>
                <a:cubicBezTo>
                  <a:pt x="2989" y="9431"/>
                  <a:pt x="3022" y="9431"/>
                  <a:pt x="3101" y="9475"/>
                </a:cubicBezTo>
                <a:cubicBezTo>
                  <a:pt x="3166" y="9511"/>
                  <a:pt x="3172" y="9583"/>
                  <a:pt x="3125" y="9649"/>
                </a:cubicBezTo>
                <a:cubicBezTo>
                  <a:pt x="3070" y="9726"/>
                  <a:pt x="2984" y="9780"/>
                  <a:pt x="2902" y="9823"/>
                </a:cubicBezTo>
                <a:cubicBezTo>
                  <a:pt x="2853" y="9849"/>
                  <a:pt x="2803" y="9872"/>
                  <a:pt x="2753" y="9897"/>
                </a:cubicBezTo>
                <a:cubicBezTo>
                  <a:pt x="2849" y="9897"/>
                  <a:pt x="2939" y="9883"/>
                  <a:pt x="3026" y="9922"/>
                </a:cubicBezTo>
                <a:cubicBezTo>
                  <a:pt x="3112" y="9961"/>
                  <a:pt x="3180" y="9994"/>
                  <a:pt x="3200" y="10096"/>
                </a:cubicBezTo>
                <a:cubicBezTo>
                  <a:pt x="3216" y="10177"/>
                  <a:pt x="3201" y="10325"/>
                  <a:pt x="3150" y="10393"/>
                </a:cubicBezTo>
                <a:cubicBezTo>
                  <a:pt x="3091" y="10471"/>
                  <a:pt x="2977" y="10550"/>
                  <a:pt x="2877" y="10567"/>
                </a:cubicBezTo>
                <a:cubicBezTo>
                  <a:pt x="2795" y="10581"/>
                  <a:pt x="2700" y="10557"/>
                  <a:pt x="2629" y="10517"/>
                </a:cubicBezTo>
                <a:cubicBezTo>
                  <a:pt x="2535" y="10464"/>
                  <a:pt x="2573" y="10435"/>
                  <a:pt x="2580" y="10344"/>
                </a:cubicBezTo>
              </a:path>
              <a:path w="5954" h="1837">
                <a:moveTo>
                  <a:pt x="3597" y="9525"/>
                </a:moveTo>
                <a:cubicBezTo>
                  <a:pt x="3629" y="9689"/>
                  <a:pt x="3599" y="9742"/>
                  <a:pt x="3547" y="9897"/>
                </a:cubicBezTo>
                <a:cubicBezTo>
                  <a:pt x="3512" y="10002"/>
                  <a:pt x="3444" y="10186"/>
                  <a:pt x="3448" y="10294"/>
                </a:cubicBezTo>
                <a:cubicBezTo>
                  <a:pt x="3451" y="10375"/>
                  <a:pt x="3506" y="10470"/>
                  <a:pt x="3572" y="10517"/>
                </a:cubicBezTo>
                <a:cubicBezTo>
                  <a:pt x="3661" y="10580"/>
                  <a:pt x="3770" y="10526"/>
                  <a:pt x="3845" y="10468"/>
                </a:cubicBezTo>
                <a:cubicBezTo>
                  <a:pt x="3944" y="10391"/>
                  <a:pt x="4022" y="10295"/>
                  <a:pt x="4043" y="10170"/>
                </a:cubicBezTo>
                <a:cubicBezTo>
                  <a:pt x="4059" y="10075"/>
                  <a:pt x="4042" y="9967"/>
                  <a:pt x="3944" y="9922"/>
                </a:cubicBezTo>
                <a:cubicBezTo>
                  <a:pt x="3848" y="9878"/>
                  <a:pt x="3747" y="9878"/>
                  <a:pt x="3646" y="9872"/>
                </a:cubicBezTo>
              </a:path>
              <a:path w="5954" h="1837">
                <a:moveTo>
                  <a:pt x="4366" y="9153"/>
                </a:moveTo>
                <a:cubicBezTo>
                  <a:pt x="4396" y="9153"/>
                  <a:pt x="4364" y="9269"/>
                  <a:pt x="4341" y="9351"/>
                </a:cubicBezTo>
                <a:cubicBezTo>
                  <a:pt x="4317" y="9437"/>
                  <a:pt x="4279" y="9518"/>
                  <a:pt x="4242" y="9599"/>
                </a:cubicBezTo>
                <a:cubicBezTo>
                  <a:pt x="4273" y="9546"/>
                  <a:pt x="4275" y="9488"/>
                  <a:pt x="4291" y="9426"/>
                </a:cubicBezTo>
                <a:cubicBezTo>
                  <a:pt x="4303" y="9379"/>
                  <a:pt x="4468" y="9148"/>
                  <a:pt x="4390" y="9277"/>
                </a:cubicBezTo>
                <a:cubicBezTo>
                  <a:pt x="4361" y="9307"/>
                  <a:pt x="4347" y="9319"/>
                  <a:pt x="4316" y="9327"/>
                </a:cubicBezTo>
              </a:path>
              <a:path w="5954" h="1837">
                <a:moveTo>
                  <a:pt x="4837" y="9550"/>
                </a:moveTo>
                <a:cubicBezTo>
                  <a:pt x="4824" y="9664"/>
                  <a:pt x="4827" y="9782"/>
                  <a:pt x="4812" y="9897"/>
                </a:cubicBezTo>
                <a:cubicBezTo>
                  <a:pt x="4795" y="10031"/>
                  <a:pt x="4766" y="10158"/>
                  <a:pt x="4762" y="10294"/>
                </a:cubicBezTo>
                <a:cubicBezTo>
                  <a:pt x="4759" y="10382"/>
                  <a:pt x="4742" y="10458"/>
                  <a:pt x="4738" y="10542"/>
                </a:cubicBezTo>
                <a:cubicBezTo>
                  <a:pt x="4731" y="10677"/>
                  <a:pt x="4805" y="10438"/>
                  <a:pt x="4812" y="10418"/>
                </a:cubicBezTo>
              </a:path>
              <a:path w="5954" h="1837">
                <a:moveTo>
                  <a:pt x="5184" y="9475"/>
                </a:moveTo>
                <a:cubicBezTo>
                  <a:pt x="5332" y="9443"/>
                  <a:pt x="5429" y="9426"/>
                  <a:pt x="5581" y="9426"/>
                </a:cubicBezTo>
                <a:cubicBezTo>
                  <a:pt x="5655" y="9426"/>
                  <a:pt x="5730" y="9426"/>
                  <a:pt x="5804" y="9426"/>
                </a:cubicBezTo>
              </a:path>
              <a:path w="5954" h="1837">
                <a:moveTo>
                  <a:pt x="5358" y="9451"/>
                </a:moveTo>
                <a:cubicBezTo>
                  <a:pt x="5244" y="9593"/>
                  <a:pt x="5259" y="9627"/>
                  <a:pt x="5184" y="9748"/>
                </a:cubicBezTo>
                <a:cubicBezTo>
                  <a:pt x="5149" y="9804"/>
                  <a:pt x="5150" y="9841"/>
                  <a:pt x="5184" y="9897"/>
                </a:cubicBezTo>
                <a:cubicBezTo>
                  <a:pt x="5290" y="9885"/>
                  <a:pt x="5350" y="9870"/>
                  <a:pt x="5457" y="9897"/>
                </a:cubicBezTo>
                <a:cubicBezTo>
                  <a:pt x="5566" y="9925"/>
                  <a:pt x="5664" y="9999"/>
                  <a:pt x="5730" y="10096"/>
                </a:cubicBezTo>
                <a:cubicBezTo>
                  <a:pt x="5782" y="10174"/>
                  <a:pt x="5857" y="10373"/>
                  <a:pt x="5854" y="10468"/>
                </a:cubicBezTo>
                <a:cubicBezTo>
                  <a:pt x="5852" y="10534"/>
                  <a:pt x="5822" y="10617"/>
                  <a:pt x="5779" y="10666"/>
                </a:cubicBezTo>
                <a:cubicBezTo>
                  <a:pt x="5734" y="10717"/>
                  <a:pt x="5671" y="10737"/>
                  <a:pt x="5606" y="10740"/>
                </a:cubicBezTo>
                <a:cubicBezTo>
                  <a:pt x="5532" y="10744"/>
                  <a:pt x="5451" y="10761"/>
                  <a:pt x="5383" y="10790"/>
                </a:cubicBezTo>
                <a:cubicBezTo>
                  <a:pt x="5335" y="10814"/>
                  <a:pt x="5320" y="10822"/>
                  <a:pt x="5283" y="10815"/>
                </a:cubicBezTo>
              </a:path>
              <a:path w="5954" h="1837">
                <a:moveTo>
                  <a:pt x="6201" y="9029"/>
                </a:moveTo>
                <a:cubicBezTo>
                  <a:pt x="6209" y="9012"/>
                  <a:pt x="6218" y="8996"/>
                  <a:pt x="6226" y="8979"/>
                </a:cubicBezTo>
                <a:cubicBezTo>
                  <a:pt x="6246" y="9040"/>
                  <a:pt x="6225" y="9137"/>
                  <a:pt x="6176" y="9203"/>
                </a:cubicBezTo>
                <a:cubicBezTo>
                  <a:pt x="6130" y="9249"/>
                  <a:pt x="6118" y="9263"/>
                  <a:pt x="6077" y="9277"/>
                </a:cubicBezTo>
              </a:path>
              <a:path w="5954" h="1837">
                <a:moveTo>
                  <a:pt x="6375" y="9079"/>
                </a:moveTo>
                <a:cubicBezTo>
                  <a:pt x="6375" y="9163"/>
                  <a:pt x="6391" y="9259"/>
                  <a:pt x="6350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22200" y="4160880"/>
            <a:ext cx="981000" cy="366840"/>
          </a:xfrm>
          <a:custGeom>
            <a:avLst/>
            <a:gdLst/>
            <a:ahLst/>
            <a:rect l="l" t="t" r="r" b="b"/>
            <a:pathLst>
              <a:path w="2729" h="1018">
                <a:moveTo>
                  <a:pt x="1042" y="11559"/>
                </a:moveTo>
                <a:cubicBezTo>
                  <a:pt x="1019" y="11641"/>
                  <a:pt x="997" y="11703"/>
                  <a:pt x="967" y="11782"/>
                </a:cubicBezTo>
                <a:cubicBezTo>
                  <a:pt x="947" y="11834"/>
                  <a:pt x="875" y="11948"/>
                  <a:pt x="893" y="12005"/>
                </a:cubicBezTo>
                <a:cubicBezTo>
                  <a:pt x="908" y="12052"/>
                  <a:pt x="998" y="12113"/>
                  <a:pt x="1042" y="12105"/>
                </a:cubicBezTo>
                <a:cubicBezTo>
                  <a:pt x="1139" y="12087"/>
                  <a:pt x="1216" y="12071"/>
                  <a:pt x="1290" y="12005"/>
                </a:cubicBezTo>
                <a:cubicBezTo>
                  <a:pt x="1306" y="11989"/>
                  <a:pt x="1323" y="11972"/>
                  <a:pt x="1339" y="11956"/>
                </a:cubicBezTo>
              </a:path>
              <a:path w="2729" h="1018">
                <a:moveTo>
                  <a:pt x="1439" y="11609"/>
                </a:moveTo>
                <a:cubicBezTo>
                  <a:pt x="1398" y="11805"/>
                  <a:pt x="1342" y="11966"/>
                  <a:pt x="1290" y="12154"/>
                </a:cubicBezTo>
                <a:cubicBezTo>
                  <a:pt x="1276" y="12205"/>
                  <a:pt x="1203" y="12369"/>
                  <a:pt x="1240" y="12427"/>
                </a:cubicBezTo>
                <a:cubicBezTo>
                  <a:pt x="1248" y="12427"/>
                  <a:pt x="1257" y="12427"/>
                  <a:pt x="1265" y="12427"/>
                </a:cubicBezTo>
              </a:path>
              <a:path w="2729" h="1018">
                <a:moveTo>
                  <a:pt x="1612" y="11683"/>
                </a:moveTo>
                <a:cubicBezTo>
                  <a:pt x="1771" y="11617"/>
                  <a:pt x="1845" y="11584"/>
                  <a:pt x="2009" y="11584"/>
                </a:cubicBezTo>
              </a:path>
              <a:path w="2729" h="1018">
                <a:moveTo>
                  <a:pt x="1612" y="11683"/>
                </a:moveTo>
                <a:cubicBezTo>
                  <a:pt x="1552" y="11783"/>
                  <a:pt x="1439" y="11894"/>
                  <a:pt x="1588" y="11981"/>
                </a:cubicBezTo>
                <a:cubicBezTo>
                  <a:pt x="1676" y="12033"/>
                  <a:pt x="1785" y="12049"/>
                  <a:pt x="1860" y="12129"/>
                </a:cubicBezTo>
                <a:cubicBezTo>
                  <a:pt x="1912" y="12184"/>
                  <a:pt x="1930" y="12291"/>
                  <a:pt x="1885" y="12353"/>
                </a:cubicBezTo>
                <a:cubicBezTo>
                  <a:pt x="1830" y="12429"/>
                  <a:pt x="1748" y="12448"/>
                  <a:pt x="1662" y="12452"/>
                </a:cubicBezTo>
                <a:cubicBezTo>
                  <a:pt x="1584" y="12456"/>
                  <a:pt x="1522" y="12424"/>
                  <a:pt x="1463" y="12378"/>
                </a:cubicBezTo>
              </a:path>
              <a:path w="2729" h="1018">
                <a:moveTo>
                  <a:pt x="1935" y="12378"/>
                </a:moveTo>
                <a:cubicBezTo>
                  <a:pt x="1951" y="12370"/>
                  <a:pt x="1968" y="12361"/>
                  <a:pt x="1984" y="12353"/>
                </a:cubicBezTo>
              </a:path>
              <a:path w="2729" h="1018">
                <a:moveTo>
                  <a:pt x="2555" y="11782"/>
                </a:moveTo>
                <a:cubicBezTo>
                  <a:pt x="2671" y="11708"/>
                  <a:pt x="2735" y="11689"/>
                  <a:pt x="2877" y="11683"/>
                </a:cubicBezTo>
                <a:cubicBezTo>
                  <a:pt x="2935" y="11683"/>
                  <a:pt x="2960" y="11683"/>
                  <a:pt x="3001" y="11683"/>
                </a:cubicBezTo>
              </a:path>
              <a:path w="2729" h="1018">
                <a:moveTo>
                  <a:pt x="2555" y="11782"/>
                </a:moveTo>
                <a:cubicBezTo>
                  <a:pt x="2482" y="11865"/>
                  <a:pt x="2352" y="11950"/>
                  <a:pt x="2480" y="12030"/>
                </a:cubicBezTo>
                <a:cubicBezTo>
                  <a:pt x="2564" y="12083"/>
                  <a:pt x="2667" y="12106"/>
                  <a:pt x="2753" y="12154"/>
                </a:cubicBezTo>
                <a:cubicBezTo>
                  <a:pt x="2834" y="12199"/>
                  <a:pt x="2925" y="12272"/>
                  <a:pt x="2902" y="12378"/>
                </a:cubicBezTo>
                <a:cubicBezTo>
                  <a:pt x="2879" y="12487"/>
                  <a:pt x="2795" y="12519"/>
                  <a:pt x="2704" y="12551"/>
                </a:cubicBezTo>
                <a:cubicBezTo>
                  <a:pt x="2590" y="12591"/>
                  <a:pt x="2467" y="12538"/>
                  <a:pt x="2381" y="12452"/>
                </a:cubicBezTo>
                <a:cubicBezTo>
                  <a:pt x="2356" y="12402"/>
                  <a:pt x="2348" y="12386"/>
                  <a:pt x="2381" y="12353"/>
                </a:cubicBezTo>
              </a:path>
              <a:path w="2729" h="1018">
                <a:moveTo>
                  <a:pt x="3225" y="11956"/>
                </a:moveTo>
                <a:cubicBezTo>
                  <a:pt x="3199" y="12046"/>
                  <a:pt x="3071" y="12301"/>
                  <a:pt x="3076" y="12402"/>
                </a:cubicBezTo>
                <a:cubicBezTo>
                  <a:pt x="3083" y="12543"/>
                  <a:pt x="3264" y="12533"/>
                  <a:pt x="3349" y="12502"/>
                </a:cubicBezTo>
                <a:cubicBezTo>
                  <a:pt x="3462" y="12461"/>
                  <a:pt x="3515" y="12347"/>
                  <a:pt x="3572" y="12254"/>
                </a:cubicBezTo>
                <a:cubicBezTo>
                  <a:pt x="3643" y="12139"/>
                  <a:pt x="3623" y="12037"/>
                  <a:pt x="3522" y="11931"/>
                </a:cubicBezTo>
                <a:cubicBezTo>
                  <a:pt x="3436" y="11841"/>
                  <a:pt x="3341" y="11860"/>
                  <a:pt x="3249" y="11807"/>
                </a:cubicBezTo>
                <a:cubicBezTo>
                  <a:pt x="3241" y="11799"/>
                  <a:pt x="3233" y="11790"/>
                  <a:pt x="3225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To convert from Decimal Degrees to Degrees, Minutes, and Seconds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decimal degree in your calculator, then us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pps (angle), cho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gt;D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Hit enter and it gives you the co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en I was in school we used tables, so this way you aren’t having to use the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Get back tests and go over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When homework is assigned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should check your answers with the back of the text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et a problem wrong, give it a second tr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Optional Assignmen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1"/>
              </a:rPr>
              <a:t>www.students.discoveryeducation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Passcode T766F-418E and your first and las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2"/>
              </a:rPr>
              <a:t>Or just go to this U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3"/>
              </a:rPr>
              <a:t>http://students.discoveryeducation.com/genericStudentIndex.cfm?cdPasscode</a:t>
            </a:r>
            <a:r>
              <a:rPr b="0" lang="en-US" sz="3200" spc="-1" strike="noStrike" u="sng">
                <a:solidFill>
                  <a:srgbClr val="ffdc0b"/>
                </a:solidFill>
                <a:uFillTx/>
                <a:latin typeface="Tahoma"/>
                <a:hlinkClick r:id="rId4"/>
              </a:rPr>
              <a:t>=T766F-418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Page 292</a:t>
            </a:r>
            <a:br>
              <a:rPr sz="8500"/>
            </a:br>
            <a:r>
              <a:rPr b="0" lang="en-US" sz="8500" spc="-1" strike="noStrike">
                <a:solidFill>
                  <a:srgbClr val="ececb2"/>
                </a:solidFill>
                <a:latin typeface="Tahoma"/>
              </a:rPr>
              <a:t>#43-69 odd</a:t>
            </a:r>
            <a:endParaRPr b="0" lang="en-US" sz="85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Test retake policy: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taken within one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n appointment for another period or after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will not be the same one, but will be quite simi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We will now move on to Chapter Four.  You will need your textbooks every day.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cb2"/>
                </a:solidFill>
                <a:latin typeface="Tahoma"/>
              </a:rPr>
              <a:t>Lesson 4.1</a:t>
            </a:r>
            <a:br>
              <a:rPr sz="7200"/>
            </a:br>
            <a:r>
              <a:rPr b="0" lang="en-US" sz="7200" spc="-1" strike="noStrike">
                <a:solidFill>
                  <a:srgbClr val="ececb2"/>
                </a:solidFill>
                <a:latin typeface="Tahoma"/>
              </a:rPr>
              <a:t>part one</a:t>
            </a:r>
            <a:endParaRPr b="0" lang="en-US" sz="72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Trigonometry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study of triangle measures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When measuring angles or parts of triangles, there will now be two units used:  degrees and radians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Radians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One radian is the measure of a central angle </a:t>
            </a:r>
            <a:r>
              <a:rPr b="0" lang="el-GR" sz="45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that intercepts an arc equal in length to the radius of the circ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Radians are normally measured in terms of pi (</a:t>
            </a:r>
            <a:r>
              <a:rPr b="0" lang="en-US" sz="3800" spc="-1" strike="noStrike">
                <a:solidFill>
                  <a:srgbClr val="ececb2"/>
                </a:solidFill>
                <a:latin typeface="Symbol"/>
                <a:ea typeface="Symbol"/>
              </a:rPr>
              <a:t></a:t>
            </a:r>
            <a:r>
              <a:rPr b="0" lang="en-US" sz="3800" spc="-1" strike="noStrike">
                <a:solidFill>
                  <a:srgbClr val="ececb2"/>
                </a:solidFill>
                <a:latin typeface="Tahoma"/>
              </a:rPr>
              <a:t>)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42:34Z</dcterms:created>
  <dc:creator>jnewman</dc:creator>
  <dc:description/>
  <dc:language>en-US</dc:language>
  <cp:lastModifiedBy>abeason</cp:lastModifiedBy>
  <dcterms:modified xsi:type="dcterms:W3CDTF">2008-09-17T17:39:01Z</dcterms:modified>
  <cp:revision>16</cp:revision>
  <dc:subject/>
  <dc:title>Wednesday, September 19th</dc:title>
</cp:coreProperties>
</file>